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A5E-8FD4-4FFA-8308-834E2E0D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ED6-080F-4440-B679-FB80EF8A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D97-F394-42DF-8868-107D66EF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445-1789-4D90-8DD5-5CB026D7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20A-847B-41C8-9844-38D07133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6C0-6DC0-4F42-B209-0DFED339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09F-22D4-43EF-B876-5F38701E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CEC-3068-4604-AB63-F8D6A9D8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7C6-0DDF-4D92-BACC-60FCF3BD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AB2-D1BC-442F-A08C-553F957A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234-4925-4B1C-9072-46B96ACF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02C-CE11-4A3C-A4E8-B5BC4478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85F3-EC4B-4690-8519-6045E93FFD5F}" type="slidenum"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P Multicast Routing Overview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pters 4 - 6 in Textbook&g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ok Joo Koh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C63-E37E-476A-B40E-6DDD40AD435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ministrative Scop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iginally presented to IDMR WG session in 199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oping based on Multicast Address (not TTL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39/8: RFC 2365 (1998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mechanism for well-defined boundari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cy and Address Reuse by multiple domai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id only with a Corporate networ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forwarded beyond the scoped boundar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router must block packets destined for 239/8 from leaving its site (from arriving at the sit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981-8132-4202-A504-0121D479FE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ress for Administrative Scop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ministratively Scoped IP Multicas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39/8 (239.0.0.0 - 239.255.255.255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ommendations in RFC 236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min. “Local” Scope: 239.255.0.0/16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te-Local Scope: 239.253.0.0/16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ganization-Local Scope: 239.192.0.0/1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ly scoped Address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24.0.1.0 - 238.255.255.25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es not depend on TT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verlapping of admin. Scoped domains: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gure 4-4 in tex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age Guidelines for Admin. Boundary: Figure 4-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F55-117D-408B-924C-29A0002590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net Group Management Protoco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ween a router and hosts within Sub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ly interested hosts receive the IP multicast traffic for any given grou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 is the signaling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at end hosts use to signal their group membership interes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bers must tell the routers what groups interest th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 is an integral part of I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ssential to IP multicas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 version 1: RFC 1112 (1988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 version 2 : RFC 2236 (1997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 version 3: Internet Draft (IDMR W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655-1B0D-4506-BADA-99CC3FD0C8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GMPv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Overview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router periodically transmits &lt;Host Membership Query&gt; messages to the hosts in its sub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ver 224.0.0.1, IP TTL =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a host receives IGMP Query, it responds with a &lt;Host Membership Report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each group (G)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 belong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ver the class D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, not 224.0.0.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y send Report(G) over G, not 224.0.0.2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Router can promiscuously receive all multicast IP traffi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ke Router’s job eas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ort Suppression (described later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9BC-1DE8-43C0-9E9C-A12831C55E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GMPv1 Oper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ery &amp; Report(G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6294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70D-BCA7-4525-9D21-E61128E55F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P Header + IGMPv1 Head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"/>
          <p:cNvSpPr/>
          <p:nvPr/>
        </p:nvSpPr>
        <p:spPr>
          <a:xfrm>
            <a:off x="786240" y="4876920"/>
            <a:ext cx="667296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rsion| Type  |    Unused     |           Checksum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  Group Address     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523880"/>
            <a:ext cx="6553440" cy="283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rsion|  IHL  |Type of Service|          Total Length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Identification        |Flags|      Fragment Offset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5050"/>
                </a:solidFill>
                <a:latin typeface="Courier New"/>
              </a:rPr>
              <a:t>Time to Live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Protocol   |         Header Checksum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   Source Address      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Destination Address    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    Options                    |    Padding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0E6-2FE5-44B4-ABA2-BD680E29DE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GMPv1 Messag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v1 Quer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P packet source = Router IP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P packet destination = All hosts (224.0.0.1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P Protocol = 2 (IGM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v1 Version = 1 (0001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v1 Type = 1 (0001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v1 Group address = G (class 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v1 Repor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P packet source = Host IP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P packet destination = G (class 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P Protocol = 2 (IGM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v1 Version = 1 (0001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v1 Type = 2 (0010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v1 Group address = G (class 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04A-702C-448C-962C-62A30E2995E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GMP Report Suppress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ch host responds with Report to Quer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there exist so many hosts for the group,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n Report Explosion 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-timer based Report Suppress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host starts a random &lt;Report delay&gt; tim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fore it sends an IGMP Repor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the timer expires, then it sends the Repor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ny other host sent the Report for the same 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n it resets its timer to a new random valu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random time is ranged by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0, Maximum Response Time]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ually, in units of 1/10 second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F58-D7CB-483F-9843-9A6A959EE0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multicast router is not required to maintain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detailed list of which hosts belong to the 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members are ther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multicast router only needs to know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ther at least one group member is present on a given interfa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multicast router periodically transmits IGMP Query messages to refresh its group inform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no report(G) from any host for a time,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router assumes no membership in the sub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n a host first joins a group,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 does not wait for a Router’ Quer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 immediately transmits a Report(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minimize the Join Latenc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3CB-FDFE-4848-8F52-D01ADEC017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GMPv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v2 along with DVMR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rout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 (version 3.3) source code for MBON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ially, only the source c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FC 2236 (1997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odern IP multicast implementation: IGMPv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ering the Leave Latenc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wo New messages are defin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v2 Leave Grou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v2 Group-Specific Quer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response to Leave Grou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er sends Group-Specific Quer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F54-A977-454F-9FCE-F8FC7D9B39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Traffic Scop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TL-based Scop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ministrative Scop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net Group Management Protoco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v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v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v3: overview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ing Routing and Forward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36E-21FA-417C-9B27-7237A99692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et Format: IGMPv1 &amp; IGMPv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" name=""/>
          <p:cNvSpPr/>
          <p:nvPr/>
        </p:nvSpPr>
        <p:spPr>
          <a:xfrm>
            <a:off x="981720" y="4419720"/>
            <a:ext cx="7435080" cy="1585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|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pe     | Max Resp Time |           Checksum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     Group Address 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2209680"/>
            <a:ext cx="7755120" cy="13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rsion| Type  |    Unused     |           Checksum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     Group Address 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1676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GMP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886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GMP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845-AB1B-479E-A2D0-E3EB586397C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GMPv2 Packet Typ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38080" y="1905120"/>
          <a:ext cx="754380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438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B35-FDB8-44EA-9096-9544BC60DE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ave Latenc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ave Latency is measured between two tim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N’s last group member sends its last Repor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er stops forwarding traffic for that grou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IGMPv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could Router know if there is a member in the subnet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ly way is to wait several Query interval to pass without hearing a Report from any group memb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imum of three Query interval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v2 reduces the Leave Latenc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ave Group (G) by Ho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p-Specific Query (G) by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ort by any other group memb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A3A-7232-46AE-A994-1A1AB6FB6C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GMPv3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MR WG &lt;draft-ietf-idmr-igmp-v3-04.txt&g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v2(G) =&gt; IGMPv3(S,G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port Group-Source Report messag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host can elect to receive traffic only from specific sources sending to a multicast grou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urce Filter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clusion Group-Source Report (G, S*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lusion Group-Source Report (G, S*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authorized sour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necessary multicast traffic (save bandwidth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 with SSM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urce Specific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795-3BC4-4B6B-9664-757E62A5A30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lication of IGMP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action between Router and Hos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in a Sub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p Membership Information for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Multicast Routing Protocols,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e do not need to consider Individual Host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ers keep Group-Membership in the sub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e have only to concern the interactions between Routers, to build a multicast tre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E95-0A78-4CD7-86A1-7CCF3E1424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Routing &amp; Forward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Routing Protocols (MR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d by multicast routers to discover delivery paths(trees) for forwarding of multicast datagra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Forward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based on information derived from MR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an Input interfa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one or more Output interfa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rminolog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tribution (Delivery) T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stream : toward 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wnstream : From 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DC7-4F74-42AE-BCE7-C77CC37C81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Routing Protocol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VMRP: RFC 1075 (1988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tance Vector Multicast Routing Protoc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SPF: RFC 1585 (1994), RFC 2178 (1997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Extensions to OSP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M-DM: Internet Draf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tocol Independent Multicast - Dense M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BT:RFC 2201 (1997), RFC 2189 (1997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re Based T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M-SM: RFC 2117 (1997), RFC 2362 (1998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ocol Independent Multicast - Sparse Mod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: Simple Multicast, SS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s (for Inter-Domain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-DVMRP, H-PIM, O-CBT, BGMP/MASC, MSDP/M-BGP, .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E1F-ECA1-4581-8F3E-86E818D84EE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ification of MRP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oadcast &amp; Prune (Data-Driven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 Typ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ared Tre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urce-Specific T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in Typ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icit Join (Data-Driven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ume) A router joined all Groups by defaul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licit Jo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licit Join Message and Mechanis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nse Mode vs. Sparse Mod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ra-Domain vs. Inter-Domai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ACC-4F8F-4898-8964-0EDFECE504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roadcast and Prune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d by DVMRP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-Driven (Implicit Join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oadcast (Reverse Path Broadcast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une (if a subnet has no group member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PB(Reverse Path Broadcasting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oding + Reverse Pa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PB(Truncated RPB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PB + Truncate (based on IGM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PM (Reverse Path Multicasting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PB + Prune + Graf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E1B6-D7A7-43B3-BBFB-C88B760AEA1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roadcast and Prune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 Broadcast, Then Prune !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47920" y="2133720"/>
            <a:ext cx="6781320" cy="4117320"/>
            <a:chOff x="1447920" y="2133720"/>
            <a:chExt cx="6781320" cy="4117320"/>
          </a:xfrm>
        </p:grpSpPr>
        <p:sp>
          <p:nvSpPr>
            <p:cNvPr id="127" name=""/>
            <p:cNvSpPr/>
            <p:nvPr/>
          </p:nvSpPr>
          <p:spPr>
            <a:xfrm>
              <a:off x="4038480" y="2514600"/>
              <a:ext cx="38052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29200" y="3809880"/>
              <a:ext cx="38052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7760" y="3809880"/>
              <a:ext cx="380880" cy="457200"/>
            </a:xfrm>
            <a:prstGeom prst="ellipse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2200" y="5105520"/>
              <a:ext cx="38052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5105520"/>
              <a:ext cx="38052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7400" y="5105520"/>
              <a:ext cx="38052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429000" y="2895480"/>
              <a:ext cx="68544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361960" y="4191120"/>
              <a:ext cx="76176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2971800"/>
              <a:ext cx="685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4191120"/>
              <a:ext cx="76176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4267080"/>
              <a:ext cx="76176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4038480"/>
              <a:ext cx="1599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33412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419360" y="4267080"/>
              <a:ext cx="685440" cy="914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95680" y="533412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00600" y="21337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343400" y="2438280"/>
              <a:ext cx="4568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24480" y="419112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une 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9076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52480" y="5638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89548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ent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47920" y="41148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ild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743200" y="3123720"/>
              <a:ext cx="990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133360" y="449532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2514240" y="4419720"/>
              <a:ext cx="121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638320" y="3962160"/>
              <a:ext cx="914040" cy="11430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4495320" y="2666520"/>
              <a:ext cx="914040" cy="11430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057400" y="5562360"/>
              <a:ext cx="151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343400" y="5562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29200" y="2895480"/>
              <a:ext cx="190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une 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879-34DB-49AF-9334-90A74776B1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Traffic Scop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rol the scope of multicast forward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terms of router hop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far the multicast transmission may propagate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wo way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TL based scoping: Being used in MBON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ministrative scop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icit Scoping (?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icitly scoped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nerally reserved multicast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24.0.0.0/24 (within a subne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k-Local” addres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forwarded, regardless of TTL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7B9-D8BD-4174-953C-A408632D18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wo Tree Typ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urce Based Tre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rtest-path tree from Sender to Receiv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-driven: After the data arrived at the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DVMRP, PIM-DM, MOSP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enter Based Tree (Shared Tre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enter (node or router)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re (CBT), Rendezvous Point (PIM-SM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e Center per One Multicast Grou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Router (Source &amp; Receivers) join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Core 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licit Jo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Receiver Router to Core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4D8D-BD4B-4BE8-8B5F-926DAD0E42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rce Based Tre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rtest Path Tree from Source to Receiver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828800" y="2209680"/>
            <a:ext cx="5334120" cy="3812760"/>
            <a:chOff x="1828800" y="2209680"/>
            <a:chExt cx="5334120" cy="3812760"/>
          </a:xfrm>
        </p:grpSpPr>
        <p:sp>
          <p:nvSpPr>
            <p:cNvPr id="162" name=""/>
            <p:cNvSpPr/>
            <p:nvPr/>
          </p:nvSpPr>
          <p:spPr>
            <a:xfrm>
              <a:off x="3886200" y="243828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6920" y="373392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5480" y="3733920"/>
              <a:ext cx="38124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9920" y="50292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62520" y="50292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5120" y="5029200"/>
              <a:ext cx="38088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6360" y="2819520"/>
              <a:ext cx="6858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09320" y="411480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1120" y="2895480"/>
              <a:ext cx="68580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411480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00400" y="419112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22096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5880" y="5562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62520" y="5562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28800" y="5562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169-1EA8-497A-BA44-C627678246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red Tre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rtest Path Tree from Core to Sender and Receiver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38080" y="2133720"/>
            <a:ext cx="7010640" cy="3812400"/>
            <a:chOff x="838080" y="2133720"/>
            <a:chExt cx="7010640" cy="3812400"/>
          </a:xfrm>
        </p:grpSpPr>
        <p:sp>
          <p:nvSpPr>
            <p:cNvPr id="180" name=""/>
            <p:cNvSpPr/>
            <p:nvPr/>
          </p:nvSpPr>
          <p:spPr>
            <a:xfrm>
              <a:off x="4572000" y="2361960"/>
              <a:ext cx="38088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720" y="3657600"/>
              <a:ext cx="38088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3657600"/>
              <a:ext cx="38124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05720" y="4952880"/>
              <a:ext cx="38088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8320" y="4952880"/>
              <a:ext cx="38088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90920" y="4952880"/>
              <a:ext cx="380880" cy="4568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962160" y="2743200"/>
              <a:ext cx="685800" cy="99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895120" y="4038480"/>
              <a:ext cx="76212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43600" y="4038480"/>
              <a:ext cx="76212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86200" y="4114800"/>
              <a:ext cx="76212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62520" y="3886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81480" y="21337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1680" y="548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483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1460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33526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E8B-6C00-4835-8A8A-EC0C0074CC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wo Join Typ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icit Join (or Data Driven)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sume that Routers are member for all Group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sts &lt;=&gt; Router (Subnetwork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ee Configuration after Data arrived at the Router</a:t>
            </a:r>
            <a:r>
              <a:rPr b="0" lang="ko-K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MRP, PIM-DM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licit Join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plicit Join message from Router to Cor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sts &lt;=&gt; Router (Subnetwork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ter &lt;=&gt; Core (Network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ee Configuration from Router to Core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BT, PIM-SM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E) MOSPF = Source Based Tree + non-implicit Jo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E) SSM = Source Based Tree + Explicit Jo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862-1C03-4D43-B496-C375649376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licit Joi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 Drive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066680" y="3200400"/>
            <a:ext cx="6400800" cy="2438280"/>
            <a:chOff x="1066680" y="3200400"/>
            <a:chExt cx="6400800" cy="2438280"/>
          </a:xfrm>
        </p:grpSpPr>
        <p:sp>
          <p:nvSpPr>
            <p:cNvPr id="202" name=""/>
            <p:cNvSpPr/>
            <p:nvPr/>
          </p:nvSpPr>
          <p:spPr>
            <a:xfrm>
              <a:off x="1143000" y="3200400"/>
              <a:ext cx="2057400" cy="243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7920" y="4191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95280" y="3200400"/>
              <a:ext cx="4572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6680" y="4724280"/>
              <a:ext cx="4572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95480" y="4114800"/>
              <a:ext cx="10670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0800" y="4114800"/>
              <a:ext cx="10666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42670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352680" y="35812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200040" y="464832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3400" y="36576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cast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D5C-2D1A-43ED-B96F-2E11A73B55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Joi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st &lt;=&gt; Router &lt;=&gt; Core Rout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4876920"/>
            <a:ext cx="10670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114800"/>
            <a:ext cx="10666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3276720"/>
            <a:ext cx="10670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971800"/>
            <a:ext cx="1752480" cy="1066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4572000"/>
            <a:ext cx="1752480" cy="1066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3200400"/>
            <a:ext cx="3808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4876920"/>
            <a:ext cx="3812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3581280"/>
            <a:ext cx="243828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038480" y="3428640"/>
            <a:ext cx="23623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038480" y="4495680"/>
            <a:ext cx="2362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62520" y="4647960"/>
            <a:ext cx="2438280" cy="533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메시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29718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3429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4800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E0F-242D-4352-98AF-42DBD46B29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Routing Protocol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95360" y="1892160"/>
          <a:ext cx="8165880" cy="420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892160"/>
                    <a:ext cx="816588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CE9-E400-481C-9160-B28290B2C38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sics: Commun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yering Concep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362320"/>
            <a:ext cx="1828800" cy="380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743200"/>
            <a:ext cx="18288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124080"/>
            <a:ext cx="1828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2362320"/>
            <a:ext cx="1828800" cy="380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2743200"/>
            <a:ext cx="18288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3124080"/>
            <a:ext cx="1828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52" idx="2"/>
          </p:cNvCxnSpPr>
          <p:nvPr/>
        </p:nvCxnSpPr>
        <p:spPr>
          <a:xfrm rot="5400000">
            <a:off x="4189320" y="1981800"/>
            <a:ext cx="2160" cy="38106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00400" y="2590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971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876920"/>
            <a:ext cx="83844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4876920"/>
            <a:ext cx="8380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4876920"/>
            <a:ext cx="8380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4876920"/>
            <a:ext cx="32767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5638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AB1-948D-4A4F-8848-FA1ED008BC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P Packet Head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905120"/>
            <a:ext cx="7416720" cy="606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0                   1                   2                   3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rsion|  IHL  |Type of Service|          Total Length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Identification        |Flags|      Fragment Offset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5050"/>
                </a:solidFill>
                <a:latin typeface="Courier New"/>
              </a:rPr>
              <a:t>Time to Live</a:t>
            </a: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Protocol   |         Header Checksum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   Source Address  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Destination Address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                    Options                    |    Padding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54100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FC 791: Interne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B83-C90A-4A7E-8DFB-E571852988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TL-based Scop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TL is decreased by 1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time a router forwards a pack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TL-Threshol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multicast router will only forward a multicast datagram across an interface, if the TTL field in the IP header is greater than the TTL threshol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ventional TTL Scope Control Valu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T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ope Threshol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me Ho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me Subnetwor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me Sit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me Reg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7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ldwi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5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restricted in Scop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21F-83E4-4FC7-8220-44AFC26E61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TL Threshol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interface of a Router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2408400"/>
            <a:ext cx="7086600" cy="3395520"/>
          </a:xfrm>
          <a:prstGeom prst="rect">
            <a:avLst/>
          </a:prstGeom>
          <a:ln cap="sq" w="12600">
            <a:solidFill>
              <a:srgbClr val="ff66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EA0-B85D-4932-9FF6-F232C00FA0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TL Scoped IP Multicast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triction to IP Multicast Packe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TL limits are related to Bandwidth limi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rger TTL: Lower bandwidth stream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5867280" cy="319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305-56DB-444C-8EA9-354BB73E0C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TL-based Multicast Scoping: Limi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pends Only on the TT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Per-Source, Per-Grou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s Sender to know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far away authorized receivers are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 new subnet (receiver) is created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at is one hop further awa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TL purposes (semantically overloaded):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mits the lifetime of a packet,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et confinement due to bandwidth, and .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itable choices of TTL is difficul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 the Edge of the network  or Interna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ranet manager vs. Source User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rs may render the TTL-threshold ineffecti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C70-FA13-4512-B7FD-D2142E2A2B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Seok J. Koh</cp:lastModifiedBy>
  <cp:lastPrinted>1997-02-26T15:00:00Z</cp:lastPrinted>
  <dcterms:modified xsi:type="dcterms:W3CDTF">2000-09-15T00:39:35Z</dcterms:modified>
  <cp:revision>70</cp:revision>
  <dc:subject/>
  <dc:title>Introduction to IP Multicast</dc:title>
</cp:coreProperties>
</file>