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2F5-E639-4CE3-AE39-8807C1E4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F42-3874-45C3-A8A4-EAC388AF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29F-C7DF-41B0-9405-BD5BEED8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555-4DA1-412C-BE77-C99CE6B4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CD8-0154-4A3F-940F-FB651DFF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AA9-FEBA-4C4D-AB39-95867F75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3C1-5A75-4EC5-B12E-9474B150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966-6065-4B8D-BF3C-2BE14EF2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933-7E1B-467C-8506-DD8FFED1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3CA-7665-497A-9E2C-8F8E2078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00E-92EF-4018-A3C2-B9CBCEB9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3950-A00E-41D1-BE49-D7C01A0F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5DC5-6F46-4FD0-887F-1DC536E23836}" type="slidenum">
              <a:rPr b="0" lang="ko-KR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roduction to IP Multicast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hapters 1 - 3 in Textbook&g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ok J. Koh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CF0-A9D8-40FD-B2CC-70EB542CEB0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liable Multicast Transport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iable Deliver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 Recovery by Retransmissions of Lost packet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w and Congestion Control: Data Transmission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CP in unicas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iding Window, ACK &amp; retransmiss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ar Increase &amp; Exponential Back-off: Data Rat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iability Issues in Multicast Transpor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lability in Error Contr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K/NACK implos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gestion Control (for ISP)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T estim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w Receive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urity: Secure Multicast,Key Distribu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0EA-F9BA-4F08-86E8-DAAE25C832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liable Multicast Transport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37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2A8C-787C-47B2-AC84-051A874AB4F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liable Multicast Transport (3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RTF/RMRG(Reliable Multicast Research Group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 many research works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ETF RMT WG: 1999. 3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e Size doesn’t fit all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B(Building Block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gestion Contro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neric Router Assi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ward Error Correction, et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(Protocol Instance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CK:Tree based AC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RM: NACK Oriented Reliable Multi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EC based ALC (Asynchronous Layered Codin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2AF-EA7B-4E5D-84DB-3C0588BF3A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liable Multicast Transport (4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mple: TRACK (Tree based ACK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477120" cy="381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25BB-E3F8-43C6-A9AA-8FA4CD7158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lated IETF Working Group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port Are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MT (Reliable Multicast Transpor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LLOC (Multicast Address Allocation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MUSIC (Multiparty Multimedia Session Control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ting Are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MR (Inter-Domain Multicast Routing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SPF (Multicast Extensions to OSPF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M (Protocol Independent Multicas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DP (Multicast Source Discovery Protocol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GMP (Border Gateway Multicast Protocol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SM (Source Specific Multicas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ions &amp; Management Are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BONED (MBONE Deploymen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9B9-C763-4CD4-B7DD-DD2332A0056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w Trends for IP Multicas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M (Source Specific Multicast) Rout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ra-Domai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th help of IGMP version 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lable and Easy to Deploy: 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pplication-Level Multicast (Application-Relay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cast : from Sender to a Local Are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: Multicast within each Local Are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GM (Small Group Multicast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mall Group: How Many ?, 10 - 50 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P Packet contains the list of Receive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GMP (Border Gateway Multicast Protocol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-Domai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Long-Term Solution: ?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7840-AF7E-47FD-8C9E-C60CCE9BCF5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xonomy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cast: One-to-On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oadcast: One-to-Al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mited broad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net-specific broad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-subnets broad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: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e to Many: Uni-directiona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ny to Many: Bi-directiona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ycast (in IPv6): One to Neares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ighborhood (e.g. Router or DNS) Discover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414-9F19-44F3-8DC5-E3314857315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2666880"/>
            <a:ext cx="38124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396252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396252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52578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52578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52578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742840" y="30481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676520" y="44197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3124080"/>
            <a:ext cx="6858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4343400"/>
            <a:ext cx="7621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4419720"/>
            <a:ext cx="7621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752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3962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50532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4191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191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1CA-8EC9-43CC-B586-99E2D1AEA2E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2666880"/>
            <a:ext cx="38124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396252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396252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52578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52578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52578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42840" y="30481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3124080"/>
            <a:ext cx="6858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1752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3962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50532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4191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4191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DEB-37A4-4B8B-B745-B4293C2EB56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licated Unicas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2666880"/>
            <a:ext cx="38124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396252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396252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52578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52578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52578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42840" y="304812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3124080"/>
            <a:ext cx="6858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1752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3962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50532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4191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4191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90920" y="2971800"/>
            <a:ext cx="761760" cy="99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6576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733920" y="297180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E1E-66B3-4BB8-BFC7-763F4C956E8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net Multicasting Overview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xonomy: Broadcast, Multicast and Unicas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y Multicast ?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addressing Overview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net Broadcast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IP over LAN (Subnet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4CB-1FAF-4FD7-9BB4-51FC882D49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ed for Multicast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fficiency”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oadcast with broadcast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licated Unicast: N uni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twork Layer Multi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oadcas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op between Subnet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oadcast Storm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-interested Hosts: simply receive &amp; discar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ndwidth Waste in the networ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 degradation in the host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792-B5A1-49E2-A331-C6386BD8481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ed for Multicast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licated Unicas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urce must keep track of the network addresses for all receivers (management overhead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tency (gap) across the group: during the N unicast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ffic burden at near sour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work-Layer Multicas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ly one copy per a lin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ly the interested receivers (via IGMP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nders need not know the group membe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9F7C-EB38-4DA8-9103-003D12AC403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ed for Multicast (3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other: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pplication Level Multicast (e.g. PointCas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nder (server) - Relay (dedicated server): Uni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lay - Receivers: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casts,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net-specific broadcast, or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gacy IP mulit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ack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nagement overhead (at Relay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topology between source and Relay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nnot reflect group-membership dynamic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B30-DA69-411F-9EA4-77254F20855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 Level Multicas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467480" cy="40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D46-404E-4A4D-B75B-D503041C238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P Address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A (1/2): 0.0.0.0 - 127.255.255.255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B (1/4): 128.0.0.0 - 191.255.255.255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C (1/8): 192.0.0.0 - 223.255.255.255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 (1/16): 224.0.0.0 - 239.255.255.255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59436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FAF1-9B19-4B12-A374-FE3049640B9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cas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A, B and C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day, all IP-based applications based on Uni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work Mask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twork Number + Host Por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11 --------11) (00 -------00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 Examp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188.12.34: Class B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55.255.0.0/16: Network Mas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 Case of Class A: 255.0.0.0/8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 Case of Class C: 255.255.255/24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E66A-1BD2-43C3-BF2B-6CFB1E276D7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net Mask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ical Subnet mask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 Case of Class B: 168.188.0.0/16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188.1.0/24, .., 168.188.254.0/24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LSM (Variable Length Subnet Masking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2 bits of the Host Portion: Class 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4 bits of the Host Portion: Class B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 bits of the Host Portion: Class 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erarchical Address Allocation within a domai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gregation of Routing Information by Prefix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IPv2 &amp; OSPF: classless intra-domain rou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DR (Classless Inter-Domain Routing): From BGP4+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LSM applied to Inter-domain rou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793-5DF8-4328-A9C3-FA67D916442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roadcast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C Layer Broadcas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net Broadcas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mited Broad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Subnets Broad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net-Specific Broadca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IP over IEEE LA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 Multicast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C Layer Multicast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ping “Class D” to MAC Layer Multicast Address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355-05B6-4B95-BA45-BD1528E039A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C Layer Broadcast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C layer broadcas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nd a packet to all hosts on Subnet at on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e Figure 2-6 in Textbook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oadcast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FF-FF-FF-FF-FF-FF (48 bi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 802 LAN such as Ethernet and FDDI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P-based protocols on MAC-layer broadcast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uting Protocols &amp; IGM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P (Address Resolution Protocol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C layer broadcast (IP header is not used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DA4-F64F-4A89-AF06-F655B7F4FCD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P Subnet Broadcast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mited Broadcast (within a subnet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55.255.255.255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t forwarded off the subnet (within a subne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4495680"/>
            <a:ext cx="3124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4495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4495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358128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4952880"/>
            <a:ext cx="38124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495288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3581280"/>
            <a:ext cx="38124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3124080"/>
            <a:ext cx="54864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295280" y="434340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434340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08624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3276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456-689B-47D0-AA63-9D37DA8D02A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net Multicast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Applicat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e-to-Many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ny-to-Man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ssion (Group) Managemen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Session Announcemen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Address &amp; Port Numb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ssion-specific Inform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uthentication/Securit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ssion Registration/Enrollmen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Routing Protocol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icast Forward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iable Multicast Transpor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-to-end Reliable Delivery of Dat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800-F584-496D-9780-BB5EE2CCE1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P Subnet Broadcast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-Subnets Broadcast (within a domain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twork ID + all 1’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Example) Class B: 190.45.255.255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oadcast Storm: Not recommend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71600" y="3276720"/>
            <a:ext cx="5943600" cy="2743200"/>
            <a:chOff x="1371600" y="3276720"/>
            <a:chExt cx="5943600" cy="2743200"/>
          </a:xfrm>
        </p:grpSpPr>
        <p:sp>
          <p:nvSpPr>
            <p:cNvPr id="177" name=""/>
            <p:cNvSpPr/>
            <p:nvPr/>
          </p:nvSpPr>
          <p:spPr>
            <a:xfrm>
              <a:off x="2286000" y="4496040"/>
              <a:ext cx="144792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57600" y="3581640"/>
              <a:ext cx="144792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05520" y="4496040"/>
              <a:ext cx="144792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14600" y="4724640"/>
              <a:ext cx="9907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34120" y="4724640"/>
              <a:ext cx="9907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86200" y="3810240"/>
              <a:ext cx="9907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4960" y="426744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53240" y="434376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810240" y="495324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1600" y="3276720"/>
              <a:ext cx="5943600" cy="274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10440" y="381024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8D1-8D25-477D-8125-FE5885F17C1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P Subnet Broadcast (3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net-Specific Broadcas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net ID + Host Portion (all 1’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mple) Subnet: 190.45.104.0/22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rd octet: 011001xx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net-specific broadcast:190.45.107.255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rd octet: 011001 + 11 (104 + 3) = 107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an external host to another sub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4800600"/>
            <a:ext cx="1600200" cy="711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5029200"/>
            <a:ext cx="990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4343400"/>
            <a:ext cx="59436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44197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4876920"/>
            <a:ext cx="1600200" cy="711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5029200"/>
            <a:ext cx="762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4952880"/>
            <a:ext cx="990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1800" y="51814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6AFB-5417-43FA-8249-82CBE0A12C5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P Multicast Address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D Addres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24.0.0.0 - 239.255.255.255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erved Addresses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ANA: RFC1700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24.0.0.x/24 (See Textbook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use of routing protocols, other lower-level topology discovery or maintenan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24.0.0.1: All Systems on this Sub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24.0.0.2: All Routers on this Subnet, et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24.0.1.x/24 (See Textbook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ell-known addresses for certain applicat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24.0.1.1: NTP (Network Time Protocol), et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1651-1F73-40A3-91B3-6437875CF0C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P Multicast Address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ther Reserved Address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39/8: RFC 2365 (1998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ministratively Scoped IP Multicasting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thin private networks such as enterprise networks or “Intranets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33/8: RFC 2770 (Feb., 2000)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P (Static Assignment) addressing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onfer) Dynamic Address Alloc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32/8: SSM W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Source Specific Multicast (SSM) Rou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6F7-9A18-4F94-B8FF-ED12D074AF6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TL Scoped IP Multicast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ing TTL-Threshol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trict the lifetime of Multicast Packet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lex to implement (TTL-Threshold measur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reliable: Routing Chang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VMRP: undesirable pruning of tre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47920" y="3505320"/>
            <a:ext cx="5638680" cy="2701800"/>
          </a:xfrm>
          <a:prstGeom prst="rect">
            <a:avLst/>
          </a:prstGeom>
          <a:ln cap="sq" w="12600">
            <a:solidFill>
              <a:srgbClr val="ff66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9FA7-E565-4CB7-91EB-C1F7C3FEA30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ministratively Scoped Multicast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sed on address (Regardless of TTL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ministratively Scoped IP Multicas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39/8 (239.0.0.0 - 239.255.255.255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te-Local Scope: 239.253.0.0/16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ganization-Local Scope: 239.192.0.0/14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bally scoped Address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24.0.1.0 - 238.255.255.255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DA7-E8BE-4AA4-BA30-ABE08139B1D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LOP (Static) Addressing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Allocation and Assignmen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TF MboneD W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FC 2770 (Feb., 2000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P uses Autonomous System (AS) numbe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Octets (Second and Third bytes)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e.g) AS 5662: 233.22.30/24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periments will be reviewed in May 2000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4021560"/>
            <a:ext cx="7736040" cy="201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0 1 2 3 4 5 6 7 8 9 0 1 2 3 4 5 6 7 8 9 0 1 2 3 4 5 6 7 8 9 0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|      233      |           16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its AS          |  local bits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B1F-2765-4B60-AAA1-F5758DC47FB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IP over LANs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EEE 802 MAC Address Format: 48 bi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: Unicast(0)/Multicast(1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C Broadcast address: 0xFF-FF-FF-FF-FF-F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: Universal(0)/Local(1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I: Organizationally-Unique Identifi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th L=0 and M=0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 sells “blocks” of MAC address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nufacturer: Uniquely assigned by Manufactur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4876920"/>
            <a:ext cx="716292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19720" y="4876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33720" y="4876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45720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49528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49528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5562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I (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55627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ufacturer (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45720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720" y="45720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B4E-4812-4261-A687-E62FBD734E3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IP over LANs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w to forward IP (unicast) Packet over a LA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Masking (Network or Extended Network Prefix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. Apply the Mask to the Destination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. Masked Destination Address of a Packet =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our Subnet’s Prefix 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ES: Check the local ARP cache (go to 3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 : Forward the packet to the default Rout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ased on the Configuration or Routing Tabl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. If the destination address is not the ARP cache,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oadcast an “ARP Request” to ask its MAC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 end host replies with “ARP Reply”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. Send the Ethernet Frame to the end ho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y encapsulating the IP pack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016-B99A-4912-92C7-3DDC7684EC5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IP over LANs (3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warding of an IP Packet over LA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k and Match” Procedur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274320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3962520"/>
            <a:ext cx="2971800" cy="16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3505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3505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5120" y="31240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24280" y="312408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514600"/>
            <a:ext cx="11430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fix: 168.188.12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3581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ination Address: 168.188.12.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1"/>
            <a:endCxn id="236" idx="0"/>
          </p:cNvCxnSpPr>
          <p:nvPr/>
        </p:nvCxnSpPr>
        <p:spPr>
          <a:xfrm flipV="1" rot="10800000">
            <a:off x="1523160" y="2704680"/>
            <a:ext cx="610560" cy="876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6781680" y="2971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ault 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1480" y="3505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3962520"/>
            <a:ext cx="22096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P Request &amp; Rep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E93-616E-4B34-B87D-322261D00D3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Applications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e-to-Man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 Dissemin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ftware Upgrade/Simulat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net Broadcas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l-time Financial Data Distribution, et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ny-to-Man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oup Conferenc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teboard applications, et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ther types ?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te Education: with Unicast feedback channel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EC3-7A31-4593-90C9-7B5184444C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IP over LANs (4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Packet Forwarding over LA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GMP(Internet Group Management protocol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uter realizes who is a member in the Sub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a IGMP Query &amp; Report (with Class D addres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662940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494-60B9-4448-9C5B-062FE5930B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IP over LANs (5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MAC Addres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TF’s OUI: 0x00-00-5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 bit = 1: thus, 0x01-00-5E (The first 24 bi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next bit is reserved (always ‘0’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3 bits available for the multicast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ping of Class D to Multicast MAC addres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: the first bits are fixed to be ‘1110’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8 bits : Group Unique Identifi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ke the lowest 23 bits as MAC multicast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914400" y="4876920"/>
            <a:ext cx="7391520" cy="1085040"/>
            <a:chOff x="914400" y="4876920"/>
            <a:chExt cx="7391520" cy="1085040"/>
          </a:xfrm>
        </p:grpSpPr>
        <p:sp>
          <p:nvSpPr>
            <p:cNvPr id="248" name=""/>
            <p:cNvSpPr/>
            <p:nvPr/>
          </p:nvSpPr>
          <p:spPr>
            <a:xfrm>
              <a:off x="914400" y="5181840"/>
              <a:ext cx="71629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95680" y="5181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19720" y="48769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24680" y="48769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24280" y="5181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95680" y="53341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5120" y="52581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01-00-5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29200" y="5258160"/>
              <a:ext cx="281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west 23 bits of Class 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BA8-5F50-4CC9-B31E-857D9C0E4A1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IP over LANs (6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 Examp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 address: 239.147.6.99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x: EF-93-06-6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nary: 1110-1111, 1</a:t>
            </a:r>
            <a:r>
              <a:rPr b="0" lang="en-US" sz="1800" spc="-1" strike="noStrike">
                <a:solidFill>
                  <a:srgbClr val="ff5050"/>
                </a:solidFill>
                <a:latin typeface="Courier New"/>
              </a:rPr>
              <a:t>001-0011,0000-0110, 0110-001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x in MAC: 01-00-5E-13-06-6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oadcast &amp; Multicast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 Broadcast, LAN N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ceiver broadcast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, Selectively receive the multicast packet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23 bits are matched to the Class D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NIC filters those matched multicast frames, which is passed up to the high layer softwar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te) Address Collision Possible 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desired address (collision) will be ignore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79B-12DD-48D0-9FD0-6CA294CE289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Applications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ifications &amp; Characteristics ?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pplication Types, Latency Requirements, Session Duration, Group Size (Scalability), Geographical Scope of the Group, Time-sensitiveness, et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 Example of Classific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3352680"/>
            <a:ext cx="6248520" cy="246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450-7F50-4BD3-9769-6BBBE243BA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ssion Managemen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ssion Cre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DP(Session Description Protocol):RFC 2327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ssion-Specific Inform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ssion Announcemen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P(Session Announcement Protocol): Draf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</a:rPr>
              <a:t>224.2.127.254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 224.2.128 (SAPv1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P(Session Initiation Protocol): RFC254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TP: Web Pag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MTP: E-mai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ssion Registr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uthentication/Securit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siness Perspective: Billing &amp; Charg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pplication-Specific or general Group Management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077-050A-4269-B29D-95161064A0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Routing &amp; Forwarding (1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cast Tree Construc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ing Sender(s) to Receive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th help of Multicast Routing Protocol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twork Layer Tree (Between Router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 Input Interface for a Grou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Interfaces for a grou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a Forwarding Pa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4724280"/>
            <a:ext cx="380880" cy="457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50292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4800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5334120"/>
            <a:ext cx="38124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10280" y="4114800"/>
            <a:ext cx="38124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4800600"/>
            <a:ext cx="380880" cy="457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51055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943600" y="441972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50292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712-C906-4E39-8398-E8CC134BF8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Routing &amp; Forwarding (2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istory in terms of RFC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 address: 1985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ve Deering (Stanford) Ph. D thesi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FC 966 (1985), RFC 988 (1986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FC 1112 (1988): IGMPv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st Extensions for IP Multicas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VMRP: RFC 1075 (1988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SPF: RFC 1585 (1994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BT: RFC 2189 &amp; RFC 2201 (1997)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MPv2: RFC 2236 (1997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M-SM: RFC 2362 (1998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Othe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853-77FC-4B84-B2DF-66EE9B670B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lticast Routing &amp; Forwarding (3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verview of Multicast Routing Architectur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782040" cy="380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 Multica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210-9DFC-4C26-8431-24D9E6C1CD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/09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/>
  <dc:description/>
  <dc:language>en-US</dc:language>
  <cp:lastModifiedBy>Seok J. Koh</cp:lastModifiedBy>
  <cp:lastPrinted>1997-02-26T15:00:00Z</cp:lastPrinted>
  <dcterms:modified xsi:type="dcterms:W3CDTF">2000-08-31T08:22:24Z</dcterms:modified>
  <cp:revision>34</cp:revision>
  <dc:subject/>
  <dc:title>Introduction to IP Multicast</dc:title>
</cp:coreProperties>
</file>