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17A-F5C2-47F7-821A-1790A386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592-395E-4141-80BC-FF3C3D0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644-9E78-47A9-BA98-B92E17DD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1E2-912A-484E-8782-5941E2C2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A57-DA7B-415C-8ED9-84CAAA66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21D-21F2-490A-ABC0-56E96A5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93B-66DB-4D67-9262-983454D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AD6-25C6-420E-B996-0808DD9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FF7-7363-4A9E-AE24-A9CC7AF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94C-FC75-4575-82A3-CBB2DCD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DAC-2FAB-4A6A-875B-1BA08A0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2EC-62A6-41D4-8F0D-6BF94FE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812-1B71-46AA-99FA-51B0C92040F5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 Sparse Mod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oo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CF5-3E92-4F87-B8A3-0BDE3F78DF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tstrap message by BS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SR creates the RP-Se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d on the C-RP-Adv messag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-Set contain the information for each C-RP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address of the C-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Prefixes (with Group Mask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-Time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SR broadcasts Bootstrap message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luding the RP-Set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E78-AECC-431E-A687-AF8A1A762F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 Function by Rout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 (CBT &amp; PIM) Rout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 RP-Set information by Bootstrap messag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re and Updates th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n a Group(G) Join indicated by IGM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the Hash Func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the Cores with the same Group Prefix (G&amp;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sh Function: Value = f(G, M, C(i)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= Requested Grou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= Group Mas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(i) = IP address of Co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the Cores with Same group Prefi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the highest Hash Value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8B-DCB2-495E-827B-9DEF5BBC1F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 Func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 a Group address to a unique Core(R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 = {1103515245 * ([1103515245 * (G&amp;M) + 12345] XOR C(i)) + 12345 } mod 2^3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i = 1, 2, ..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d on only IP addresses (Core and Grou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Group membership Distribution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tree cost &amp; Del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Prefix of Candidate Cores must be set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cover all the group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FC7-FA2E-4692-8172-723C905A21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New Group by IGMP Report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Router detects a New Group by IGMP Re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e Selection for the Grou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Router runs the Hash Fun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IN-REQUEST from Router to Co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send JOIN-REQUEST message Toward Co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ivered by Unicast Routing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p-by-Hop fash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til active CBT branch is reach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ing Table: transient Join Stat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in-ACK from a on-tree router to the Rout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ing Table: Active Stat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564-79DD-4439-819A-82E6960756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Join mechani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981080" y="1905120"/>
            <a:ext cx="5334120" cy="3583800"/>
            <a:chOff x="1981080" y="1905120"/>
            <a:chExt cx="5334120" cy="3583800"/>
          </a:xfrm>
        </p:grpSpPr>
        <p:sp>
          <p:nvSpPr>
            <p:cNvPr id="268" name=""/>
            <p:cNvSpPr/>
            <p:nvPr/>
          </p:nvSpPr>
          <p:spPr>
            <a:xfrm>
              <a:off x="4419360" y="190512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32004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32004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3080" y="44956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5680" y="44956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8280" y="44956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7760" y="2362320"/>
              <a:ext cx="4572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743200" y="358128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76560" y="2209680"/>
              <a:ext cx="685800" cy="83844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67280" y="35053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33560" y="36576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1080" y="2133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940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9568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196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1905120"/>
              <a:ext cx="38088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21337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647600" y="2438280"/>
              <a:ext cx="685800" cy="91440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5714640" y="3733920"/>
              <a:ext cx="685800" cy="83808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20574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 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AAB-AA3C-4B91-B90F-206D1D433F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Forwarding Cache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stablished by CBT Join-Request &amp; Join-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warding Cache Form : (*, 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roup, {outgoing interface list}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 data (G) to all the 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 the incoming interf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-directional Forwar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(without Source fiel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tunneling from sender to cor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f. PIM-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f. Non-member Sending in CB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DD7-C920-4D0D-AA03-7370778C07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Maintenance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maintain the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-REQUEST: from child to parent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-REPLY: from parent to child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n a upstream link or router fai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USH-TREE message on the downstream 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onstruction of tree by each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ch has one or more attached member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3BC-63C4-41A4-B3CA-928FF83595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Echo Protoco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19051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20040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32004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36232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42840" y="35812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2096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50532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36576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05120"/>
            <a:ext cx="380880" cy="4572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1337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647960" y="2438280"/>
            <a:ext cx="685800" cy="914400"/>
          </a:xfrm>
          <a:prstGeom prst="line">
            <a:avLst/>
          </a:prstGeom>
          <a:ln w="38160">
            <a:solidFill>
              <a:srgbClr val="ff505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714640" y="3733920"/>
            <a:ext cx="762120" cy="914400"/>
          </a:xfrm>
          <a:prstGeom prst="line">
            <a:avLst/>
          </a:prstGeom>
          <a:ln w="38160">
            <a:solidFill>
              <a:srgbClr val="ff505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ho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2057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ho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24280" y="228600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35812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450-F0E9-43DC-93EE-A62C16BE4B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Flush Tre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19051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20040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2004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4495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2362320"/>
            <a:ext cx="4572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742840" y="35812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22096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50532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36576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94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1905120"/>
            <a:ext cx="380880" cy="4572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21337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2057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sh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2286000"/>
            <a:ext cx="762120" cy="990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3581280"/>
            <a:ext cx="914400" cy="99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657240" y="1981080"/>
            <a:ext cx="15228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1981080"/>
            <a:ext cx="304920" cy="304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3429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373392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4038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6CC-5B62-4E1D-848D-139D864732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: Non-member Send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nder-Only Us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-in-IP tunnel to Core from the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358128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3581280"/>
            <a:ext cx="381240" cy="4572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48769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48769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289548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666520" y="396252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4038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199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251460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38098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32004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cast IP-in-IP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9F5-283F-4E67-AD33-115F230E26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e Based Tree (CB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Independent Multicast - Sparse Mod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mple Multicast (SM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-Specific Multicast (SSM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-based Multicast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0A9-1948-4A7C-B247-D28D41B725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Over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 Selection by Hash Fun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New Group State by IGM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-based Shared Tree (RP-Tree) Constru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 Join from Router to 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directional RP-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Register message of Source (Tunnel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capsulation of Source Data to 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Register-Stop (native forward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T(Shortest Path Tree) from RP to Source(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rtest Path Tree (SPT) Switch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 from RP-Tree to SPT for 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high data-rate source (low dela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Receiver’s Router initiates SPT construc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6D3-BA1E-46A9-8A29-EC1F63A211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RPT (RP-Tree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447920" y="1752480"/>
            <a:ext cx="5866920" cy="3584160"/>
            <a:chOff x="1447920" y="1752480"/>
            <a:chExt cx="5866920" cy="3584160"/>
          </a:xfrm>
        </p:grpSpPr>
        <p:sp>
          <p:nvSpPr>
            <p:cNvPr id="364" name=""/>
            <p:cNvSpPr/>
            <p:nvPr/>
          </p:nvSpPr>
          <p:spPr>
            <a:xfrm>
              <a:off x="6095880" y="3505320"/>
              <a:ext cx="38052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23880" y="350532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48006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71800" y="37339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904760" y="373392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360" y="3505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0400" y="17524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3760" y="4876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792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6200" y="1981080"/>
              <a:ext cx="380520" cy="457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0560" y="35053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6200" y="350532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7080" y="3733920"/>
              <a:ext cx="182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248160" y="3962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7080" y="2286000"/>
              <a:ext cx="182844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2209680"/>
              <a:ext cx="18284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M-Regi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ncapsul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71800" y="411480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M Join (*,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6BD-20AA-41C4-BDF6-347083F9FF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Forwarding on RPT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657600"/>
            <a:ext cx="381240" cy="4572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3880" y="365760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495288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1800" y="3886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904760" y="3886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657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3657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3886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48520" y="4114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2438280"/>
            <a:ext cx="18288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2362320"/>
            <a:ext cx="1828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M-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ncaps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42A-C514-4623-BC23-AD94369D44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1447920" y="1905120"/>
            <a:ext cx="6705360" cy="3583800"/>
            <a:chOff x="1447920" y="1905120"/>
            <a:chExt cx="6705360" cy="3583800"/>
          </a:xfrm>
        </p:grpSpPr>
        <p:sp>
          <p:nvSpPr>
            <p:cNvPr id="399" name=""/>
            <p:cNvSpPr/>
            <p:nvPr/>
          </p:nvSpPr>
          <p:spPr>
            <a:xfrm>
              <a:off x="6095880" y="3657600"/>
              <a:ext cx="38124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23880" y="365760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49528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904760" y="3886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05720" y="3657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0400" y="1905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412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4792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133720"/>
              <a:ext cx="380880" cy="457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0920" y="36576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86200" y="36576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7080" y="38862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248520" y="41148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3623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,G) Jo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57800" y="23623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38680" y="2743200"/>
              <a:ext cx="53352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7080" y="2438280"/>
              <a:ext cx="990720" cy="152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4190760" y="2514240"/>
              <a:ext cx="1904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PIM-Register-Stop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968-A843-4504-A106-5ACF0A5BA2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PIM-Register-Stop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capsulation/De-capsulation Overhead at 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SPT from Source to R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per sourc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7920" y="2514600"/>
            <a:ext cx="6705360" cy="3583800"/>
            <a:chOff x="1447920" y="2514600"/>
            <a:chExt cx="6705360" cy="3583800"/>
          </a:xfrm>
        </p:grpSpPr>
        <p:sp>
          <p:nvSpPr>
            <p:cNvPr id="422" name=""/>
            <p:cNvSpPr/>
            <p:nvPr/>
          </p:nvSpPr>
          <p:spPr>
            <a:xfrm>
              <a:off x="6095880" y="4267080"/>
              <a:ext cx="38124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23880" y="42670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920" y="55627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71800" y="4495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57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040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3412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4792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86200" y="2743200"/>
              <a:ext cx="380880" cy="457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42670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6200" y="42670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67080" y="44956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248520" y="47239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2971800"/>
              <a:ext cx="2286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ve Forwar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S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57800" y="29718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38680" y="3352680"/>
              <a:ext cx="5335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7080" y="304812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4267080" y="3200040"/>
              <a:ext cx="182880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373392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M-Register-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D14-41D8-4D2E-93E3-170872B989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SPT Construc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Lower Delay: Optional (?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high data rate (Data Rate Threshol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371600" y="2514600"/>
            <a:ext cx="5943600" cy="3505320"/>
            <a:chOff x="1371600" y="2514600"/>
            <a:chExt cx="5943600" cy="3505320"/>
          </a:xfrm>
        </p:grpSpPr>
        <p:sp>
          <p:nvSpPr>
            <p:cNvPr id="445" name=""/>
            <p:cNvSpPr/>
            <p:nvPr/>
          </p:nvSpPr>
          <p:spPr>
            <a:xfrm>
              <a:off x="6095880" y="4267080"/>
              <a:ext cx="38124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3880" y="42670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19920" y="55627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71800" y="4495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057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3412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71600" y="3733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,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86200" y="2743200"/>
              <a:ext cx="380880" cy="457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90920" y="42670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42670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67080" y="44956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6248520" y="47239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57800" y="29718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38680" y="3352680"/>
              <a:ext cx="5335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67080" y="304812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86000" y="48006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,G) Jo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81080" y="4648320"/>
              <a:ext cx="609840" cy="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8120" y="4648320"/>
              <a:ext cx="761760" cy="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038480" y="3276720"/>
              <a:ext cx="0" cy="91440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878-47B5-45B9-AC9C-2F754ADC6B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SM: Forwarding on SP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Lower Delay: Optional (?)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high data rate (Data Rate Threshol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ted by the Receiver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371600" y="2666880"/>
            <a:ext cx="5943600" cy="3505320"/>
            <a:chOff x="1371600" y="2666880"/>
            <a:chExt cx="5943600" cy="3505320"/>
          </a:xfrm>
        </p:grpSpPr>
        <p:sp>
          <p:nvSpPr>
            <p:cNvPr id="469" name=""/>
            <p:cNvSpPr/>
            <p:nvPr/>
          </p:nvSpPr>
          <p:spPr>
            <a:xfrm>
              <a:off x="6095880" y="4419360"/>
              <a:ext cx="38124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23880" y="441936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920" y="57150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71800" y="4647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904760" y="46479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05720" y="4419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00400" y="2666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712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716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,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86200" y="2895480"/>
              <a:ext cx="380880" cy="4572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0920" y="441936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86200" y="441936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647960"/>
              <a:ext cx="1828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248520" y="487620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57800" y="31240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38680" y="3504960"/>
              <a:ext cx="5335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67080" y="320040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1120" y="4952880"/>
              <a:ext cx="1752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,G) Prune 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,G,rp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43400" y="4800600"/>
              <a:ext cx="1752480" cy="0"/>
            </a:xfrm>
            <a:prstGeom prst="line">
              <a:avLst/>
            </a:prstGeom>
            <a:ln w="93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335268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48A-8E48-4B67-94C5-C057C87A5E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mple Mult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milar to CB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perlman-simple-multicast-03.txt (1999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99, IETF March Mee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A multicast group is identified by (Core, 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group = IP address of Core + Grou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 address is not unique in the Inter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 Group addresses used by a Cor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burden for Multicast address allo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AA (MALLOC W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re,G) Join: from end host to Cor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_Request &amp; Join_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-directional tree like CB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157-DA58-4C57-B876-A7179B5038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mple Multicast: Header Structur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header + SM header (Core, Grou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5800" y="2133720"/>
          <a:ext cx="7696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696080" cy="3886200"/>
                  </a:xfrm>
                  <a:prstGeom prst="rect">
                    <a:avLst/>
                  </a:prstGeom>
                  <a:ln cap="sq" w="1260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341-D4EC-4A57-B625-8BA1ADFD85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mple Multicast: Analys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Bootstrap of CB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“Multicast Address Allocation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cer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Packet Format (for data transmissio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ource, Group, Core)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itional SM hea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IP address of Core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sting: (Source, Destination = Class 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5F0-A22F-4942-9371-37605E77AF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1: Query &amp; Report(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2: Lower Leave Latenc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ave Group(G) &amp; Group-Specific Query(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3 (S,G): Source Filter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6294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1AC-F25B-4293-B351-828EFEDAAB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rce Specific Mult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M Histo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RESS multicast:SIGCOMM’9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et Drafts (March,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 overview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holbrook-ssm-00.tx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 at Cisc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sandick-pimsm-ssmrules-00.tx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 at Nortel: draft-bhaskar-pim-ss-00.txt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loyment at Spri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ft-bhattach-diot-pimso-00.tx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Channel: 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: Unicast address of Sourc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: Class D Grou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 is favored by ISPs (Scott Bradn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A34-E39A-4A90-8F7A-D258B351B7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SM: Motiv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tiv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SM: real SPT threshold (data rate) = “0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t of multicast applications are one-to-man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 wants tight control and management in 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sy traffic control of multicast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ffective billing and Management by (S,G) st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B85-27F8-43C3-B3EC-41D8354F2B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SM: Mechani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milar to 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in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not 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r =&gt; Router: IGMPv3 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=&gt; Source: SSM Join 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752480" y="3581280"/>
            <a:ext cx="5486040" cy="2362320"/>
            <a:chOff x="1752480" y="3581280"/>
            <a:chExt cx="5486040" cy="2362320"/>
          </a:xfrm>
        </p:grpSpPr>
        <p:sp>
          <p:nvSpPr>
            <p:cNvPr id="504" name=""/>
            <p:cNvSpPr/>
            <p:nvPr/>
          </p:nvSpPr>
          <p:spPr>
            <a:xfrm>
              <a:off x="1924920" y="4114800"/>
              <a:ext cx="1863000" cy="1828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1040" y="4857840"/>
              <a:ext cx="131076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62800" y="4114800"/>
              <a:ext cx="414000" cy="337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5800" y="5257800"/>
              <a:ext cx="414000" cy="337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12160" y="4800600"/>
              <a:ext cx="965520" cy="307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03160" y="4800600"/>
              <a:ext cx="966240" cy="307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22840" y="4419720"/>
              <a:ext cx="341568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SM Join(S,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443480" y="4952880"/>
              <a:ext cx="1759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52480" y="3581280"/>
              <a:ext cx="23806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GMPv3(S,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6C8-ED98-461D-95B5-76A6644504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SM: Featur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y Simple to implement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nag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Channel: 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: Unicast address of Sourc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: Class D Grou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(G)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2/8 (232.0.0.0 - 232.255.255.255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IGMPv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IGMP(S,G) query &amp; report (SSM &amp; PIM-S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Forwarding Cache at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by (S,G) st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Source IP addres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ff505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Must be known to Receiver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E11-8DB5-41E0-A889-0BDA5D5DA0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SM: Examp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371600" y="1828800"/>
            <a:ext cx="6019920" cy="4117320"/>
            <a:chOff x="1371600" y="1828800"/>
            <a:chExt cx="6019920" cy="4117320"/>
          </a:xfrm>
        </p:grpSpPr>
        <p:sp>
          <p:nvSpPr>
            <p:cNvPr id="517" name=""/>
            <p:cNvSpPr/>
            <p:nvPr/>
          </p:nvSpPr>
          <p:spPr>
            <a:xfrm>
              <a:off x="4496040" y="23623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6400" y="365760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05320" y="36576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9400" y="49528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0" y="49528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14600" y="49528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819160" y="40384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76920" y="274320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67640" y="4038480"/>
              <a:ext cx="8380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10240" y="411480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67440" y="1828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2000" y="5486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3864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886200" y="274320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724280" y="2895480"/>
              <a:ext cx="685800" cy="91440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5790960" y="4191120"/>
              <a:ext cx="685800" cy="83808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3886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 (S,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67240" y="3962520"/>
              <a:ext cx="761760" cy="91440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810240" y="2743200"/>
              <a:ext cx="609480" cy="838080"/>
            </a:xfrm>
            <a:prstGeom prst="line">
              <a:avLst/>
            </a:prstGeom>
            <a:ln w="38160">
              <a:solidFill>
                <a:srgbClr val="ff5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AC4-700C-46FD-B713-C4CF4CBEF16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SM: Analysi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to Source: like CBT, PIM-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o Bootstrap mechanism (RP broadcast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ing unicast routing table: by Join(S,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o multicast routing table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DVMRP, MOSPF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mple multicast address allocation (No MAA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is not necessary to be “unique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ke Simp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Core us used : No SM head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cerns (?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support of shared tree (real concern 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270-46C7-4C92-9044-D3FEDB7128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85800" y="1600200"/>
            <a:ext cx="7772400" cy="4572000"/>
            <a:chOff x="685800" y="1600200"/>
            <a:chExt cx="7772400" cy="4572000"/>
          </a:xfrm>
        </p:grpSpPr>
        <p:sp>
          <p:nvSpPr>
            <p:cNvPr id="541" name=""/>
            <p:cNvSpPr/>
            <p:nvPr/>
          </p:nvSpPr>
          <p:spPr>
            <a:xfrm>
              <a:off x="6934320" y="5232240"/>
              <a:ext cx="1523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34120" y="5232240"/>
              <a:ext cx="16002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3 or 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4080" y="5232240"/>
              <a:ext cx="2210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V1/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5800" y="5232240"/>
              <a:ext cx="243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G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34320" y="448308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,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448308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ore, 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448308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AA or GL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5800" y="448308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 Address Al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4320" y="57150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o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57150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24080" y="57150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o 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" y="57150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acket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34320" y="373392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373392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24080" y="373392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Data-driven, Explicit 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373392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oin Mechanism (Bootstra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34320" y="3263760"/>
              <a:ext cx="152388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3263760"/>
              <a:ext cx="16002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3263760"/>
              <a:ext cx="2210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, Uni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3263760"/>
              <a:ext cx="243828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outing Table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2514600"/>
              <a:ext cx="15238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,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34120" y="2514600"/>
              <a:ext cx="16002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ore,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24080" y="2514600"/>
              <a:ext cx="2210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2514600"/>
              <a:ext cx="2438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icast Channel Iden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20574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B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34120" y="20574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BT(shar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24080" y="20574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BT/CBT(shar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5800" y="20574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ree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34320" y="16002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4120" y="16002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24080" y="1600200"/>
              <a:ext cx="22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160020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6002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" y="20574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" y="32637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5800" y="44830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" y="61722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5800" y="1600200"/>
              <a:ext cx="0" cy="45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408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34320" y="1600200"/>
              <a:ext cx="0" cy="45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58200" y="1600200"/>
              <a:ext cx="0" cy="45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800" y="52322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C47-A8B5-43D8-9254-20A3F7D2986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oS-based Multicast (1)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Metrics in the viewpoint of Rou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Link Co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re Link Capacity Re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st of Transmission per Unit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the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ay-sensitive applic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ilable Link Capac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the required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ndidate Path with available link capac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450-10C5-4D88-A6CF-BCFDBF09C0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oS-based Multicast (2)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me Example Studi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oSMIC: Quality of Service sensitive Multicast Internet protoCol”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M SIGCOMM ‘98, September 1998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DMC: Destination driven routing for low cost multicast,”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 JSAC Vol. 15, No. 3, April 1997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DMR: an efficient QoS dependent multicast routing algorithm”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ceeding of 5th IEEE real-time technology and application symposium (RTAS ’99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n-core Based Shared Tree for IP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 Electronics Letters, pp. 872-873, Vol. 35, No. 11, May, 1999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A7E-0EB8-4F52-95C0-672D005251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sible Approaches &amp; Analysi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T: for one-to-man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est Del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cost may be hig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e Based Shared Tree: many-to-man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actical,but not optimiz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iner Tree: NP-complet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imum-cost tre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panning all group memb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Membership is Given 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bership Dynamics : Join &amp; Le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-constrained Shared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erent metrics in application &amp;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ay is source-specifi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Shared Tree with multiple senders (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F86-2CEA-4D52-9D84-7BE360D729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2209680"/>
          <a:ext cx="64767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64767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748-DF57-4336-B0CE-D3236A4EFC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sible Approaches &amp; Analysi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vailable Link Capacity : QoSMI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ndidate Path with available link capac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one of the candidate path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Topology Information is given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&amp; Link topolog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 Transmission Dela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Processing Pow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ilable Link Capac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-based Approac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ing &amp;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oretical or Practical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ed with the Internet QoS technolog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PLS, RSVP/Intserv, Diffserv, VP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0CB-C641-4841-9029-47F54B3C93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BONE-K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95960" y="1371600"/>
            <a:ext cx="8003880" cy="4483440"/>
            <a:chOff x="795960" y="1371600"/>
            <a:chExt cx="8003880" cy="4483440"/>
          </a:xfrm>
        </p:grpSpPr>
        <p:sp>
          <p:nvSpPr>
            <p:cNvPr id="53" name=""/>
            <p:cNvSpPr/>
            <p:nvPr/>
          </p:nvSpPr>
          <p:spPr>
            <a:xfrm>
              <a:off x="3393000" y="3549240"/>
              <a:ext cx="0" cy="15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794600" y="2328120"/>
              <a:ext cx="1598400" cy="21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730520" y="2593800"/>
              <a:ext cx="1662480" cy="42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2000" y="2699640"/>
              <a:ext cx="0" cy="6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23880" y="2699640"/>
              <a:ext cx="319680" cy="31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393000" y="2699640"/>
              <a:ext cx="447120" cy="69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190200" y="1923480"/>
              <a:ext cx="627120" cy="17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765480" y="1870200"/>
              <a:ext cx="523440" cy="14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182560" y="2275200"/>
              <a:ext cx="4474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17960" y="1695600"/>
              <a:ext cx="564840" cy="30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625840" y="2699640"/>
              <a:ext cx="894960" cy="90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410840" y="2275200"/>
              <a:ext cx="4091760" cy="138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352040" y="2221560"/>
              <a:ext cx="1150560" cy="2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98040" y="2438640"/>
              <a:ext cx="1012320" cy="25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4280" y="2067120"/>
              <a:ext cx="1011960" cy="25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21240" y="2141280"/>
              <a:ext cx="1151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eix-mbone1.kix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4760" y="2567160"/>
              <a:ext cx="1335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2o.kotel.co.kr (KTR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6360" y="2064960"/>
              <a:ext cx="537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IX/K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06600" y="3921120"/>
              <a:ext cx="129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aple.kaist.ac.kr  (KAIST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169640" y="2169000"/>
              <a:ext cx="631440" cy="229680"/>
              <a:chOff x="1169640" y="2169000"/>
              <a:chExt cx="631440" cy="229680"/>
            </a:xfrm>
          </p:grpSpPr>
          <p:sp>
            <p:nvSpPr>
              <p:cNvPr id="73" name=""/>
              <p:cNvSpPr/>
              <p:nvPr/>
            </p:nvSpPr>
            <p:spPr>
              <a:xfrm>
                <a:off x="1176120" y="2172960"/>
                <a:ext cx="564480" cy="15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169640" y="2169000"/>
                <a:ext cx="6314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Shinbi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2071800" y="3444120"/>
              <a:ext cx="1110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ww.kreonet.re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5960" y="3468600"/>
              <a:ext cx="975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ms.kren.nm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19080" y="2438640"/>
              <a:ext cx="528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IX/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50640" y="1640160"/>
              <a:ext cx="1928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1997.5.26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mbone-sec@knc.or.k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43720" y="17442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33400" y="2567160"/>
              <a:ext cx="1009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mcat.nca.or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76960" y="22464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920" y="29386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22960" y="30459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62000" y="2434320"/>
              <a:ext cx="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62000" y="264672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4520" y="2253240"/>
              <a:ext cx="1041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treamwk.kix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2440" y="25671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78240" y="2328480"/>
              <a:ext cx="0" cy="302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12320" y="3825720"/>
              <a:ext cx="1798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now.postech.ac,kr(POSTECH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49680" y="3600360"/>
              <a:ext cx="1206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aro.etri.re.kr(ETR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7160" y="3210840"/>
              <a:ext cx="2452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thena.kwangwoon.ac.kr(Kwangwoon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00680" y="3157920"/>
              <a:ext cx="1315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kwanak.nowcom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8240" y="328392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73760" y="53200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1760" y="3814560"/>
              <a:ext cx="0" cy="175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54880" y="3708720"/>
              <a:ext cx="0" cy="11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735800" y="4080240"/>
              <a:ext cx="127440" cy="159120"/>
              <a:chOff x="4735800" y="4080240"/>
              <a:chExt cx="127440" cy="159120"/>
            </a:xfrm>
          </p:grpSpPr>
          <p:sp>
            <p:nvSpPr>
              <p:cNvPr id="98" name=""/>
              <p:cNvSpPr/>
              <p:nvPr/>
            </p:nvSpPr>
            <p:spPr>
              <a:xfrm>
                <a:off x="4735800" y="4080240"/>
                <a:ext cx="0" cy="15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35800" y="4239360"/>
                <a:ext cx="12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222800" y="4832280"/>
              <a:ext cx="25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61760" y="413316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61760" y="39740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77320" y="3847680"/>
              <a:ext cx="90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oit.ajo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Ajou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64080" y="4059360"/>
              <a:ext cx="1523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47.198.101(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동명정보대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5920" y="54882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880" y="39740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54880" y="41864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4880" y="43988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4880" y="46112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54880" y="48236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9400" y="47970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2880" y="3898800"/>
              <a:ext cx="96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oslab.sn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NU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63960" y="4324680"/>
              <a:ext cx="102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mlab.snu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NU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61800" y="4111200"/>
              <a:ext cx="124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roxy.kangwon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angwon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7600" y="4643280"/>
              <a:ext cx="1242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ed.kyungsu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yungsu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61760" y="42926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29280" y="2859120"/>
              <a:ext cx="88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awk.uriel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77280" y="3230640"/>
              <a:ext cx="106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now-man.inet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3240" y="3336840"/>
              <a:ext cx="120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41.151.12(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D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35760" y="2332440"/>
              <a:ext cx="564480" cy="15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KOR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26080" y="1430280"/>
              <a:ext cx="564840" cy="36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0480" y="1536120"/>
              <a:ext cx="500760" cy="30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46120" y="1536120"/>
              <a:ext cx="500760" cy="30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8280" y="1695600"/>
              <a:ext cx="564840" cy="30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6960" y="1478880"/>
              <a:ext cx="76716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27280" y="1586160"/>
              <a:ext cx="117252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Internat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Mb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sl-stock-ns.gsl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92480" y="1371600"/>
              <a:ext cx="15444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8240" y="367560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78240" y="38876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3480" y="2727360"/>
              <a:ext cx="1029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ong.kotel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9120" y="2699640"/>
              <a:ext cx="0" cy="42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09120" y="280620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909120" y="2885760"/>
              <a:ext cx="1104480" cy="401040"/>
              <a:chOff x="6909120" y="2885760"/>
              <a:chExt cx="1104480" cy="401040"/>
            </a:xfrm>
          </p:grpSpPr>
          <p:sp>
            <p:nvSpPr>
              <p:cNvPr id="134" name=""/>
              <p:cNvSpPr/>
              <p:nvPr/>
            </p:nvSpPr>
            <p:spPr>
              <a:xfrm>
                <a:off x="6909120" y="2965320"/>
                <a:ext cx="12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97680" y="3057120"/>
                <a:ext cx="9486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hilib.kotel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90920" y="2885760"/>
                <a:ext cx="9226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hist.kotel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09120" y="3124440"/>
                <a:ext cx="12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764040" y="3388680"/>
              <a:ext cx="13615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scw.kwangwoon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589800" y="3357000"/>
              <a:ext cx="127440" cy="105840"/>
              <a:chOff x="6589800" y="3357000"/>
              <a:chExt cx="127440" cy="105840"/>
            </a:xfrm>
          </p:grpSpPr>
          <p:sp>
            <p:nvSpPr>
              <p:cNvPr id="140" name=""/>
              <p:cNvSpPr/>
              <p:nvPr/>
            </p:nvSpPr>
            <p:spPr>
              <a:xfrm>
                <a:off x="6589800" y="3462840"/>
                <a:ext cx="12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89800" y="3357000"/>
                <a:ext cx="0" cy="10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409080" y="4518360"/>
              <a:ext cx="202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zoot.hanyang.ac.kr (Hanya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50400" y="5100120"/>
              <a:ext cx="1321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51.135.22 (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KB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46800" y="4889880"/>
              <a:ext cx="1830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uny.yonsei.ac.kr (Yonsei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8600" y="4676400"/>
              <a:ext cx="1687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od.korea.ac.kr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orea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78240" y="47372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78240" y="49496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78240" y="51620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78240" y="45248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09160" y="2637720"/>
              <a:ext cx="564480" cy="15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IVY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84440" y="3336840"/>
              <a:ext cx="564480" cy="15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OWNUR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6320" y="2328480"/>
              <a:ext cx="383400" cy="10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789240" y="1933200"/>
              <a:ext cx="7560" cy="8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62000" y="2221920"/>
              <a:ext cx="3193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735800" y="2328480"/>
              <a:ext cx="1086480" cy="159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480" y="3381120"/>
              <a:ext cx="564480" cy="15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URI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1320" y="3009600"/>
              <a:ext cx="564840" cy="15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NEXT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817720" y="4863240"/>
              <a:ext cx="1510560" cy="261360"/>
              <a:chOff x="2817720" y="4863240"/>
              <a:chExt cx="1510560" cy="261360"/>
            </a:xfrm>
          </p:grpSpPr>
          <p:sp>
            <p:nvSpPr>
              <p:cNvPr id="159" name=""/>
              <p:cNvSpPr/>
              <p:nvPr/>
            </p:nvSpPr>
            <p:spPr>
              <a:xfrm>
                <a:off x="2925720" y="4894920"/>
                <a:ext cx="14025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gentle.kyungsung..ac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17720" y="4969080"/>
                <a:ext cx="12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17720" y="4863240"/>
                <a:ext cx="0" cy="10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520320" y="21412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9800" y="40802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67280" y="4173120"/>
              <a:ext cx="1221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imerr.postech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79880" y="4000680"/>
              <a:ext cx="1311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mazon.postech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89800" y="423972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89800" y="397404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7920" y="4344480"/>
              <a:ext cx="191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logos.hanyang.ac.kr (Hanya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3840" y="4451760"/>
              <a:ext cx="0" cy="15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33840" y="445176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33840" y="461124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2560" y="5299920"/>
              <a:ext cx="15156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ww.nada.co.kr(</a:t>
              </a: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나다기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78240" y="537444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3920" y="4080240"/>
              <a:ext cx="0" cy="9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43920" y="43988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3920" y="48236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43920" y="50360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74240" y="4344480"/>
              <a:ext cx="12704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enet3.kyungpook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Kyungpook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4240" y="4771440"/>
              <a:ext cx="1069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34.75.207.1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77120" y="4929480"/>
              <a:ext cx="103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oven.dongseo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9000" y="4184280"/>
              <a:ext cx="1065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diones.kaist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99520" y="5142240"/>
              <a:ext cx="0" cy="4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3240" y="5194080"/>
              <a:ext cx="12146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99520" y="53013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99520" y="54075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99520" y="55666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83040" y="4558320"/>
              <a:ext cx="11505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ore.chungnam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Chungnam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3040" y="4770360"/>
              <a:ext cx="1086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3.252.134.4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0360" y="26733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640" y="3176640"/>
              <a:ext cx="95616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10.124.156.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10.120.37.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83880" y="2781720"/>
              <a:ext cx="1111680" cy="653040"/>
              <a:chOff x="983880" y="2781720"/>
              <a:chExt cx="1111680" cy="6530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129320" y="2914560"/>
                <a:ext cx="709200" cy="229680"/>
                <a:chOff x="1129320" y="2914560"/>
                <a:chExt cx="709200" cy="229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176120" y="2916360"/>
                  <a:ext cx="564480" cy="150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129320" y="2914560"/>
                  <a:ext cx="709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 Black"/>
                      <a:ea typeface="돋움"/>
                    </a:rPr>
                    <a:t>BORANE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983880" y="2781720"/>
                <a:ext cx="11116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white.dacom.co.k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83040" y="3124440"/>
                <a:ext cx="0" cy="15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83040" y="3283920"/>
                <a:ext cx="6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51640" y="3205080"/>
                <a:ext cx="249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9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32840" y="3628800"/>
              <a:ext cx="564840" cy="229680"/>
              <a:chOff x="1032840" y="3628800"/>
              <a:chExt cx="564840" cy="22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1032840" y="3633120"/>
                <a:ext cx="564840" cy="150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72080" y="3628800"/>
                <a:ext cx="4777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KRE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87080" y="3600360"/>
              <a:ext cx="695520" cy="229680"/>
              <a:chOff x="2287080" y="3600360"/>
              <a:chExt cx="695520" cy="22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2327040" y="3606840"/>
                <a:ext cx="564480" cy="15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87080" y="3600360"/>
                <a:ext cx="6955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  <a:ea typeface="돋움"/>
                  </a:rPr>
                  <a:t>KREON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885240" y="2035080"/>
              <a:ext cx="11818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atrix.shinbiro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6760" y="248760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1400" y="2579400"/>
              <a:ext cx="857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2.30.199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28040" y="2407680"/>
              <a:ext cx="14331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axophone.shinbiro.c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6760" y="264672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46760" y="238140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51280" y="25671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0360" y="224640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3600" y="4213080"/>
              <a:ext cx="103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nova.inha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Inha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12960" y="4426560"/>
              <a:ext cx="100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balad.lge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LG Electronic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61760" y="45050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61760" y="47174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57960" y="2466360"/>
              <a:ext cx="103104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h2o.hansol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61760" y="53546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3240" y="5272560"/>
              <a:ext cx="1337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wonhyo.dongguk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Dongguk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03240" y="5488200"/>
              <a:ext cx="137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abbit.sookmyu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Sookmyu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61760" y="556668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00720" y="506232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ssun10.cs.hangkong.ac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Hangkong Univ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61760" y="514224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10400" y="2107080"/>
              <a:ext cx="564840" cy="15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돋움"/>
                </a:rPr>
                <a:t>Elim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0800" y="2328480"/>
              <a:ext cx="127440" cy="10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400" y="23018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1957680"/>
              <a:ext cx="889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ino.elim.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62120" y="3600360"/>
              <a:ext cx="1145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ovie.internex.co.k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93000" y="3708720"/>
              <a:ext cx="12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A6D-9376-4105-821E-E9F989BF54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BT &amp; PIM-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tstrap Mechani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from Router to Core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-directional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tstrap Mechani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From Router to Redenzvous Point(R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-directional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 (Tunneling) from Sender to 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Uni-directional)Multicast from RP to Receiver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BT is allowed for high data rate (for a sourc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low del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773-E0F5-435E-A2BB-D3574AB3E1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tstrap Mechanis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covery of Core (RP) for a Grou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a Domain (Regio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ping from Group to a Core or RP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Address (Class 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address of a Core or 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 or more BSR (Bootstrap Rout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ssibly dynamic election of BS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 or more </a:t>
            </a: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Candidate Core(RP) Rout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th are configured by Network Manag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A2D-0398-4A25-985F-15B2C90174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tstrap Mechanism: Examp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1932120"/>
            <a:ext cx="428400" cy="5094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1760" y="3462480"/>
            <a:ext cx="426960" cy="511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7440" y="3548160"/>
            <a:ext cx="428400" cy="5094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7600" y="4824360"/>
            <a:ext cx="428760" cy="509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84600" y="4824360"/>
            <a:ext cx="428760" cy="509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4824360"/>
            <a:ext cx="428760" cy="509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84120" y="2441520"/>
            <a:ext cx="600120" cy="1106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41640" y="2441520"/>
            <a:ext cx="685800" cy="1020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67652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714680" y="2357280"/>
            <a:ext cx="1884240" cy="246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55960" y="244152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2271600"/>
            <a:ext cx="2055960" cy="24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4520" y="3712320"/>
            <a:ext cx="21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tstrap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ctive Core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56080" y="2782800"/>
            <a:ext cx="1112760" cy="424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04840" y="249768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41432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84720" y="41432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562720" y="3962520"/>
            <a:ext cx="457200" cy="11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8AA-49FF-49E8-879F-0E3EE9B3C5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vertisement message by Cor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ndidate Core(RP) Advertisement (C-RP-Adv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Candidate Core to BS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iodic Unicast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iod Interval less than Hold-Time (below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information may be upda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contained in C-RP-Adv messag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address of the Core (RP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Prefix (that the Core will cov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Address (G) &amp; Mask Field (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-Time (valid duration)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204-3247-4888-9477-BAAAA0E080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10/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2000-09-15T09:39:25Z</cp:lastPrinted>
  <dcterms:modified xsi:type="dcterms:W3CDTF">2000-12-11T05:44:48Z</dcterms:modified>
  <cp:revision>116</cp:revision>
  <dc:subject/>
  <dc:title>Introduction to IP Multicast</dc:title>
</cp:coreProperties>
</file>