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0B2-6552-4CA1-BD1C-B806D73D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7F3-6A9E-4A37-825E-B8585B1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3F4-46EA-42C4-B84E-34EE6297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7E8-6735-445C-88D8-901154AC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F06-F215-4CE9-AD7D-AF7D5459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6F9-6D93-417C-9B80-352C7FE9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EB2-2942-4641-8496-D75E2BF7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7D1-78AC-41AF-8D93-00B135B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6FC-5435-48DC-B1B7-334EECBE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2DF-3948-4378-9B88-6D8626B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D0E-4CD0-4F1F-8A7D-B0EE78D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A1-FE2F-4D4B-8AA8-2B90FF5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7E6B-5C61-49C3-966C-0C91E6ED8179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r-Domain Multicast Routing Protocol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oo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9A0-CBDB-4545-BA7F-044B179CE8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Example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 S is known to the Receiv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66680" y="2438280"/>
            <a:ext cx="2744640" cy="3479760"/>
            <a:chOff x="1066680" y="2438280"/>
            <a:chExt cx="2744640" cy="3479760"/>
          </a:xfrm>
        </p:grpSpPr>
        <p:sp>
          <p:nvSpPr>
            <p:cNvPr id="121" name=""/>
            <p:cNvSpPr/>
            <p:nvPr/>
          </p:nvSpPr>
          <p:spPr>
            <a:xfrm>
              <a:off x="1066680" y="2762640"/>
              <a:ext cx="2744640" cy="315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3086640"/>
              <a:ext cx="1238040" cy="5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026800" y="4902120"/>
              <a:ext cx="1369440" cy="541440"/>
              <a:chOff x="2026800" y="4902120"/>
              <a:chExt cx="1369440" cy="541440"/>
            </a:xfrm>
          </p:grpSpPr>
          <p:sp>
            <p:nvSpPr>
              <p:cNvPr id="124" name=""/>
              <p:cNvSpPr/>
              <p:nvPr/>
            </p:nvSpPr>
            <p:spPr>
              <a:xfrm>
                <a:off x="2107800" y="4902120"/>
                <a:ext cx="1236600" cy="54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800" y="5027400"/>
                <a:ext cx="136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Receiver 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2286000" y="3718800"/>
              <a:ext cx="0" cy="111816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5280" y="3735000"/>
              <a:ext cx="1143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o-KR" sz="2000" spc="-1" strike="noStrike">
                  <a:solidFill>
                    <a:srgbClr val="ff5050"/>
                  </a:solidFill>
                  <a:latin typeface="Book Antiqua"/>
                </a:rPr>
                <a:t>(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S,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Jo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tow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6760" y="24382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A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43200" y="3670200"/>
              <a:ext cx="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191120" y="2438280"/>
            <a:ext cx="4053240" cy="3441600"/>
            <a:chOff x="4191120" y="2438280"/>
            <a:chExt cx="4053240" cy="3441600"/>
          </a:xfrm>
        </p:grpSpPr>
        <p:sp>
          <p:nvSpPr>
            <p:cNvPr id="131" name=""/>
            <p:cNvSpPr/>
            <p:nvPr/>
          </p:nvSpPr>
          <p:spPr>
            <a:xfrm>
              <a:off x="4191120" y="2761920"/>
              <a:ext cx="3962520" cy="311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26280" y="3085560"/>
              <a:ext cx="1090440" cy="52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565880" y="4898520"/>
              <a:ext cx="1249200" cy="528120"/>
              <a:chOff x="4565880" y="4898520"/>
              <a:chExt cx="1249200" cy="528120"/>
            </a:xfrm>
          </p:grpSpPr>
          <p:sp>
            <p:nvSpPr>
              <p:cNvPr id="134" name=""/>
              <p:cNvSpPr/>
              <p:nvPr/>
            </p:nvSpPr>
            <p:spPr>
              <a:xfrm>
                <a:off x="4593600" y="4898520"/>
                <a:ext cx="1088640" cy="52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5880" y="502776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Source 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951520" y="4833360"/>
              <a:ext cx="229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Source sends (S,G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Register to R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25160" y="3020760"/>
              <a:ext cx="148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RP1 cre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Book Antiqua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3440" y="243828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A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063040" y="3668040"/>
              <a:ext cx="0" cy="12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0160" y="3344760"/>
              <a:ext cx="693000" cy="1812240"/>
            </a:xfrm>
            <a:custGeom>
              <a:avLst/>
              <a:gdLst/>
              <a:ahLst/>
              <a:rect l="l" t="t" r="r" b="b"/>
              <a:pathLst>
                <a:path w="496" h="1344">
                  <a:moveTo>
                    <a:pt x="96" y="1344"/>
                  </a:moveTo>
                  <a:cubicBezTo>
                    <a:pt x="296" y="1144"/>
                    <a:pt x="496" y="944"/>
                    <a:pt x="480" y="720"/>
                  </a:cubicBezTo>
                  <a:cubicBezTo>
                    <a:pt x="464" y="496"/>
                    <a:pt x="232" y="248"/>
                    <a:pt x="0" y="0"/>
                  </a:cubicBezTo>
                </a:path>
              </a:pathLst>
            </a:custGeom>
            <a:noFill/>
            <a:ln w="9360">
              <a:solidFill>
                <a:srgbClr val="ff5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629-5328-4448-BD6B-914DF56E69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Example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 Active (SA) message: (S,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tributed to all RPs (over MSDP peer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2590920"/>
            <a:ext cx="6806880" cy="3239640"/>
            <a:chOff x="1143000" y="2590920"/>
            <a:chExt cx="6806880" cy="3239640"/>
          </a:xfrm>
        </p:grpSpPr>
        <p:sp>
          <p:nvSpPr>
            <p:cNvPr id="144" name=""/>
            <p:cNvSpPr/>
            <p:nvPr/>
          </p:nvSpPr>
          <p:spPr>
            <a:xfrm>
              <a:off x="2079360" y="3229200"/>
              <a:ext cx="1170720" cy="58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049120" y="5248800"/>
              <a:ext cx="1369440" cy="581760"/>
              <a:chOff x="2049120" y="5248800"/>
              <a:chExt cx="1369440" cy="581760"/>
            </a:xfrm>
          </p:grpSpPr>
          <p:sp>
            <p:nvSpPr>
              <p:cNvPr id="146" name=""/>
              <p:cNvSpPr/>
              <p:nvPr/>
            </p:nvSpPr>
            <p:spPr>
              <a:xfrm>
                <a:off x="2127240" y="5248800"/>
                <a:ext cx="1168920" cy="58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49120" y="5382000"/>
                <a:ext cx="136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Receiver 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745160" y="3298680"/>
              <a:ext cx="1170360" cy="55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717080" y="5248800"/>
              <a:ext cx="1249200" cy="561600"/>
              <a:chOff x="4717080" y="5248800"/>
              <a:chExt cx="1249200" cy="561600"/>
            </a:xfrm>
          </p:grpSpPr>
          <p:sp>
            <p:nvSpPr>
              <p:cNvPr id="150" name=""/>
              <p:cNvSpPr/>
              <p:nvPr/>
            </p:nvSpPr>
            <p:spPr>
              <a:xfrm>
                <a:off x="4745160" y="5248800"/>
                <a:ext cx="1168200" cy="561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717080" y="538632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Source 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232440" y="3577320"/>
              <a:ext cx="1512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55720" y="385596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21520" y="385596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439720" y="3994560"/>
              <a:ext cx="0" cy="118404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434340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o-KR" sz="2000" spc="-1" strike="noStrike">
                  <a:solidFill>
                    <a:srgbClr val="ff505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</a:rPr>
                <a:t>S,G) Join toward 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360" y="364680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SDP P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55720" y="2590920"/>
              <a:ext cx="2665440" cy="707760"/>
            </a:xfrm>
            <a:custGeom>
              <a:avLst/>
              <a:gdLst/>
              <a:ahLst/>
              <a:rect l="l" t="t" r="r" b="b"/>
              <a:pathLst>
                <a:path w="1776" h="488">
                  <a:moveTo>
                    <a:pt x="1776" y="488"/>
                  </a:moveTo>
                  <a:cubicBezTo>
                    <a:pt x="1564" y="252"/>
                    <a:pt x="1352" y="16"/>
                    <a:pt x="1056" y="8"/>
                  </a:cubicBezTo>
                  <a:cubicBezTo>
                    <a:pt x="760" y="0"/>
                    <a:pt x="380" y="220"/>
                    <a:pt x="0" y="44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12480" y="2602080"/>
              <a:ext cx="31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</a:rPr>
                <a:t>RP1 sends (S,G) SA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E7A-36A0-48DC-953C-41BF51D446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Example (4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2 sends (S,G) Join to Source (Not RP1)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1640" y="2438280"/>
            <a:ext cx="4577400" cy="3392640"/>
            <a:chOff x="2051640" y="2438280"/>
            <a:chExt cx="4577400" cy="3392640"/>
          </a:xfrm>
        </p:grpSpPr>
        <p:sp>
          <p:nvSpPr>
            <p:cNvPr id="163" name=""/>
            <p:cNvSpPr/>
            <p:nvPr/>
          </p:nvSpPr>
          <p:spPr>
            <a:xfrm>
              <a:off x="2141280" y="2984400"/>
              <a:ext cx="13694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110680" y="5194080"/>
              <a:ext cx="1454040" cy="636840"/>
              <a:chOff x="2110680" y="5194080"/>
              <a:chExt cx="1454040" cy="636840"/>
            </a:xfrm>
          </p:grpSpPr>
          <p:sp>
            <p:nvSpPr>
              <p:cNvPr id="165" name=""/>
              <p:cNvSpPr/>
              <p:nvPr/>
            </p:nvSpPr>
            <p:spPr>
              <a:xfrm>
                <a:off x="2197080" y="5194080"/>
                <a:ext cx="1367640" cy="63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110680" y="5341680"/>
                <a:ext cx="136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Receiver 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259600" y="3060720"/>
              <a:ext cx="1369440" cy="61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31880" y="5194080"/>
              <a:ext cx="1395000" cy="614520"/>
              <a:chOff x="5231880" y="5194080"/>
              <a:chExt cx="1395000" cy="614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59600" y="5194080"/>
                <a:ext cx="1367280" cy="61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1880" y="534672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Source 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489840" y="3365280"/>
              <a:ext cx="1769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5560" y="36702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3520" y="36702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03800" y="297180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SDP P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89840" y="3657600"/>
              <a:ext cx="1769760" cy="152388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4680" y="4190760"/>
              <a:ext cx="123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o-KR" sz="2000" spc="-1" strike="noStrike">
                  <a:solidFill>
                    <a:srgbClr val="ff505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</a:rPr>
                <a:t>S,G) Jo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1640" y="2438280"/>
              <a:ext cx="31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5050"/>
                  </a:solidFill>
                  <a:latin typeface="Times New Roman"/>
                </a:rPr>
                <a:t>RP2 joins (S,G) Source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EA7-98DA-4402-B0FC-E7599DE3E9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Example (5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T from Source S to RP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other RP3 may be involved in the SP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2832120"/>
            <a:ext cx="1238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07680" y="5041800"/>
            <a:ext cx="1369440" cy="636840"/>
            <a:chOff x="2407680" y="5041800"/>
            <a:chExt cx="1369440" cy="636840"/>
          </a:xfrm>
        </p:grpSpPr>
        <p:sp>
          <p:nvSpPr>
            <p:cNvPr id="182" name=""/>
            <p:cNvSpPr/>
            <p:nvPr/>
          </p:nvSpPr>
          <p:spPr>
            <a:xfrm>
              <a:off x="2489040" y="5041800"/>
              <a:ext cx="1236600" cy="63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7680" y="5189400"/>
              <a:ext cx="13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Receiver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257800" y="2908440"/>
            <a:ext cx="1238400" cy="61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30080" y="5041800"/>
            <a:ext cx="1264320" cy="614520"/>
            <a:chOff x="5230080" y="5041800"/>
            <a:chExt cx="1264320" cy="614520"/>
          </a:xfrm>
        </p:grpSpPr>
        <p:sp>
          <p:nvSpPr>
            <p:cNvPr id="186" name=""/>
            <p:cNvSpPr/>
            <p:nvPr/>
          </p:nvSpPr>
          <p:spPr>
            <a:xfrm>
              <a:off x="5257800" y="5041800"/>
              <a:ext cx="1236600" cy="61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30080" y="519444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ource 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657600" y="3213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3517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17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0560" y="28195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SDP P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35053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960" y="960"/>
                </a:moveTo>
                <a:cubicBezTo>
                  <a:pt x="944" y="800"/>
                  <a:pt x="928" y="640"/>
                  <a:pt x="768" y="480"/>
                </a:cubicBezTo>
                <a:cubicBezTo>
                  <a:pt x="608" y="320"/>
                  <a:pt x="304" y="160"/>
                  <a:pt x="0" y="0"/>
                </a:cubicBezTo>
              </a:path>
            </a:pathLst>
          </a:custGeom>
          <a:noFill/>
          <a:ln w="28440">
            <a:solidFill>
              <a:srgbClr val="ff505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657600"/>
            <a:ext cx="0" cy="11430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640" y="3809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505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505320" y="3504960"/>
            <a:ext cx="1752480" cy="15238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728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309-2137-4BE4-B6BB-478253B9AB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Analys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nect multiple PIM-SM domains together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ach PIM-SM domain uses it’s own independent RP(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not depend on RPs in other domai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t connecting trees,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nect sources known to all tree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SM domains rely on their own RPs only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ains with only receivers get data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out globally advertising group membership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source state is not required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791-AC11-44E5-9D59-EB0B47C53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Summary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/M-BGP/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-and-Join mechani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ing of SA to all MSDP-peering R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 from RP to Sourc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to impl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ar-term solu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ing implemented and deploy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abilit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 Sources =&gt; many SA flooding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rge Latency to Receive Dat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Periodic SA messages and then (S,g) Joi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rsty source with short lifetim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effective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E98-9FD9-4D20-B95F-3C2E21FF86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Address Allo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 Collis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Group address may be used by several se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re Group addresses, More severe Problem !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should Group Addresses be assigned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Senders or Group Se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out Collisions, and Systematicall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ed to Standardize the address allo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 (Multicast Address Allocation)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Allocation Architecture (MAA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ynamic and Hierarchical address allo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sy &amp; Effective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97B-3882-4CE9-B5A7-C7127677A1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Address Collis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day’s Router Memory:  2,000 group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address space: 2^28 (Random Allocatio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re addresses, More Collisions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943600" cy="3200400"/>
          </a:xfrm>
          <a:prstGeom prst="rect">
            <a:avLst/>
          </a:prstGeom>
          <a:ln cap="sq" w="1260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437-73C9-4671-8968-894CFC2A06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ur Possible Approach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AA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Allocation Architectu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 MALLOC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LOP (Static Allocation and Assignmen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P addressing in 233/8 : RFC2770 (Feb.,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Rou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Multicast : (Core, G) channe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Specific Multicast (SSM): (S,G) channe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can be assigned to each Core or S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in IPv6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bits : multicast address sp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D3B-DAF0-465B-A9DE-73FC5FE5EF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A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Address Allocation Architectu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 WG: RFC2908 (September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ee Protocols defined in MAA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DCAP (RFC 273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Dynamic Client Allocation P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s request addresses from (MAAS) ser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AP (draft-ietf-malloc-aap-04.tx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 Allocation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rvers inform each other of claimed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C (RFC 2909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Set Claim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cation of addresses between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7DD-1E35-42FC-9838-398289422A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-Domain Multicast Routing 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/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Address Allocation Architecture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MP/MAS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vanced Topic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all Group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lication Level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248-9275-4945-A2B6-6FA80CF008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851120" y="4876920"/>
            <a:ext cx="3165120" cy="1066680"/>
            <a:chOff x="1851120" y="4876920"/>
            <a:chExt cx="3165120" cy="1066680"/>
          </a:xfrm>
        </p:grpSpPr>
        <p:sp>
          <p:nvSpPr>
            <p:cNvPr id="211" name=""/>
            <p:cNvSpPr/>
            <p:nvPr/>
          </p:nvSpPr>
          <p:spPr>
            <a:xfrm>
              <a:off x="3730320" y="5257800"/>
              <a:ext cx="12859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1120" y="4876920"/>
              <a:ext cx="11865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51120" y="5486400"/>
              <a:ext cx="11865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37680" y="5181840"/>
              <a:ext cx="692280" cy="15228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37680" y="5638680"/>
              <a:ext cx="692280" cy="7596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AA: Intra-Domain Protocol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2480" y="1828800"/>
            <a:ext cx="5639040" cy="3733560"/>
            <a:chOff x="1752480" y="1828800"/>
            <a:chExt cx="5639040" cy="3733560"/>
          </a:xfrm>
        </p:grpSpPr>
        <p:grpSp>
          <p:nvGrpSpPr>
            <p:cNvPr id="218" name=""/>
            <p:cNvGrpSpPr/>
            <p:nvPr/>
          </p:nvGrpSpPr>
          <p:grpSpPr>
            <a:xfrm>
              <a:off x="1752480" y="2362320"/>
              <a:ext cx="3165120" cy="1066680"/>
              <a:chOff x="1752480" y="2362320"/>
              <a:chExt cx="3165120" cy="10666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1680" y="2743200"/>
                <a:ext cx="128592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2480" y="2362320"/>
                <a:ext cx="118656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2971800"/>
                <a:ext cx="118656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9040" y="2667240"/>
                <a:ext cx="692280" cy="152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939040" y="3124080"/>
                <a:ext cx="692280" cy="7596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752480" y="3657600"/>
              <a:ext cx="3165120" cy="1066680"/>
              <a:chOff x="1752480" y="3657600"/>
              <a:chExt cx="3165120" cy="1066680"/>
            </a:xfrm>
          </p:grpSpPr>
          <p:sp>
            <p:nvSpPr>
              <p:cNvPr id="225" name=""/>
              <p:cNvSpPr/>
              <p:nvPr/>
            </p:nvSpPr>
            <p:spPr>
              <a:xfrm>
                <a:off x="3631680" y="4038480"/>
                <a:ext cx="128592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2480" y="3657600"/>
                <a:ext cx="118656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52480" y="4267080"/>
                <a:ext cx="118656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39040" y="3962520"/>
                <a:ext cx="692280" cy="152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39040" y="4419360"/>
                <a:ext cx="692280" cy="7596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610240" y="3200400"/>
              <a:ext cx="178128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0240" y="4495680"/>
              <a:ext cx="178128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17960" y="2971800"/>
              <a:ext cx="692280" cy="38088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917960" y="3504960"/>
              <a:ext cx="692280" cy="68580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917960" y="3886200"/>
              <a:ext cx="692280" cy="137160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016600" y="5181120"/>
              <a:ext cx="593640" cy="38124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17960" y="3200400"/>
              <a:ext cx="692280" cy="129528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17960" y="4343400"/>
              <a:ext cx="692280" cy="457200"/>
            </a:xfrm>
            <a:prstGeom prst="line">
              <a:avLst/>
            </a:prstGeom>
            <a:ln w="349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1828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y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1828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y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68C-BBB7-49D0-BEB2-15A27DD298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AA: Intra-Domain Protocol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in a Do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yer 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a Client to MAA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AS: Multicast Address Allocation Serv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ssible Metho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DCAP : RFC290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HTTP: Web Page for Allo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IANA Static Address allo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yer 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MAAS and Prefix Coordinat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AP: Internet Draf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B33-48EA-41DB-A36B-C44EEC6736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AA: Inter-Domain Protoco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yer 3: Between Domai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S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RFC290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hange of Prefix Coordinator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73392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72428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124080" y="3733920"/>
            <a:ext cx="2133720" cy="38088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029200"/>
            <a:ext cx="2210040" cy="7632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4800600"/>
            <a:ext cx="1371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276720"/>
            <a:ext cx="1447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276720"/>
            <a:ext cx="312444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2971800"/>
            <a:ext cx="26668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572000"/>
            <a:ext cx="26672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4038480"/>
            <a:ext cx="0" cy="76212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7D2-4EE6-4847-9B75-904BFF6FD5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OP Addressing in 233/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Allocation and Assign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 MboneD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2770 (Feb.,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P uses Autonomous System (AS) numb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e.g) AS 5662: 233.22.30/2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eriments will be reviewed in May 200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3792960"/>
            <a:ext cx="7736040" cy="201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|      233      |           16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s AS          |  local bits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610-413E-4905-A84B-76FC0244A4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mary of Address Allo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AA: Dynamic allocation of address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fficient use of address sp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AA: Hierarchical Prefi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the cost of complex desig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LOP: Static Assign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d on the AS numb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rvation of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Group Chann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Multicast: Core (IP address) + 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: Source (IP address) + 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ly Use in Core or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rge Space for Address Allocation (120 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930-377B-42AF-8782-9AE9B61EAD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/MASC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-Domain Multicast Rou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ar-term solution: MSDP/PIM-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T between RP an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-Term: BGMP/MAS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-directional Shared Tree of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GMP/MAS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C(Multicast Address Set Claim)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erarchical allocation of multicast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GMP(Border Gateway Multicast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-directional Shared 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Tree of Domain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 Domain &lt;=&gt; Core/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ion of the Root Domain 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with MASC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D7B-6BAA-46AE-AE8A-43C5C222E3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828800" y="2209680"/>
            <a:ext cx="5257800" cy="3809880"/>
            <a:chOff x="1828800" y="2209680"/>
            <a:chExt cx="5257800" cy="3809880"/>
          </a:xfrm>
        </p:grpSpPr>
        <p:sp>
          <p:nvSpPr>
            <p:cNvPr id="263" name=""/>
            <p:cNvSpPr/>
            <p:nvPr/>
          </p:nvSpPr>
          <p:spPr>
            <a:xfrm>
              <a:off x="3504960" y="2895480"/>
              <a:ext cx="1752840" cy="10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8800" y="2209680"/>
              <a:ext cx="144756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4760" y="3886200"/>
              <a:ext cx="1447920" cy="91440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2209680"/>
              <a:ext cx="144792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3809880"/>
              <a:ext cx="144792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28800" y="533376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560" y="5333760"/>
              <a:ext cx="106704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504960" y="2971800"/>
              <a:ext cx="381240" cy="228240"/>
              <a:chOff x="3504960" y="2971800"/>
              <a:chExt cx="381240" cy="2282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05320" y="3000960"/>
                <a:ext cx="240480" cy="199080"/>
                <a:chOff x="3505320" y="3000960"/>
                <a:chExt cx="240480" cy="1990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05320" y="3000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505320" y="3000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746160" y="3007800"/>
                <a:ext cx="138600" cy="192240"/>
                <a:chOff x="3746160" y="3007800"/>
                <a:chExt cx="138600" cy="192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46160" y="3007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46160" y="3007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504960" y="2971800"/>
                <a:ext cx="381240" cy="80280"/>
                <a:chOff x="3504960" y="2971800"/>
                <a:chExt cx="381240" cy="80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504960" y="29718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504960" y="29718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520080" y="30189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20080" y="30621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20080" y="30189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3534120" y="3034800"/>
                <a:ext cx="99000" cy="38880"/>
                <a:chOff x="3534120" y="3034800"/>
                <a:chExt cx="99000" cy="38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534120" y="3034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534120" y="3034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533040" y="3076560"/>
                <a:ext cx="61920" cy="57960"/>
                <a:chOff x="3533040" y="3076560"/>
                <a:chExt cx="61920" cy="579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533040" y="3076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533040" y="3076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4952880" y="2971800"/>
              <a:ext cx="380880" cy="228240"/>
              <a:chOff x="4952880" y="2971800"/>
              <a:chExt cx="380880" cy="2282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4953240" y="3000960"/>
                <a:ext cx="240480" cy="199080"/>
                <a:chOff x="4953240" y="3000960"/>
                <a:chExt cx="240480" cy="1990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953240" y="3000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953240" y="3000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193720" y="3007800"/>
                <a:ext cx="138600" cy="192240"/>
                <a:chOff x="5193720" y="3007800"/>
                <a:chExt cx="138600" cy="1922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193720" y="3007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93720" y="3007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952880" y="2971800"/>
                <a:ext cx="380880" cy="80280"/>
                <a:chOff x="4952880" y="2971800"/>
                <a:chExt cx="380880" cy="80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952880" y="2971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952880" y="2971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4968000" y="30189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68000" y="30621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68000" y="30189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4982040" y="3034800"/>
                <a:ext cx="99000" cy="38880"/>
                <a:chOff x="4982040" y="3034800"/>
                <a:chExt cx="99000" cy="388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982040" y="3034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982040" y="3034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980960" y="3076560"/>
                <a:ext cx="61920" cy="57960"/>
                <a:chOff x="4980960" y="3076560"/>
                <a:chExt cx="61920" cy="57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980960" y="3076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980960" y="3076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3504960" y="3657600"/>
              <a:ext cx="381240" cy="228240"/>
              <a:chOff x="3504960" y="3657600"/>
              <a:chExt cx="381240" cy="228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505320" y="3686760"/>
                <a:ext cx="240480" cy="199080"/>
                <a:chOff x="3505320" y="3686760"/>
                <a:chExt cx="240480" cy="1990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505320" y="3686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505320" y="3686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746160" y="3693600"/>
                <a:ext cx="138600" cy="192240"/>
                <a:chOff x="3746160" y="3693600"/>
                <a:chExt cx="138600" cy="1922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746160" y="3693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746160" y="3693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504960" y="3657600"/>
                <a:ext cx="381240" cy="80280"/>
                <a:chOff x="3504960" y="3657600"/>
                <a:chExt cx="381240" cy="80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04960" y="36576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504960" y="36576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3520080" y="37047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20080" y="37479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20080" y="37047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534120" y="3720600"/>
                <a:ext cx="99000" cy="38880"/>
                <a:chOff x="3534120" y="3720600"/>
                <a:chExt cx="99000" cy="38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534120" y="3720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34120" y="3720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533040" y="3762360"/>
                <a:ext cx="61920" cy="57960"/>
                <a:chOff x="3533040" y="3762360"/>
                <a:chExt cx="61920" cy="579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533040" y="3762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33040" y="3762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4952880" y="3657600"/>
              <a:ext cx="380880" cy="228240"/>
              <a:chOff x="4952880" y="3657600"/>
              <a:chExt cx="380880" cy="22824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4953240" y="3686760"/>
                <a:ext cx="240480" cy="199080"/>
                <a:chOff x="4953240" y="3686760"/>
                <a:chExt cx="240480" cy="1990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953240" y="3686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953240" y="3686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193720" y="3693600"/>
                <a:ext cx="138600" cy="192240"/>
                <a:chOff x="5193720" y="3693600"/>
                <a:chExt cx="138600" cy="192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193720" y="3693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193720" y="3693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952880" y="3657600"/>
                <a:ext cx="380880" cy="80280"/>
                <a:chOff x="4952880" y="3657600"/>
                <a:chExt cx="380880" cy="802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952880" y="36576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952880" y="36576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968000" y="37047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68000" y="37479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68000" y="37047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4982040" y="3720600"/>
                <a:ext cx="99000" cy="38880"/>
                <a:chOff x="4982040" y="3720600"/>
                <a:chExt cx="99000" cy="388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82040" y="3720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82040" y="3720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980960" y="3762360"/>
                <a:ext cx="61920" cy="57960"/>
                <a:chOff x="4980960" y="3762360"/>
                <a:chExt cx="61920" cy="579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980960" y="3762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980960" y="3762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047760" y="2666880"/>
              <a:ext cx="381240" cy="228240"/>
              <a:chOff x="3047760" y="2666880"/>
              <a:chExt cx="381240" cy="2282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3048120" y="2696040"/>
                <a:ext cx="240480" cy="199080"/>
                <a:chOff x="3048120" y="2696040"/>
                <a:chExt cx="240480" cy="199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048120" y="26960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048120" y="26960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288960" y="2702880"/>
                <a:ext cx="138600" cy="192240"/>
                <a:chOff x="3288960" y="2702880"/>
                <a:chExt cx="138600" cy="192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288960" y="27028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288960" y="27028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047760" y="2666880"/>
                <a:ext cx="381240" cy="80280"/>
                <a:chOff x="3047760" y="2666880"/>
                <a:chExt cx="381240" cy="802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047760" y="266688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047760" y="266688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3062880" y="271404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62880" y="275724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62880" y="271404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076920" y="2729880"/>
                <a:ext cx="99000" cy="38880"/>
                <a:chOff x="3076920" y="2729880"/>
                <a:chExt cx="99000" cy="388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076920" y="2729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076920" y="2729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075840" y="2771640"/>
                <a:ext cx="61920" cy="57960"/>
                <a:chOff x="3075840" y="2771640"/>
                <a:chExt cx="61920" cy="57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075840" y="2771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075840" y="2771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5562360" y="2743200"/>
              <a:ext cx="381240" cy="228240"/>
              <a:chOff x="5562360" y="2743200"/>
              <a:chExt cx="381240" cy="22824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5562720" y="2772360"/>
                <a:ext cx="240480" cy="199080"/>
                <a:chOff x="5562720" y="2772360"/>
                <a:chExt cx="240480" cy="1990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562720" y="27723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62720" y="27723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803560" y="2779200"/>
                <a:ext cx="138600" cy="192240"/>
                <a:chOff x="5803560" y="2779200"/>
                <a:chExt cx="138600" cy="1922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803560" y="27792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803560" y="27792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562360" y="2743200"/>
                <a:ext cx="381240" cy="80280"/>
                <a:chOff x="5562360" y="2743200"/>
                <a:chExt cx="381240" cy="802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562360" y="27432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562360" y="274320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577480" y="27903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77480" y="28335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77480" y="27903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5591520" y="2806200"/>
                <a:ext cx="99000" cy="38880"/>
                <a:chOff x="5591520" y="2806200"/>
                <a:chExt cx="99000" cy="388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5591520" y="2806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591520" y="2806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5590440" y="2847960"/>
                <a:ext cx="61920" cy="57960"/>
                <a:chOff x="5590440" y="2847960"/>
                <a:chExt cx="61920" cy="579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590440" y="2847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590440" y="2847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3047760" y="3962160"/>
              <a:ext cx="381240" cy="228240"/>
              <a:chOff x="3047760" y="3962160"/>
              <a:chExt cx="381240" cy="228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3048120" y="3991320"/>
                <a:ext cx="240480" cy="199080"/>
                <a:chOff x="3048120" y="3991320"/>
                <a:chExt cx="240480" cy="1990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048120" y="39913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48120" y="39913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288960" y="3998160"/>
                <a:ext cx="138600" cy="192240"/>
                <a:chOff x="3288960" y="3998160"/>
                <a:chExt cx="138600" cy="1922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288960" y="39981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288960" y="39981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047760" y="3962160"/>
                <a:ext cx="381240" cy="80280"/>
                <a:chOff x="3047760" y="3962160"/>
                <a:chExt cx="381240" cy="802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047760" y="396216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047760" y="3962160"/>
                  <a:ext cx="38124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3062880" y="400932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62880" y="405252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62880" y="400932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3076920" y="4025160"/>
                <a:ext cx="99000" cy="38880"/>
                <a:chOff x="3076920" y="4025160"/>
                <a:chExt cx="99000" cy="38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076920" y="40251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076920" y="40251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75840" y="4066920"/>
                <a:ext cx="61920" cy="57960"/>
                <a:chOff x="3075840" y="4066920"/>
                <a:chExt cx="61920" cy="579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75840" y="40669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75840" y="40669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2209680" y="5257800"/>
              <a:ext cx="380880" cy="228240"/>
              <a:chOff x="2209680" y="5257800"/>
              <a:chExt cx="380880" cy="22824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2210040" y="5286960"/>
                <a:ext cx="240480" cy="199080"/>
                <a:chOff x="2210040" y="5286960"/>
                <a:chExt cx="240480" cy="1990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210040" y="5286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10040" y="5286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450520" y="5293800"/>
                <a:ext cx="138600" cy="192240"/>
                <a:chOff x="2450520" y="5293800"/>
                <a:chExt cx="138600" cy="192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450520" y="5293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450520" y="5293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209680" y="5257800"/>
                <a:ext cx="380880" cy="80280"/>
                <a:chOff x="2209680" y="5257800"/>
                <a:chExt cx="380880" cy="802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209680" y="5257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09680" y="5257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2224800" y="53049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24800" y="53481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24800" y="53049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2238840" y="5320800"/>
                <a:ext cx="99000" cy="38880"/>
                <a:chOff x="2238840" y="5320800"/>
                <a:chExt cx="99000" cy="388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238840" y="5320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38840" y="5320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237760" y="5362560"/>
                <a:ext cx="61920" cy="57960"/>
                <a:chOff x="2237760" y="5362560"/>
                <a:chExt cx="61920" cy="57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237760" y="5362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237760" y="5362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2286000" y="4647960"/>
              <a:ext cx="380880" cy="228240"/>
              <a:chOff x="2286000" y="4647960"/>
              <a:chExt cx="380880" cy="2282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2286360" y="4677120"/>
                <a:ext cx="240480" cy="199080"/>
                <a:chOff x="2286360" y="4677120"/>
                <a:chExt cx="240480" cy="1990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286360" y="46771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286360" y="46771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526840" y="4683960"/>
                <a:ext cx="138600" cy="192240"/>
                <a:chOff x="2526840" y="4683960"/>
                <a:chExt cx="138600" cy="192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26840" y="46839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26840" y="46839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2286000" y="4647960"/>
                <a:ext cx="380880" cy="80280"/>
                <a:chOff x="2286000" y="4647960"/>
                <a:chExt cx="380880" cy="80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86000" y="464796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86000" y="464796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301120" y="469512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01120" y="473832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01120" y="469512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2315160" y="4710960"/>
                <a:ext cx="99000" cy="38880"/>
                <a:chOff x="2315160" y="4710960"/>
                <a:chExt cx="99000" cy="3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315160" y="4710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15160" y="4710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314080" y="4752720"/>
                <a:ext cx="61920" cy="57960"/>
                <a:chOff x="2314080" y="4752720"/>
                <a:chExt cx="61920" cy="579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314080" y="4752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14080" y="4752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6172200" y="4572000"/>
              <a:ext cx="380880" cy="228240"/>
              <a:chOff x="6172200" y="4572000"/>
              <a:chExt cx="380880" cy="2282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6172560" y="4601160"/>
                <a:ext cx="240480" cy="199080"/>
                <a:chOff x="6172560" y="4601160"/>
                <a:chExt cx="240480" cy="1990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172560" y="46011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172560" y="46011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413040" y="4608000"/>
                <a:ext cx="138600" cy="192240"/>
                <a:chOff x="6413040" y="4608000"/>
                <a:chExt cx="138600" cy="192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413040" y="46080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413040" y="46080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172200" y="4572000"/>
                <a:ext cx="380880" cy="80280"/>
                <a:chOff x="6172200" y="4572000"/>
                <a:chExt cx="380880" cy="802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172200" y="45720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172200" y="45720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6187320" y="46191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87320" y="46623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87320" y="46191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6201360" y="4635000"/>
                <a:ext cx="99000" cy="38880"/>
                <a:chOff x="6201360" y="4635000"/>
                <a:chExt cx="99000" cy="388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201360" y="4635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201360" y="4635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6200280" y="4676760"/>
                <a:ext cx="61920" cy="57960"/>
                <a:chOff x="6200280" y="4676760"/>
                <a:chExt cx="61920" cy="57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200280" y="4676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200280" y="4676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6324480" y="5257800"/>
              <a:ext cx="380880" cy="228240"/>
              <a:chOff x="6324480" y="5257800"/>
              <a:chExt cx="380880" cy="22824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324840" y="5286960"/>
                <a:ext cx="240480" cy="199080"/>
                <a:chOff x="6324840" y="5286960"/>
                <a:chExt cx="240480" cy="1990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324840" y="5286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324840" y="52869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65320" y="5293800"/>
                <a:ext cx="138600" cy="192240"/>
                <a:chOff x="6565320" y="5293800"/>
                <a:chExt cx="138600" cy="1922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65320" y="5293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65320" y="52938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324480" y="5257800"/>
                <a:ext cx="380880" cy="80280"/>
                <a:chOff x="6324480" y="5257800"/>
                <a:chExt cx="380880" cy="802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324480" y="5257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324480" y="52578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6339600" y="53049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9600" y="53481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9600" y="53049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353640" y="5320800"/>
                <a:ext cx="99000" cy="38880"/>
                <a:chOff x="6353640" y="5320800"/>
                <a:chExt cx="99000" cy="38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353640" y="5320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353640" y="53208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352560" y="5362560"/>
                <a:ext cx="61920" cy="57960"/>
                <a:chOff x="6352560" y="5362560"/>
                <a:chExt cx="61920" cy="57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352560" y="5362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352560" y="53625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638680" y="3886200"/>
              <a:ext cx="380880" cy="228240"/>
              <a:chOff x="5638680" y="3886200"/>
              <a:chExt cx="380880" cy="2282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639040" y="3915360"/>
                <a:ext cx="240480" cy="199080"/>
                <a:chOff x="5639040" y="3915360"/>
                <a:chExt cx="240480" cy="1990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639040" y="39153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639040" y="39153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879520" y="3922200"/>
                <a:ext cx="138600" cy="192240"/>
                <a:chOff x="5879520" y="3922200"/>
                <a:chExt cx="138600" cy="1922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879520" y="39222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879520" y="39222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638680" y="3886200"/>
                <a:ext cx="380880" cy="80280"/>
                <a:chOff x="5638680" y="3886200"/>
                <a:chExt cx="380880" cy="80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638680" y="38862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638680" y="38862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5653800" y="39333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53800" y="39765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53800" y="39333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5667840" y="3949200"/>
                <a:ext cx="99000" cy="38880"/>
                <a:chOff x="5667840" y="3949200"/>
                <a:chExt cx="99000" cy="3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667840" y="3949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667840" y="3949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666760" y="3990960"/>
                <a:ext cx="61920" cy="57960"/>
                <a:chOff x="5666760" y="3990960"/>
                <a:chExt cx="61920" cy="579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666760" y="3990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66760" y="3990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3352680" y="281916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1960" y="4800600"/>
              <a:ext cx="763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352320" y="3809880"/>
              <a:ext cx="304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257800" y="28954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5257800" y="3809880"/>
              <a:ext cx="4572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324120" y="4723920"/>
              <a:ext cx="1522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5200" y="3124080"/>
              <a:ext cx="120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Domain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224.0.0.0/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2160" y="403848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224.0.1.1/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90800" y="55623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18920" y="548640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70000" y="243828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3320" y="243828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9240" y="2971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9240" y="35049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77800" y="34290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1840" y="2971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6920" y="37335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2520" y="4724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82160" y="51051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73240" y="2819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40120" y="28954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6440" y="36576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2240" y="4724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7840" y="502920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3080" y="4038480"/>
              <a:ext cx="122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Domain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224.0.128.0/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ess Allocation among Domai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EF7-6471-4B3F-939D-D64C1EEE4C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C: Mechani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ribution of Address Information via BG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 advertises the group address by prefix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128.0/24 to A3 via BG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address is stored by A3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(224.0.128.0/24, B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 is the next hop from A3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, A2, A4 also store (224.0.128.0/24, A3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 Range allocated to A: 224.0.0.0/1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subsumes B’s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’s border routers need not propagate 224.0.128.0/24 to the other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20B-CE01-4194-9342-5E539D6C75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ke CBT &amp; 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 Domain = Core/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-directional Tree: CB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-Specific Branch: PIM-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-directional Shared Tree of Domai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GMP builds bi-directional group-shared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-specific Branch by a Do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he shortest path to a source does not coincide with the bi-directional tree from the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of the Shared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-domain : by MASC (Group Address Prefix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ra-domain : typically by hashing fun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034-A1CD-4A75-A422-A83A342685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Shared Tree of Domain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920" y="1676520"/>
            <a:ext cx="8556120" cy="3886200"/>
            <a:chOff x="304920" y="1676520"/>
            <a:chExt cx="8556120" cy="3886200"/>
          </a:xfrm>
        </p:grpSpPr>
        <p:sp>
          <p:nvSpPr>
            <p:cNvPr id="531" name=""/>
            <p:cNvSpPr/>
            <p:nvPr/>
          </p:nvSpPr>
          <p:spPr>
            <a:xfrm>
              <a:off x="3352680" y="2362320"/>
              <a:ext cx="1752120" cy="10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76160" y="1676520"/>
              <a:ext cx="144756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81080" y="3505320"/>
              <a:ext cx="1447560" cy="9144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6400" y="1676520"/>
              <a:ext cx="144720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6400" y="3276720"/>
              <a:ext cx="1447200" cy="9144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426708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62160" y="464832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352680" y="2438280"/>
              <a:ext cx="380520" cy="228240"/>
              <a:chOff x="3352680" y="2438280"/>
              <a:chExt cx="380520" cy="22824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353040" y="2467440"/>
                <a:ext cx="240120" cy="199080"/>
                <a:chOff x="3353040" y="2467440"/>
                <a:chExt cx="240120" cy="1990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353040" y="2467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53040" y="2467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593520" y="2474280"/>
                <a:ext cx="138240" cy="192240"/>
                <a:chOff x="3593520" y="2474280"/>
                <a:chExt cx="138240" cy="19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593520" y="2474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93520" y="2474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352680" y="2438280"/>
                <a:ext cx="380520" cy="80280"/>
                <a:chOff x="3352680" y="2438280"/>
                <a:chExt cx="380520" cy="802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352680" y="2438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352680" y="2438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3367800" y="24854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67800" y="25286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67800" y="24854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3381840" y="2501280"/>
                <a:ext cx="99000" cy="38880"/>
                <a:chOff x="3381840" y="2501280"/>
                <a:chExt cx="99000" cy="388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381840" y="2501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381840" y="2501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380760" y="2543040"/>
                <a:ext cx="61920" cy="57960"/>
                <a:chOff x="3380760" y="2543040"/>
                <a:chExt cx="61920" cy="57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380760" y="2543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380760" y="2543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4800600" y="2438280"/>
              <a:ext cx="380520" cy="228240"/>
              <a:chOff x="4800600" y="2438280"/>
              <a:chExt cx="380520" cy="2282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4800960" y="2467440"/>
                <a:ext cx="240120" cy="199080"/>
                <a:chOff x="4800960" y="2467440"/>
                <a:chExt cx="240120" cy="19908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4800960" y="2467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800960" y="2467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5041440" y="2474280"/>
                <a:ext cx="138240" cy="192240"/>
                <a:chOff x="5041440" y="2474280"/>
                <a:chExt cx="138240" cy="192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5041440" y="2474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041440" y="2474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800600" y="2438280"/>
                <a:ext cx="380520" cy="80280"/>
                <a:chOff x="4800600" y="2438280"/>
                <a:chExt cx="380520" cy="802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800600" y="2438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800600" y="2438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4815720" y="24854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15720" y="25286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15720" y="24854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4829760" y="2501280"/>
                <a:ext cx="99000" cy="38880"/>
                <a:chOff x="4829760" y="2501280"/>
                <a:chExt cx="99000" cy="388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829760" y="2501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29760" y="2501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828680" y="2543040"/>
                <a:ext cx="61920" cy="57960"/>
                <a:chOff x="4828680" y="2543040"/>
                <a:chExt cx="61920" cy="579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28680" y="2543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828680" y="2543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3352680" y="3124080"/>
              <a:ext cx="380520" cy="228240"/>
              <a:chOff x="3352680" y="3124080"/>
              <a:chExt cx="380520" cy="2282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3353040" y="3153240"/>
                <a:ext cx="240120" cy="199080"/>
                <a:chOff x="3353040" y="3153240"/>
                <a:chExt cx="240120" cy="1990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353040" y="3153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53040" y="3153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3593520" y="3160080"/>
                <a:ext cx="138240" cy="192240"/>
                <a:chOff x="3593520" y="3160080"/>
                <a:chExt cx="138240" cy="1922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593520" y="3160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593520" y="3160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352680" y="3124080"/>
                <a:ext cx="380520" cy="80280"/>
                <a:chOff x="3352680" y="3124080"/>
                <a:chExt cx="380520" cy="802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352680" y="3124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52680" y="3124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3367800" y="31712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67800" y="32144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67800" y="31712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381840" y="3187080"/>
                <a:ext cx="99000" cy="38880"/>
                <a:chOff x="3381840" y="3187080"/>
                <a:chExt cx="99000" cy="388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381840" y="3187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381840" y="3187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380760" y="3228840"/>
                <a:ext cx="61920" cy="57960"/>
                <a:chOff x="3380760" y="3228840"/>
                <a:chExt cx="61920" cy="57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380760" y="3228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380760" y="3228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5" name=""/>
            <p:cNvGrpSpPr/>
            <p:nvPr/>
          </p:nvGrpSpPr>
          <p:grpSpPr>
            <a:xfrm>
              <a:off x="4800600" y="3124080"/>
              <a:ext cx="380520" cy="228240"/>
              <a:chOff x="4800600" y="3124080"/>
              <a:chExt cx="380520" cy="22824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4800960" y="3153240"/>
                <a:ext cx="240120" cy="199080"/>
                <a:chOff x="4800960" y="3153240"/>
                <a:chExt cx="240120" cy="1990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800960" y="3153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800960" y="3153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041440" y="3160080"/>
                <a:ext cx="138240" cy="192240"/>
                <a:chOff x="5041440" y="3160080"/>
                <a:chExt cx="138240" cy="1922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041440" y="3160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41440" y="3160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800600" y="3124080"/>
                <a:ext cx="380520" cy="80280"/>
                <a:chOff x="4800600" y="3124080"/>
                <a:chExt cx="380520" cy="802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800600" y="3124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800600" y="3124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815720" y="31712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15720" y="32144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15720" y="31712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4829760" y="3187080"/>
                <a:ext cx="99000" cy="38880"/>
                <a:chOff x="4829760" y="3187080"/>
                <a:chExt cx="99000" cy="388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829760" y="3187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829760" y="3187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828680" y="3228840"/>
                <a:ext cx="61920" cy="57960"/>
                <a:chOff x="4828680" y="3228840"/>
                <a:chExt cx="61920" cy="57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28680" y="3228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28680" y="3228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2895480" y="2133720"/>
              <a:ext cx="380520" cy="228240"/>
              <a:chOff x="2895480" y="2133720"/>
              <a:chExt cx="380520" cy="2282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895840" y="2162880"/>
                <a:ext cx="240120" cy="199080"/>
                <a:chOff x="2895840" y="2162880"/>
                <a:chExt cx="240120" cy="1990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895840" y="216288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895840" y="216288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3136320" y="2169720"/>
                <a:ext cx="138240" cy="192240"/>
                <a:chOff x="3136320" y="2169720"/>
                <a:chExt cx="138240" cy="1922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136320" y="216972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136320" y="216972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895480" y="2133720"/>
                <a:ext cx="380520" cy="80280"/>
                <a:chOff x="2895480" y="2133720"/>
                <a:chExt cx="380520" cy="80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2895480" y="213372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895480" y="213372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2910600" y="218088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10600" y="222408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10600" y="218088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2924640" y="2196720"/>
                <a:ext cx="99000" cy="38880"/>
                <a:chOff x="2924640" y="2196720"/>
                <a:chExt cx="99000" cy="3888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924640" y="219672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24640" y="219672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923560" y="2238480"/>
                <a:ext cx="61920" cy="57960"/>
                <a:chOff x="2923560" y="2238480"/>
                <a:chExt cx="61920" cy="579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923560" y="223848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923560" y="223848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3" name=""/>
            <p:cNvGrpSpPr/>
            <p:nvPr/>
          </p:nvGrpSpPr>
          <p:grpSpPr>
            <a:xfrm>
              <a:off x="5410080" y="2209680"/>
              <a:ext cx="380520" cy="228240"/>
              <a:chOff x="5410080" y="2209680"/>
              <a:chExt cx="380520" cy="22824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5410440" y="2238840"/>
                <a:ext cx="240120" cy="199080"/>
                <a:chOff x="5410440" y="2238840"/>
                <a:chExt cx="240120" cy="1990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410440" y="22388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410440" y="22388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5650920" y="2245680"/>
                <a:ext cx="138240" cy="192240"/>
                <a:chOff x="5650920" y="2245680"/>
                <a:chExt cx="138240" cy="19224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5650920" y="22456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650920" y="22456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5410080" y="2209680"/>
                <a:ext cx="380520" cy="80280"/>
                <a:chOff x="5410080" y="2209680"/>
                <a:chExt cx="380520" cy="802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5410080" y="22096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10080" y="22096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5425200" y="22568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25200" y="23000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25200" y="22568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439240" y="2272680"/>
                <a:ext cx="99000" cy="38880"/>
                <a:chOff x="5439240" y="2272680"/>
                <a:chExt cx="99000" cy="388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5439240" y="22726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439240" y="22726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38160" y="2314440"/>
                <a:ext cx="61920" cy="57960"/>
                <a:chOff x="5438160" y="2314440"/>
                <a:chExt cx="61920" cy="579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5438160" y="23144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438160" y="23144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2" name=""/>
            <p:cNvGrpSpPr/>
            <p:nvPr/>
          </p:nvGrpSpPr>
          <p:grpSpPr>
            <a:xfrm>
              <a:off x="2895480" y="3429000"/>
              <a:ext cx="380520" cy="228240"/>
              <a:chOff x="2895480" y="3429000"/>
              <a:chExt cx="380520" cy="22824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2895840" y="3458160"/>
                <a:ext cx="240120" cy="199080"/>
                <a:chOff x="2895840" y="3458160"/>
                <a:chExt cx="240120" cy="1990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2895840" y="3458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895840" y="3458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136320" y="3465000"/>
                <a:ext cx="138240" cy="192240"/>
                <a:chOff x="3136320" y="3465000"/>
                <a:chExt cx="138240" cy="1922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136320" y="3465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36320" y="3465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895480" y="3429000"/>
                <a:ext cx="380520" cy="80280"/>
                <a:chOff x="2895480" y="3429000"/>
                <a:chExt cx="380520" cy="80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895480" y="3429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895480" y="3429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2910600" y="34761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10600" y="35193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10600" y="34761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2924640" y="3492000"/>
                <a:ext cx="99000" cy="38880"/>
                <a:chOff x="2924640" y="3492000"/>
                <a:chExt cx="99000" cy="388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2924640" y="3492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924640" y="3492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923560" y="3533760"/>
                <a:ext cx="61920" cy="57960"/>
                <a:chOff x="2923560" y="3533760"/>
                <a:chExt cx="61920" cy="579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923560" y="3533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23560" y="3533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685800" y="4191120"/>
              <a:ext cx="380520" cy="228240"/>
              <a:chOff x="685800" y="4191120"/>
              <a:chExt cx="380520" cy="2282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686160" y="4220280"/>
                <a:ext cx="240120" cy="199080"/>
                <a:chOff x="686160" y="4220280"/>
                <a:chExt cx="240120" cy="1990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86160" y="422028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6160" y="422028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926640" y="4227120"/>
                <a:ext cx="138240" cy="192240"/>
                <a:chOff x="926640" y="4227120"/>
                <a:chExt cx="138240" cy="1922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926640" y="422712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926640" y="422712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85800" y="4191120"/>
                <a:ext cx="380520" cy="80280"/>
                <a:chOff x="685800" y="4191120"/>
                <a:chExt cx="380520" cy="802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85800" y="419112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85800" y="419112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700920" y="423828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0920" y="428148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920" y="423828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714960" y="4254120"/>
                <a:ext cx="99000" cy="38880"/>
                <a:chOff x="714960" y="4254120"/>
                <a:chExt cx="99000" cy="388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14960" y="425412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14960" y="425412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13880" y="4295880"/>
                <a:ext cx="61920" cy="57960"/>
                <a:chOff x="713880" y="4295880"/>
                <a:chExt cx="61920" cy="579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13880" y="429588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13880" y="429588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0" name=""/>
            <p:cNvGrpSpPr/>
            <p:nvPr/>
          </p:nvGrpSpPr>
          <p:grpSpPr>
            <a:xfrm>
              <a:off x="2209680" y="4267080"/>
              <a:ext cx="380520" cy="228240"/>
              <a:chOff x="2209680" y="4267080"/>
              <a:chExt cx="380520" cy="2282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210040" y="4296240"/>
                <a:ext cx="240120" cy="199080"/>
                <a:chOff x="2210040" y="4296240"/>
                <a:chExt cx="240120" cy="1990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210040" y="4296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210040" y="42962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2450520" y="4303080"/>
                <a:ext cx="138240" cy="192240"/>
                <a:chOff x="2450520" y="4303080"/>
                <a:chExt cx="138240" cy="1922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2450520" y="4303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450520" y="43030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209680" y="4267080"/>
                <a:ext cx="380520" cy="80280"/>
                <a:chOff x="2209680" y="4267080"/>
                <a:chExt cx="380520" cy="802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209680" y="4267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209680" y="42670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2224800" y="43142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224800" y="43574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224800" y="43142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2238840" y="4330080"/>
                <a:ext cx="99000" cy="38880"/>
                <a:chOff x="2238840" y="4330080"/>
                <a:chExt cx="99000" cy="388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238840" y="4330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238840" y="43300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2237760" y="4371840"/>
                <a:ext cx="61920" cy="57960"/>
                <a:chOff x="2237760" y="4371840"/>
                <a:chExt cx="61920" cy="579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237760" y="4371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237760" y="43718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" name=""/>
            <p:cNvGrpSpPr/>
            <p:nvPr/>
          </p:nvGrpSpPr>
          <p:grpSpPr>
            <a:xfrm>
              <a:off x="6019560" y="4038480"/>
              <a:ext cx="380880" cy="228240"/>
              <a:chOff x="6019560" y="4038480"/>
              <a:chExt cx="380880" cy="22824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6019920" y="4067640"/>
                <a:ext cx="240480" cy="199080"/>
                <a:chOff x="6019920" y="4067640"/>
                <a:chExt cx="240480" cy="19908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6019920" y="40676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9920" y="40676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260400" y="4074480"/>
                <a:ext cx="138600" cy="192240"/>
                <a:chOff x="6260400" y="4074480"/>
                <a:chExt cx="138600" cy="19224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260400" y="40744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60400" y="40744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6019560" y="4038480"/>
                <a:ext cx="380880" cy="80280"/>
                <a:chOff x="6019560" y="4038480"/>
                <a:chExt cx="380880" cy="802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6019560" y="403848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019560" y="403848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6034680" y="408564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34680" y="412884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34680" y="408564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6048720" y="4101480"/>
                <a:ext cx="99000" cy="38880"/>
                <a:chOff x="6048720" y="4101480"/>
                <a:chExt cx="99000" cy="388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048720" y="41014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048720" y="41014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6047640" y="4143240"/>
                <a:ext cx="61920" cy="57960"/>
                <a:chOff x="6047640" y="4143240"/>
                <a:chExt cx="61920" cy="5796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047640" y="41432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047640" y="41432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3809880" y="4724280"/>
              <a:ext cx="380520" cy="228240"/>
              <a:chOff x="3809880" y="4724280"/>
              <a:chExt cx="380520" cy="22824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3810240" y="4753440"/>
                <a:ext cx="240120" cy="199080"/>
                <a:chOff x="3810240" y="4753440"/>
                <a:chExt cx="240120" cy="199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810240" y="4753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10240" y="4753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050720" y="4760280"/>
                <a:ext cx="138240" cy="192240"/>
                <a:chOff x="4050720" y="4760280"/>
                <a:chExt cx="138240" cy="1922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4050720" y="4760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50720" y="4760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809880" y="4724280"/>
                <a:ext cx="380520" cy="80280"/>
                <a:chOff x="3809880" y="4724280"/>
                <a:chExt cx="380520" cy="802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809880" y="4724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9880" y="4724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" name=""/>
              <p:cNvSpPr/>
              <p:nvPr/>
            </p:nvSpPr>
            <p:spPr>
              <a:xfrm>
                <a:off x="3825000" y="47714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825000" y="48146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25000" y="47714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3839040" y="4787280"/>
                <a:ext cx="99000" cy="38880"/>
                <a:chOff x="3839040" y="4787280"/>
                <a:chExt cx="99000" cy="388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839040" y="4787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39040" y="4787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837960" y="4829040"/>
                <a:ext cx="61920" cy="57960"/>
                <a:chOff x="3837960" y="4829040"/>
                <a:chExt cx="61920" cy="5796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837960" y="4829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37960" y="4829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7" name=""/>
            <p:cNvGrpSpPr/>
            <p:nvPr/>
          </p:nvGrpSpPr>
          <p:grpSpPr>
            <a:xfrm>
              <a:off x="5486400" y="3352680"/>
              <a:ext cx="380520" cy="228240"/>
              <a:chOff x="5486400" y="3352680"/>
              <a:chExt cx="380520" cy="22824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5486760" y="3381840"/>
                <a:ext cx="240120" cy="199080"/>
                <a:chOff x="5486760" y="3381840"/>
                <a:chExt cx="240120" cy="19908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486760" y="33818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486760" y="33818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5727240" y="3388680"/>
                <a:ext cx="138240" cy="192240"/>
                <a:chOff x="5727240" y="3388680"/>
                <a:chExt cx="138240" cy="192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727240" y="33886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27240" y="33886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486400" y="3352680"/>
                <a:ext cx="380520" cy="80280"/>
                <a:chOff x="5486400" y="3352680"/>
                <a:chExt cx="380520" cy="802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5486400" y="33526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486400" y="33526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5501520" y="33998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01520" y="34430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01520" y="33998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5515560" y="3415680"/>
                <a:ext cx="99000" cy="38880"/>
                <a:chOff x="5515560" y="3415680"/>
                <a:chExt cx="99000" cy="388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5515560" y="34156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515560" y="34156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5514480" y="3457440"/>
                <a:ext cx="61920" cy="57960"/>
                <a:chOff x="5514480" y="3457440"/>
                <a:chExt cx="61920" cy="579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514480" y="34574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14480" y="34574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6" name=""/>
            <p:cNvSpPr/>
            <p:nvPr/>
          </p:nvSpPr>
          <p:spPr>
            <a:xfrm>
              <a:off x="3200400" y="2286000"/>
              <a:ext cx="228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838080" y="2590920"/>
              <a:ext cx="2514240" cy="167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200040" y="3276720"/>
              <a:ext cx="304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5105160" y="2362320"/>
              <a:ext cx="38088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5105160" y="327636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6172200" y="4190760"/>
              <a:ext cx="151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79200" y="2514600"/>
              <a:ext cx="10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Domain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53080" y="3809880"/>
              <a:ext cx="122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224.0.128.0/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16520" y="3733920"/>
              <a:ext cx="88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6560" y="449568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61160" y="48769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7360" y="19051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00680" y="190512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06600" y="2438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06600" y="2971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5520" y="28954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49200" y="2438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44280" y="3200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00200" y="3962520"/>
              <a:ext cx="36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7920" y="403848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20600" y="22860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87480" y="2362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63800" y="3124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49600" y="41911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58320" y="449568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90960" y="487692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6172200" y="4800600"/>
              <a:ext cx="380520" cy="228240"/>
              <a:chOff x="6172200" y="4800600"/>
              <a:chExt cx="380520" cy="22824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6172560" y="4829760"/>
                <a:ext cx="240120" cy="199080"/>
                <a:chOff x="6172560" y="4829760"/>
                <a:chExt cx="240120" cy="19908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6172560" y="48297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172560" y="48297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6413040" y="4836600"/>
                <a:ext cx="138240" cy="192240"/>
                <a:chOff x="6413040" y="4836600"/>
                <a:chExt cx="138240" cy="1922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413040" y="48366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413040" y="48366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6172200" y="4800600"/>
                <a:ext cx="380520" cy="80280"/>
                <a:chOff x="6172200" y="4800600"/>
                <a:chExt cx="380520" cy="8028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6172200" y="48006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172200" y="48006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6187320" y="48477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187320" y="48909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187320" y="48477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6201360" y="4863600"/>
                <a:ext cx="99000" cy="38880"/>
                <a:chOff x="6201360" y="4863600"/>
                <a:chExt cx="99000" cy="3888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201360" y="4863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201360" y="4863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6200280" y="4905360"/>
                <a:ext cx="61920" cy="57960"/>
                <a:chOff x="6200280" y="4905360"/>
                <a:chExt cx="61920" cy="579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200280" y="4905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200280" y="4905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1" name=""/>
            <p:cNvSpPr/>
            <p:nvPr/>
          </p:nvSpPr>
          <p:spPr>
            <a:xfrm>
              <a:off x="5951160" y="510552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02240" y="45720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560" y="4800600"/>
              <a:ext cx="380880" cy="228240"/>
              <a:chOff x="4876560" y="4800600"/>
              <a:chExt cx="380880" cy="22824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4876920" y="4829760"/>
                <a:ext cx="240480" cy="199080"/>
                <a:chOff x="4876920" y="4829760"/>
                <a:chExt cx="240480" cy="1990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4876920" y="4829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876920" y="482976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5117400" y="4836600"/>
                <a:ext cx="138600" cy="192240"/>
                <a:chOff x="5117400" y="4836600"/>
                <a:chExt cx="138600" cy="1922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117400" y="4836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17400" y="483660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4876560" y="4800600"/>
                <a:ext cx="380880" cy="80280"/>
                <a:chOff x="4876560" y="4800600"/>
                <a:chExt cx="380880" cy="8028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4876560" y="48006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876560" y="480060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>
                <a:off x="4891680" y="484776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91680" y="489096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891680" y="484776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4905720" y="4863600"/>
                <a:ext cx="99000" cy="38880"/>
                <a:chOff x="4905720" y="4863600"/>
                <a:chExt cx="99000" cy="3888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4905720" y="4863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905720" y="48636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4904640" y="4905360"/>
                <a:ext cx="61920" cy="57960"/>
                <a:chOff x="4904640" y="4905360"/>
                <a:chExt cx="61920" cy="579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4904640" y="4905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904640" y="49053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2" name=""/>
            <p:cNvGrpSpPr/>
            <p:nvPr/>
          </p:nvGrpSpPr>
          <p:grpSpPr>
            <a:xfrm>
              <a:off x="1295280" y="4572000"/>
              <a:ext cx="380520" cy="228240"/>
              <a:chOff x="1295280" y="4572000"/>
              <a:chExt cx="380520" cy="22824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1295640" y="4601160"/>
                <a:ext cx="240120" cy="199080"/>
                <a:chOff x="1295640" y="4601160"/>
                <a:chExt cx="240120" cy="199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1295640" y="4601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295640" y="4601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536120" y="4608000"/>
                <a:ext cx="138240" cy="192240"/>
                <a:chOff x="1536120" y="4608000"/>
                <a:chExt cx="138240" cy="19224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1536120" y="4608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536120" y="4608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1295280" y="4572000"/>
                <a:ext cx="380520" cy="80280"/>
                <a:chOff x="1295280" y="4572000"/>
                <a:chExt cx="380520" cy="802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1295280" y="4572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295280" y="4572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1310400" y="46191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10400" y="46623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10400" y="46191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1324440" y="4635000"/>
                <a:ext cx="99000" cy="38880"/>
                <a:chOff x="1324440" y="4635000"/>
                <a:chExt cx="99000" cy="38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324440" y="4635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324440" y="4635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1323360" y="4676760"/>
                <a:ext cx="61920" cy="57960"/>
                <a:chOff x="1323360" y="4676760"/>
                <a:chExt cx="61920" cy="5796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1323360" y="4676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323360" y="4676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1" name=""/>
            <p:cNvSpPr/>
            <p:nvPr/>
          </p:nvSpPr>
          <p:spPr>
            <a:xfrm flipH="1">
              <a:off x="1600200" y="4343400"/>
              <a:ext cx="609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14600" y="4419720"/>
              <a:ext cx="129492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77640" y="457200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5160" y="4952880"/>
              <a:ext cx="685440" cy="15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5638680" y="5029200"/>
              <a:ext cx="380520" cy="228240"/>
              <a:chOff x="5638680" y="5029200"/>
              <a:chExt cx="380520" cy="22824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5639040" y="5058360"/>
                <a:ext cx="240120" cy="199080"/>
                <a:chOff x="5639040" y="5058360"/>
                <a:chExt cx="240120" cy="19908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639040" y="50583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639040" y="50583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879520" y="5065200"/>
                <a:ext cx="138240" cy="192240"/>
                <a:chOff x="5879520" y="5065200"/>
                <a:chExt cx="138240" cy="19224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879520" y="50652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879520" y="50652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5638680" y="5029200"/>
                <a:ext cx="380520" cy="80280"/>
                <a:chOff x="5638680" y="5029200"/>
                <a:chExt cx="380520" cy="8028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5638680" y="50292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638680" y="50292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5653800" y="50763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653800" y="51195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53800" y="50763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5667840" y="5092200"/>
                <a:ext cx="99000" cy="38880"/>
                <a:chOff x="5667840" y="5092200"/>
                <a:chExt cx="99000" cy="3888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5667840" y="5092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667840" y="50922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5666760" y="5133960"/>
                <a:ext cx="61920" cy="57960"/>
                <a:chOff x="5666760" y="5133960"/>
                <a:chExt cx="61920" cy="579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666760" y="5133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666760" y="51339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4" name=""/>
            <p:cNvSpPr/>
            <p:nvPr/>
          </p:nvSpPr>
          <p:spPr>
            <a:xfrm>
              <a:off x="5640120" y="48006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52880" y="2361960"/>
              <a:ext cx="380520" cy="152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76920" y="19810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86240" y="251460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13160" y="2514600"/>
              <a:ext cx="1847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-directio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GMP Forwar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17120" y="3733920"/>
              <a:ext cx="12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Root doma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for 224.0.12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5029200" y="3352320"/>
              <a:ext cx="532800" cy="22860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733200" y="3276720"/>
              <a:ext cx="1066680" cy="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200040" y="3352680"/>
              <a:ext cx="380520" cy="30492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6248160" y="3505320"/>
              <a:ext cx="228240" cy="228600"/>
              <a:chOff x="6248160" y="3505320"/>
              <a:chExt cx="228240" cy="22860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6248160" y="3652920"/>
                <a:ext cx="78480" cy="81000"/>
                <a:chOff x="6248160" y="3652920"/>
                <a:chExt cx="78480" cy="810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248160" y="365292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248160" y="365292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6248160" y="3623040"/>
                <a:ext cx="228240" cy="73800"/>
                <a:chOff x="6248160" y="3623040"/>
                <a:chExt cx="228240" cy="738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6248160" y="362304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248160" y="362304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326640" y="3659760"/>
                <a:ext cx="149760" cy="74160"/>
                <a:chOff x="6326640" y="3659760"/>
                <a:chExt cx="149760" cy="741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6326640" y="365976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326640" y="365976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6333480" y="3694680"/>
                <a:ext cx="29880" cy="16920"/>
              </a:xfrm>
              <a:custGeom>
                <a:avLst/>
                <a:gdLst/>
                <a:ahLst/>
                <a:rect l="l" t="t" r="r" b="b"/>
                <a:pathLst>
                  <a:path w="146" h="88">
                    <a:moveTo>
                      <a:pt x="0" y="88"/>
                    </a:moveTo>
                    <a:lnTo>
                      <a:pt x="146" y="50"/>
                    </a:lnTo>
                    <a:lnTo>
                      <a:pt x="146" y="0"/>
                    </a:lnTo>
                    <a:lnTo>
                      <a:pt x="0" y="4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6410160" y="3668400"/>
                <a:ext cx="59040" cy="37440"/>
                <a:chOff x="6410160" y="3668400"/>
                <a:chExt cx="59040" cy="3744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6410520" y="3668400"/>
                  <a:ext cx="58680" cy="37440"/>
                  <a:chOff x="6410520" y="3668400"/>
                  <a:chExt cx="58680" cy="3744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6410520" y="366840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410520" y="366840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 flipH="1">
                  <a:off x="6410160" y="3681360"/>
                  <a:ext cx="5868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431040" y="3688200"/>
                  <a:ext cx="20520" cy="8280"/>
                </a:xfrm>
                <a:custGeom>
                  <a:avLst/>
                  <a:gdLst/>
                  <a:ahLst/>
                  <a:rect l="l" t="t" r="r" b="b"/>
                  <a:pathLst>
                    <a:path w="100" h="44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4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431040" y="367704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100" h="41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6257160" y="3505320"/>
                <a:ext cx="137520" cy="126360"/>
                <a:chOff x="6257160" y="3505320"/>
                <a:chExt cx="137520" cy="12636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6257160" y="350532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  <a:lnTo>
                        <a:pt x="117" y="65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257160" y="350532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6282000" y="3538080"/>
                <a:ext cx="44640" cy="138600"/>
                <a:chOff x="6282000" y="3538080"/>
                <a:chExt cx="44640" cy="13860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6282000" y="353808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282000" y="353808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6282000" y="3509640"/>
                <a:ext cx="185760" cy="51120"/>
                <a:chOff x="6282000" y="3509640"/>
                <a:chExt cx="185760" cy="51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6282000" y="350964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282000" y="350964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6342120" y="3649680"/>
                <a:ext cx="97920" cy="27720"/>
                <a:chOff x="6342120" y="3649680"/>
                <a:chExt cx="97920" cy="277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6342120" y="364968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342120" y="364968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327000" y="3529440"/>
                <a:ext cx="141120" cy="147960"/>
                <a:chOff x="6327000" y="3529440"/>
                <a:chExt cx="141120" cy="14796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327000" y="352944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327000" y="352944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347520" y="3546000"/>
                <a:ext cx="102600" cy="107640"/>
                <a:chOff x="6347520" y="3546000"/>
                <a:chExt cx="102600" cy="1076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6347520" y="354600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347520" y="354600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6351480" y="355356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351480" y="355356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</a:path>
                </a:pathLst>
              </a:custGeom>
              <a:noFill/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361920" y="3577320"/>
                <a:ext cx="8280" cy="2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72000" y="3569400"/>
                <a:ext cx="56880" cy="6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 flipH="1" flipV="1">
              <a:off x="5866920" y="3504960"/>
              <a:ext cx="380520" cy="7596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895480" y="3809880"/>
              <a:ext cx="228240" cy="228600"/>
              <a:chOff x="2895480" y="3809880"/>
              <a:chExt cx="228240" cy="22860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2895480" y="3957480"/>
                <a:ext cx="78480" cy="81000"/>
                <a:chOff x="2895480" y="3957480"/>
                <a:chExt cx="78480" cy="810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895480" y="395748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895480" y="395748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895480" y="3927600"/>
                <a:ext cx="228240" cy="73800"/>
                <a:chOff x="2895480" y="3927600"/>
                <a:chExt cx="228240" cy="7380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2895480" y="392760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895480" y="392760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2973960" y="3964320"/>
                <a:ext cx="149760" cy="74160"/>
                <a:chOff x="2973960" y="3964320"/>
                <a:chExt cx="149760" cy="741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2973960" y="396432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973960" y="396432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2980800" y="3999240"/>
                <a:ext cx="29880" cy="16920"/>
              </a:xfrm>
              <a:custGeom>
                <a:avLst/>
                <a:gdLst/>
                <a:ahLst/>
                <a:rect l="l" t="t" r="r" b="b"/>
                <a:pathLst>
                  <a:path w="146" h="88">
                    <a:moveTo>
                      <a:pt x="0" y="88"/>
                    </a:moveTo>
                    <a:lnTo>
                      <a:pt x="146" y="50"/>
                    </a:lnTo>
                    <a:lnTo>
                      <a:pt x="146" y="0"/>
                    </a:lnTo>
                    <a:lnTo>
                      <a:pt x="0" y="4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3057480" y="3972960"/>
                <a:ext cx="59040" cy="37440"/>
                <a:chOff x="3057480" y="3972960"/>
                <a:chExt cx="59040" cy="37440"/>
              </a:xfrm>
            </p:grpSpPr>
            <p:grpSp>
              <p:nvGrpSpPr>
                <p:cNvPr id="936" name=""/>
                <p:cNvGrpSpPr/>
                <p:nvPr/>
              </p:nvGrpSpPr>
              <p:grpSpPr>
                <a:xfrm>
                  <a:off x="3057840" y="3972960"/>
                  <a:ext cx="58680" cy="37440"/>
                  <a:chOff x="3057840" y="3972960"/>
                  <a:chExt cx="58680" cy="374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057840" y="397296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057840" y="397296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9" name=""/>
                <p:cNvSpPr/>
                <p:nvPr/>
              </p:nvSpPr>
              <p:spPr>
                <a:xfrm flipH="1">
                  <a:off x="3057480" y="3985920"/>
                  <a:ext cx="5868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078360" y="3992760"/>
                  <a:ext cx="20520" cy="8280"/>
                </a:xfrm>
                <a:custGeom>
                  <a:avLst/>
                  <a:gdLst/>
                  <a:ahLst/>
                  <a:rect l="l" t="t" r="r" b="b"/>
                  <a:pathLst>
                    <a:path w="100" h="44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4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078360" y="398160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100" h="41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904480" y="3809880"/>
                <a:ext cx="137520" cy="126360"/>
                <a:chOff x="2904480" y="3809880"/>
                <a:chExt cx="137520" cy="1263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904480" y="380988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  <a:lnTo>
                        <a:pt x="117" y="65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904480" y="380988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2929320" y="3842640"/>
                <a:ext cx="44640" cy="138600"/>
                <a:chOff x="2929320" y="3842640"/>
                <a:chExt cx="44640" cy="1386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2929320" y="384264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929320" y="384264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929320" y="3814200"/>
                <a:ext cx="185760" cy="51120"/>
                <a:chOff x="2929320" y="3814200"/>
                <a:chExt cx="185760" cy="51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2929320" y="381420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929320" y="381420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2989440" y="3954240"/>
                <a:ext cx="97920" cy="27720"/>
                <a:chOff x="2989440" y="3954240"/>
                <a:chExt cx="97920" cy="277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2989440" y="395424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989440" y="395424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2974320" y="3834000"/>
                <a:ext cx="141120" cy="147960"/>
                <a:chOff x="2974320" y="3834000"/>
                <a:chExt cx="141120" cy="14796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2974320" y="383400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974320" y="383400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2994840" y="3850560"/>
                <a:ext cx="102600" cy="107640"/>
                <a:chOff x="2994840" y="3850560"/>
                <a:chExt cx="102600" cy="107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2994840" y="385056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994840" y="385056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2998800" y="385812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998800" y="385812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</a:path>
                </a:pathLst>
              </a:custGeom>
              <a:noFill/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09240" y="3881880"/>
                <a:ext cx="8280" cy="2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19320" y="3873960"/>
                <a:ext cx="56880" cy="6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 flipH="1">
              <a:off x="2971800" y="3581280"/>
              <a:ext cx="75600" cy="22860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6248160" y="2209680"/>
              <a:ext cx="228240" cy="228600"/>
              <a:chOff x="6248160" y="2209680"/>
              <a:chExt cx="228240" cy="22860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6248160" y="2357280"/>
                <a:ext cx="78480" cy="81000"/>
                <a:chOff x="6248160" y="2357280"/>
                <a:chExt cx="78480" cy="81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248160" y="235728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248160" y="235728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6248160" y="2327400"/>
                <a:ext cx="228240" cy="73800"/>
                <a:chOff x="6248160" y="2327400"/>
                <a:chExt cx="228240" cy="738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6248160" y="232740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248160" y="232740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6326640" y="2364120"/>
                <a:ext cx="149760" cy="74160"/>
                <a:chOff x="6326640" y="2364120"/>
                <a:chExt cx="149760" cy="7416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6326640" y="236412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326640" y="236412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" name=""/>
              <p:cNvSpPr/>
              <p:nvPr/>
            </p:nvSpPr>
            <p:spPr>
              <a:xfrm>
                <a:off x="6333480" y="2399040"/>
                <a:ext cx="29880" cy="16920"/>
              </a:xfrm>
              <a:custGeom>
                <a:avLst/>
                <a:gdLst/>
                <a:ahLst/>
                <a:rect l="l" t="t" r="r" b="b"/>
                <a:pathLst>
                  <a:path w="146" h="88">
                    <a:moveTo>
                      <a:pt x="0" y="88"/>
                    </a:moveTo>
                    <a:lnTo>
                      <a:pt x="146" y="50"/>
                    </a:lnTo>
                    <a:lnTo>
                      <a:pt x="146" y="0"/>
                    </a:lnTo>
                    <a:lnTo>
                      <a:pt x="0" y="4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6410160" y="2372760"/>
                <a:ext cx="59040" cy="37440"/>
                <a:chOff x="6410160" y="2372760"/>
                <a:chExt cx="59040" cy="3744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6410520" y="2372760"/>
                  <a:ext cx="58680" cy="37440"/>
                  <a:chOff x="6410520" y="2372760"/>
                  <a:chExt cx="58680" cy="3744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6410520" y="237276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410520" y="237276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0" name=""/>
                <p:cNvSpPr/>
                <p:nvPr/>
              </p:nvSpPr>
              <p:spPr>
                <a:xfrm flipH="1">
                  <a:off x="6410160" y="2385720"/>
                  <a:ext cx="5868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431040" y="2392560"/>
                  <a:ext cx="20520" cy="8280"/>
                </a:xfrm>
                <a:custGeom>
                  <a:avLst/>
                  <a:gdLst/>
                  <a:ahLst/>
                  <a:rect l="l" t="t" r="r" b="b"/>
                  <a:pathLst>
                    <a:path w="100" h="44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4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431040" y="238140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100" h="41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6257160" y="2209680"/>
                <a:ext cx="137520" cy="126360"/>
                <a:chOff x="6257160" y="2209680"/>
                <a:chExt cx="137520" cy="12636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257160" y="220968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  <a:lnTo>
                        <a:pt x="117" y="65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257160" y="220968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6282000" y="2242440"/>
                <a:ext cx="44640" cy="138600"/>
                <a:chOff x="6282000" y="2242440"/>
                <a:chExt cx="44640" cy="1386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6282000" y="224244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282000" y="224244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6282000" y="2214000"/>
                <a:ext cx="185760" cy="51120"/>
                <a:chOff x="6282000" y="2214000"/>
                <a:chExt cx="185760" cy="511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282000" y="221400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282000" y="221400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342120" y="2354040"/>
                <a:ext cx="97920" cy="27720"/>
                <a:chOff x="6342120" y="2354040"/>
                <a:chExt cx="97920" cy="277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342120" y="235404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342120" y="235404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327000" y="2233800"/>
                <a:ext cx="141120" cy="147960"/>
                <a:chOff x="6327000" y="2233800"/>
                <a:chExt cx="141120" cy="1479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327000" y="223380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327000" y="223380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347520" y="2250360"/>
                <a:ext cx="102600" cy="107640"/>
                <a:chOff x="6347520" y="2250360"/>
                <a:chExt cx="102600" cy="1076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347520" y="225036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347520" y="225036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6351480" y="225792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351480" y="225792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</a:path>
                </a:pathLst>
              </a:custGeom>
              <a:noFill/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361920" y="2281680"/>
                <a:ext cx="8280" cy="2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372000" y="2273760"/>
                <a:ext cx="56880" cy="6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5790960" y="2286000"/>
              <a:ext cx="456840" cy="763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96360" y="480060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EAA-F37E-4217-8FC8-B6EB9A023D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rce Specific Multicast (SSM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e Promising Solution for M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to Source: like CBT, PIM-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o Bootstrap mechanism (RP broadcast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ing unicast routing table: by Join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o multicast routing tabl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DVMRP, MOSPF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multicast address allocation (No MAA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is not necessary to be “unique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ke Simp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Core us used : No SM hea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cerns (?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support of shared tree (real concern 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C4B-8A19-40C0-B5E3-E74C8F003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Shared Tree of Domain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stablish a Bi-directional Shared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group is created by a host in domain B (224.0.128.1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n a host in domain C now joins this group, a join request is received from the MIGP by the BGMP of C1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 finds (224.0.0.0/16, A2) in G-RIB, and creates a forwarding entry (*, G) with target list (A2, MIGP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creating the (*, G) for 224.0.128.1, C1 sends a group join message A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 finds (224.0.128.0/24, A3) in G-RIB, and then establishes a (*, G) with (A3, C1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 transmits the join request to its MIGP (A2-&gt;A3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3 finds (224.0.128.0/24, B1) in G-RIB, creates a (*, G) with (B1, A2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1 is a root domain, so creates a (*, G) entry with (MIGP, A3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108-A072-4514-995F-5B3B1ADC29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Source-Specific Branch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57200" y="1828800"/>
            <a:ext cx="8556120" cy="3705480"/>
            <a:chOff x="457200" y="1828800"/>
            <a:chExt cx="8556120" cy="3705480"/>
          </a:xfrm>
        </p:grpSpPr>
        <p:sp>
          <p:nvSpPr>
            <p:cNvPr id="1011" name=""/>
            <p:cNvSpPr/>
            <p:nvPr/>
          </p:nvSpPr>
          <p:spPr>
            <a:xfrm>
              <a:off x="3504960" y="2514600"/>
              <a:ext cx="1752120" cy="10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28440" y="1828800"/>
              <a:ext cx="1447560" cy="9144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33360" y="3657600"/>
              <a:ext cx="144756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38680" y="1828800"/>
              <a:ext cx="144720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638680" y="3429000"/>
              <a:ext cx="1447200" cy="9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7200" y="4419360"/>
              <a:ext cx="1066680" cy="6858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14440" y="4800600"/>
              <a:ext cx="106668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504960" y="2590560"/>
              <a:ext cx="380520" cy="228240"/>
              <a:chOff x="3504960" y="2590560"/>
              <a:chExt cx="380520" cy="22824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3505320" y="2619720"/>
                <a:ext cx="240120" cy="199080"/>
                <a:chOff x="3505320" y="2619720"/>
                <a:chExt cx="240120" cy="199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505320" y="2619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505320" y="2619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3745800" y="2626560"/>
                <a:ext cx="138240" cy="192240"/>
                <a:chOff x="3745800" y="2626560"/>
                <a:chExt cx="138240" cy="1922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745800" y="2626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745800" y="2626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3504960" y="2590560"/>
                <a:ext cx="380520" cy="80280"/>
                <a:chOff x="3504960" y="2590560"/>
                <a:chExt cx="380520" cy="802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3504960" y="2590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504960" y="2590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3520080" y="26377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20080" y="26809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20080" y="26377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3534120" y="2653560"/>
                <a:ext cx="99000" cy="38880"/>
                <a:chOff x="3534120" y="2653560"/>
                <a:chExt cx="99000" cy="3888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3534120" y="2653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534120" y="2653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533040" y="2695320"/>
                <a:ext cx="61920" cy="57960"/>
                <a:chOff x="3533040" y="2695320"/>
                <a:chExt cx="61920" cy="5796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533040" y="2695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533040" y="2695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4952880" y="2590560"/>
              <a:ext cx="380520" cy="228240"/>
              <a:chOff x="4952880" y="2590560"/>
              <a:chExt cx="380520" cy="22824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4953240" y="2619720"/>
                <a:ext cx="240120" cy="199080"/>
                <a:chOff x="4953240" y="2619720"/>
                <a:chExt cx="240120" cy="1990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953240" y="2619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953240" y="2619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193720" y="2626560"/>
                <a:ext cx="138240" cy="192240"/>
                <a:chOff x="5193720" y="2626560"/>
                <a:chExt cx="138240" cy="1922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5193720" y="2626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193720" y="2626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52880" y="2590560"/>
                <a:ext cx="380520" cy="80280"/>
                <a:chOff x="4952880" y="2590560"/>
                <a:chExt cx="380520" cy="802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952880" y="2590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52880" y="2590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" name=""/>
              <p:cNvSpPr/>
              <p:nvPr/>
            </p:nvSpPr>
            <p:spPr>
              <a:xfrm>
                <a:off x="4968000" y="26377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968000" y="26809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968000" y="26377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4982040" y="2653560"/>
                <a:ext cx="99000" cy="38880"/>
                <a:chOff x="4982040" y="2653560"/>
                <a:chExt cx="99000" cy="388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4982040" y="2653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82040" y="2653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4980960" y="2695320"/>
                <a:ext cx="61920" cy="57960"/>
                <a:chOff x="4980960" y="2695320"/>
                <a:chExt cx="61920" cy="579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980960" y="2695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980960" y="2695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3504960" y="3276360"/>
              <a:ext cx="380520" cy="228240"/>
              <a:chOff x="3504960" y="3276360"/>
              <a:chExt cx="380520" cy="22824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3505320" y="3305520"/>
                <a:ext cx="240120" cy="199080"/>
                <a:chOff x="3505320" y="3305520"/>
                <a:chExt cx="240120" cy="1990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505320" y="3305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505320" y="3305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3745800" y="3312360"/>
                <a:ext cx="138240" cy="192240"/>
                <a:chOff x="3745800" y="3312360"/>
                <a:chExt cx="138240" cy="19224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745800" y="3312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45800" y="3312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3504960" y="3276360"/>
                <a:ext cx="380520" cy="80280"/>
                <a:chOff x="3504960" y="3276360"/>
                <a:chExt cx="380520" cy="802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3504960" y="3276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504960" y="3276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3520080" y="33235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520080" y="33667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520080" y="33235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9" name=""/>
              <p:cNvGrpSpPr/>
              <p:nvPr/>
            </p:nvGrpSpPr>
            <p:grpSpPr>
              <a:xfrm>
                <a:off x="3534120" y="3339360"/>
                <a:ext cx="99000" cy="38880"/>
                <a:chOff x="3534120" y="3339360"/>
                <a:chExt cx="99000" cy="388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3534120" y="3339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534120" y="3339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533040" y="3381120"/>
                <a:ext cx="61920" cy="57960"/>
                <a:chOff x="3533040" y="3381120"/>
                <a:chExt cx="61920" cy="5796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3533040" y="3381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533040" y="3381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5" name=""/>
            <p:cNvGrpSpPr/>
            <p:nvPr/>
          </p:nvGrpSpPr>
          <p:grpSpPr>
            <a:xfrm>
              <a:off x="4952880" y="3276360"/>
              <a:ext cx="380520" cy="228240"/>
              <a:chOff x="4952880" y="3276360"/>
              <a:chExt cx="380520" cy="22824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4953240" y="3305520"/>
                <a:ext cx="240120" cy="199080"/>
                <a:chOff x="4953240" y="3305520"/>
                <a:chExt cx="240120" cy="199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953240" y="3305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953240" y="3305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5193720" y="3312360"/>
                <a:ext cx="138240" cy="192240"/>
                <a:chOff x="5193720" y="3312360"/>
                <a:chExt cx="138240" cy="19224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5193720" y="3312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193720" y="3312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4952880" y="3276360"/>
                <a:ext cx="380520" cy="80280"/>
                <a:chOff x="4952880" y="3276360"/>
                <a:chExt cx="380520" cy="802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4952880" y="3276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952880" y="3276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"/>
              <p:cNvSpPr/>
              <p:nvPr/>
            </p:nvSpPr>
            <p:spPr>
              <a:xfrm>
                <a:off x="4968000" y="33235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968000" y="33667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968000" y="33235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8" name=""/>
              <p:cNvGrpSpPr/>
              <p:nvPr/>
            </p:nvGrpSpPr>
            <p:grpSpPr>
              <a:xfrm>
                <a:off x="4982040" y="3339360"/>
                <a:ext cx="99000" cy="38880"/>
                <a:chOff x="4982040" y="3339360"/>
                <a:chExt cx="99000" cy="388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4982040" y="3339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982040" y="3339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4980960" y="3381120"/>
                <a:ext cx="61920" cy="57960"/>
                <a:chOff x="4980960" y="3381120"/>
                <a:chExt cx="61920" cy="579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4980960" y="3381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980960" y="3381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3047760" y="2286000"/>
              <a:ext cx="380520" cy="228240"/>
              <a:chOff x="3047760" y="2286000"/>
              <a:chExt cx="380520" cy="22824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3048120" y="2315160"/>
                <a:ext cx="240120" cy="199080"/>
                <a:chOff x="3048120" y="2315160"/>
                <a:chExt cx="240120" cy="1990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048120" y="2315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48120" y="23151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3288600" y="2322000"/>
                <a:ext cx="138240" cy="192240"/>
                <a:chOff x="3288600" y="2322000"/>
                <a:chExt cx="138240" cy="1922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3288600" y="2322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288600" y="23220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3047760" y="2286000"/>
                <a:ext cx="380520" cy="80280"/>
                <a:chOff x="3047760" y="2286000"/>
                <a:chExt cx="380520" cy="802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47760" y="2286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47760" y="22860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4" name=""/>
              <p:cNvSpPr/>
              <p:nvPr/>
            </p:nvSpPr>
            <p:spPr>
              <a:xfrm>
                <a:off x="3062880" y="23331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62880" y="23763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62880" y="23331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3076920" y="2349000"/>
                <a:ext cx="99000" cy="38880"/>
                <a:chOff x="3076920" y="2349000"/>
                <a:chExt cx="99000" cy="388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3076920" y="2349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076920" y="23490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075840" y="2390760"/>
                <a:ext cx="61920" cy="57960"/>
                <a:chOff x="3075840" y="2390760"/>
                <a:chExt cx="61920" cy="5796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3075840" y="2390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075840" y="23907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"/>
            <p:cNvGrpSpPr/>
            <p:nvPr/>
          </p:nvGrpSpPr>
          <p:grpSpPr>
            <a:xfrm>
              <a:off x="5562360" y="2361960"/>
              <a:ext cx="380520" cy="228240"/>
              <a:chOff x="5562360" y="2361960"/>
              <a:chExt cx="380520" cy="22824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5562720" y="2391120"/>
                <a:ext cx="240120" cy="199080"/>
                <a:chOff x="5562720" y="2391120"/>
                <a:chExt cx="240120" cy="1990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5562720" y="23911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562720" y="23911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5803200" y="2397960"/>
                <a:ext cx="138240" cy="192240"/>
                <a:chOff x="5803200" y="2397960"/>
                <a:chExt cx="138240" cy="19224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5803200" y="23979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803200" y="23979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562360" y="2361960"/>
                <a:ext cx="380520" cy="80280"/>
                <a:chOff x="5562360" y="2361960"/>
                <a:chExt cx="380520" cy="8028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5562360" y="23619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562360" y="23619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3" name=""/>
              <p:cNvSpPr/>
              <p:nvPr/>
            </p:nvSpPr>
            <p:spPr>
              <a:xfrm>
                <a:off x="5577480" y="24091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577480" y="24523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577480" y="24091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5591520" y="2424960"/>
                <a:ext cx="99000" cy="38880"/>
                <a:chOff x="5591520" y="2424960"/>
                <a:chExt cx="99000" cy="388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5591520" y="2424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591520" y="2424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5590440" y="2466720"/>
                <a:ext cx="61920" cy="57960"/>
                <a:chOff x="5590440" y="2466720"/>
                <a:chExt cx="61920" cy="579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5590440" y="2466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590440" y="2466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"/>
            <p:cNvGrpSpPr/>
            <p:nvPr/>
          </p:nvGrpSpPr>
          <p:grpSpPr>
            <a:xfrm>
              <a:off x="3047760" y="3581280"/>
              <a:ext cx="380520" cy="228240"/>
              <a:chOff x="3047760" y="3581280"/>
              <a:chExt cx="380520" cy="22824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3048120" y="3610440"/>
                <a:ext cx="240120" cy="199080"/>
                <a:chOff x="3048120" y="3610440"/>
                <a:chExt cx="240120" cy="199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048120" y="3610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048120" y="3610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288600" y="3617280"/>
                <a:ext cx="138240" cy="192240"/>
                <a:chOff x="3288600" y="3617280"/>
                <a:chExt cx="138240" cy="19224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288600" y="3617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288600" y="3617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047760" y="3581280"/>
                <a:ext cx="380520" cy="80280"/>
                <a:chOff x="3047760" y="3581280"/>
                <a:chExt cx="380520" cy="802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047760" y="3581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047760" y="3581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3062880" y="36284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062880" y="36716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062880" y="36284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3076920" y="3644280"/>
                <a:ext cx="99000" cy="38880"/>
                <a:chOff x="3076920" y="3644280"/>
                <a:chExt cx="99000" cy="388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076920" y="3644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076920" y="3644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075840" y="3686040"/>
                <a:ext cx="61920" cy="57960"/>
                <a:chOff x="3075840" y="3686040"/>
                <a:chExt cx="61920" cy="579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075840" y="3686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075840" y="3686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1" name=""/>
            <p:cNvGrpSpPr/>
            <p:nvPr/>
          </p:nvGrpSpPr>
          <p:grpSpPr>
            <a:xfrm>
              <a:off x="838080" y="4343400"/>
              <a:ext cx="380520" cy="228240"/>
              <a:chOff x="838080" y="4343400"/>
              <a:chExt cx="380520" cy="228240"/>
            </a:xfrm>
          </p:grpSpPr>
          <p:grpSp>
            <p:nvGrpSpPr>
              <p:cNvPr id="1152" name=""/>
              <p:cNvGrpSpPr/>
              <p:nvPr/>
            </p:nvGrpSpPr>
            <p:grpSpPr>
              <a:xfrm>
                <a:off x="838440" y="4372560"/>
                <a:ext cx="240120" cy="199080"/>
                <a:chOff x="838440" y="4372560"/>
                <a:chExt cx="240120" cy="199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838440" y="43725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38440" y="437256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1078920" y="4379400"/>
                <a:ext cx="138240" cy="192240"/>
                <a:chOff x="1078920" y="4379400"/>
                <a:chExt cx="138240" cy="19224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078920" y="43794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078920" y="437940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838080" y="4343400"/>
                <a:ext cx="380520" cy="80280"/>
                <a:chOff x="838080" y="4343400"/>
                <a:chExt cx="380520" cy="8028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838080" y="43434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38080" y="434340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>
                <a:off x="853200" y="439056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3200" y="443376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53200" y="439056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867240" y="4406400"/>
                <a:ext cx="99000" cy="38880"/>
                <a:chOff x="867240" y="4406400"/>
                <a:chExt cx="99000" cy="3888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867240" y="44064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67240" y="440640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866160" y="4448160"/>
                <a:ext cx="61920" cy="57960"/>
                <a:chOff x="866160" y="4448160"/>
                <a:chExt cx="61920" cy="579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866160" y="44481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66160" y="444816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0" name=""/>
            <p:cNvGrpSpPr/>
            <p:nvPr/>
          </p:nvGrpSpPr>
          <p:grpSpPr>
            <a:xfrm>
              <a:off x="2361960" y="4419360"/>
              <a:ext cx="380520" cy="228240"/>
              <a:chOff x="2361960" y="4419360"/>
              <a:chExt cx="380520" cy="228240"/>
            </a:xfrm>
          </p:grpSpPr>
          <p:grpSp>
            <p:nvGrpSpPr>
              <p:cNvPr id="1171" name=""/>
              <p:cNvGrpSpPr/>
              <p:nvPr/>
            </p:nvGrpSpPr>
            <p:grpSpPr>
              <a:xfrm>
                <a:off x="2362320" y="4448520"/>
                <a:ext cx="240120" cy="199080"/>
                <a:chOff x="2362320" y="4448520"/>
                <a:chExt cx="240120" cy="19908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362320" y="4448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362320" y="44485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2602800" y="4455360"/>
                <a:ext cx="138240" cy="192240"/>
                <a:chOff x="2602800" y="4455360"/>
                <a:chExt cx="138240" cy="19224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2602800" y="4455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602800" y="44553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2361960" y="4419360"/>
                <a:ext cx="380520" cy="80280"/>
                <a:chOff x="2361960" y="4419360"/>
                <a:chExt cx="380520" cy="802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2361960" y="4419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361960" y="44193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0" name=""/>
              <p:cNvSpPr/>
              <p:nvPr/>
            </p:nvSpPr>
            <p:spPr>
              <a:xfrm>
                <a:off x="2377080" y="44665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377080" y="45097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377080" y="44665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2391120" y="4482360"/>
                <a:ext cx="99000" cy="38880"/>
                <a:chOff x="2391120" y="4482360"/>
                <a:chExt cx="99000" cy="3888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2391120" y="4482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391120" y="44823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2390040" y="4524120"/>
                <a:ext cx="61920" cy="57960"/>
                <a:chOff x="2390040" y="4524120"/>
                <a:chExt cx="61920" cy="5796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2390040" y="4524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390040" y="45241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9" name=""/>
            <p:cNvGrpSpPr/>
            <p:nvPr/>
          </p:nvGrpSpPr>
          <p:grpSpPr>
            <a:xfrm>
              <a:off x="6171840" y="4190760"/>
              <a:ext cx="380880" cy="228240"/>
              <a:chOff x="6171840" y="4190760"/>
              <a:chExt cx="380880" cy="22824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6172200" y="4219920"/>
                <a:ext cx="240480" cy="199080"/>
                <a:chOff x="6172200" y="4219920"/>
                <a:chExt cx="240480" cy="19908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6172200" y="42199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172200" y="421992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6412680" y="4226760"/>
                <a:ext cx="138600" cy="192240"/>
                <a:chOff x="6412680" y="4226760"/>
                <a:chExt cx="138600" cy="1922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6412680" y="42267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412680" y="422676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6171840" y="4190760"/>
                <a:ext cx="380880" cy="80280"/>
                <a:chOff x="6171840" y="4190760"/>
                <a:chExt cx="380880" cy="802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6171840" y="419076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171840" y="419076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>
                <a:off x="6186960" y="423792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86960" y="428112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86960" y="423792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2" name=""/>
              <p:cNvGrpSpPr/>
              <p:nvPr/>
            </p:nvGrpSpPr>
            <p:grpSpPr>
              <a:xfrm>
                <a:off x="6201000" y="4253760"/>
                <a:ext cx="99000" cy="38880"/>
                <a:chOff x="6201000" y="4253760"/>
                <a:chExt cx="99000" cy="388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6201000" y="42537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201000" y="42537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199920" y="4295520"/>
                <a:ext cx="61920" cy="57960"/>
                <a:chOff x="6199920" y="4295520"/>
                <a:chExt cx="61920" cy="5796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199920" y="42955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199920" y="42955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"/>
            <p:cNvGrpSpPr/>
            <p:nvPr/>
          </p:nvGrpSpPr>
          <p:grpSpPr>
            <a:xfrm>
              <a:off x="3962160" y="4876560"/>
              <a:ext cx="380520" cy="228240"/>
              <a:chOff x="3962160" y="4876560"/>
              <a:chExt cx="380520" cy="228240"/>
            </a:xfrm>
          </p:grpSpPr>
          <p:grpSp>
            <p:nvGrpSpPr>
              <p:cNvPr id="1209" name=""/>
              <p:cNvGrpSpPr/>
              <p:nvPr/>
            </p:nvGrpSpPr>
            <p:grpSpPr>
              <a:xfrm>
                <a:off x="3962520" y="4905720"/>
                <a:ext cx="240120" cy="199080"/>
                <a:chOff x="3962520" y="4905720"/>
                <a:chExt cx="240120" cy="1990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3962520" y="4905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962520" y="49057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203000" y="4912560"/>
                <a:ext cx="138240" cy="192240"/>
                <a:chOff x="4203000" y="4912560"/>
                <a:chExt cx="138240" cy="19224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203000" y="4912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203000" y="49125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962160" y="4876560"/>
                <a:ext cx="380520" cy="80280"/>
                <a:chOff x="3962160" y="4876560"/>
                <a:chExt cx="380520" cy="802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3962160" y="4876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962160" y="48765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"/>
              <p:cNvSpPr/>
              <p:nvPr/>
            </p:nvSpPr>
            <p:spPr>
              <a:xfrm>
                <a:off x="3977280" y="49237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977280" y="49669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977280" y="49237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1" name=""/>
              <p:cNvGrpSpPr/>
              <p:nvPr/>
            </p:nvGrpSpPr>
            <p:grpSpPr>
              <a:xfrm>
                <a:off x="3991320" y="4939560"/>
                <a:ext cx="99000" cy="38880"/>
                <a:chOff x="3991320" y="4939560"/>
                <a:chExt cx="99000" cy="388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3991320" y="4939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91320" y="49395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3990240" y="4981320"/>
                <a:ext cx="61920" cy="57960"/>
                <a:chOff x="3990240" y="4981320"/>
                <a:chExt cx="61920" cy="579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3990240" y="4981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990240" y="49813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7" name=""/>
            <p:cNvGrpSpPr/>
            <p:nvPr/>
          </p:nvGrpSpPr>
          <p:grpSpPr>
            <a:xfrm>
              <a:off x="5638680" y="3504960"/>
              <a:ext cx="380520" cy="228240"/>
              <a:chOff x="5638680" y="3504960"/>
              <a:chExt cx="380520" cy="22824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5639040" y="3534120"/>
                <a:ext cx="240120" cy="199080"/>
                <a:chOff x="5639040" y="3534120"/>
                <a:chExt cx="240120" cy="199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5639040" y="35341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639040" y="353412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879520" y="3540960"/>
                <a:ext cx="138240" cy="192240"/>
                <a:chOff x="5879520" y="3540960"/>
                <a:chExt cx="138240" cy="19224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5879520" y="35409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879520" y="354096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5638680" y="3504960"/>
                <a:ext cx="380520" cy="80280"/>
                <a:chOff x="5638680" y="3504960"/>
                <a:chExt cx="380520" cy="8028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5638680" y="35049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5638680" y="350496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7" name=""/>
              <p:cNvSpPr/>
              <p:nvPr/>
            </p:nvSpPr>
            <p:spPr>
              <a:xfrm>
                <a:off x="5653800" y="355212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53800" y="359532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653800" y="355212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667840" y="3567960"/>
                <a:ext cx="99000" cy="38880"/>
                <a:chOff x="5667840" y="3567960"/>
                <a:chExt cx="99000" cy="3888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667840" y="3567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667840" y="356796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5666760" y="3609720"/>
                <a:ext cx="61920" cy="57960"/>
                <a:chOff x="5666760" y="3609720"/>
                <a:chExt cx="61920" cy="579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666760" y="3609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666760" y="360972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6" name=""/>
            <p:cNvSpPr/>
            <p:nvPr/>
          </p:nvSpPr>
          <p:spPr>
            <a:xfrm>
              <a:off x="3352680" y="2438280"/>
              <a:ext cx="228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1142640" y="2666520"/>
              <a:ext cx="2438280" cy="16002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3352320" y="3429000"/>
              <a:ext cx="304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257440" y="2514600"/>
              <a:ext cx="38088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 flipV="1">
              <a:off x="5257440" y="342864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 flipV="1">
              <a:off x="6324480" y="4343040"/>
              <a:ext cx="151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31480" y="2743200"/>
              <a:ext cx="10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Domain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81320" y="3809880"/>
              <a:ext cx="122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224.0.128.0/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68800" y="3657600"/>
              <a:ext cx="88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18840" y="4647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13440" y="502920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69640" y="205740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52960" y="205740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58880" y="25905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8880" y="3124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77800" y="30477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201480" y="25905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96560" y="33526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52480" y="4114800"/>
              <a:ext cx="36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10200" y="411480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72880" y="2438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639760" y="2514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16080" y="3276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01880" y="434340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810600" y="464796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324480" y="4952880"/>
              <a:ext cx="380520" cy="228240"/>
              <a:chOff x="6324480" y="4952880"/>
              <a:chExt cx="380520" cy="228240"/>
            </a:xfrm>
          </p:grpSpPr>
          <p:grpSp>
            <p:nvGrpSpPr>
              <p:cNvPr id="1272" name=""/>
              <p:cNvGrpSpPr/>
              <p:nvPr/>
            </p:nvGrpSpPr>
            <p:grpSpPr>
              <a:xfrm>
                <a:off x="6324840" y="4982040"/>
                <a:ext cx="240120" cy="199080"/>
                <a:chOff x="6324840" y="4982040"/>
                <a:chExt cx="240120" cy="1990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6324840" y="49820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324840" y="49820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565320" y="4988880"/>
                <a:ext cx="138240" cy="192240"/>
                <a:chOff x="6565320" y="4988880"/>
                <a:chExt cx="138240" cy="19224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565320" y="49888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565320" y="49888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6324480" y="4952880"/>
                <a:ext cx="380520" cy="80280"/>
                <a:chOff x="6324480" y="4952880"/>
                <a:chExt cx="380520" cy="802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6324480" y="49528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324480" y="49528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6339600" y="50000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339600" y="50432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339600" y="50000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6353640" y="5015880"/>
                <a:ext cx="99000" cy="38880"/>
                <a:chOff x="6353640" y="5015880"/>
                <a:chExt cx="99000" cy="388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6353640" y="5015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353640" y="5015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2560" y="5057640"/>
                <a:ext cx="61920" cy="57960"/>
                <a:chOff x="6352560" y="5057640"/>
                <a:chExt cx="61920" cy="579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2560" y="5057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2560" y="5057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0" name=""/>
            <p:cNvSpPr/>
            <p:nvPr/>
          </p:nvSpPr>
          <p:spPr>
            <a:xfrm>
              <a:off x="6103440" y="525780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Domain 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554520" y="4724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5028840" y="4952880"/>
              <a:ext cx="380880" cy="228240"/>
              <a:chOff x="5028840" y="4952880"/>
              <a:chExt cx="380880" cy="228240"/>
            </a:xfrm>
          </p:grpSpPr>
          <p:grpSp>
            <p:nvGrpSpPr>
              <p:cNvPr id="1293" name=""/>
              <p:cNvGrpSpPr/>
              <p:nvPr/>
            </p:nvGrpSpPr>
            <p:grpSpPr>
              <a:xfrm>
                <a:off x="5029200" y="4982040"/>
                <a:ext cx="240480" cy="199080"/>
                <a:chOff x="5029200" y="4982040"/>
                <a:chExt cx="240480" cy="1990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5029200" y="49820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029200" y="4982040"/>
                  <a:ext cx="24048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5269680" y="4988880"/>
                <a:ext cx="138600" cy="192240"/>
                <a:chOff x="5269680" y="4988880"/>
                <a:chExt cx="138600" cy="19224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5269680" y="49888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269680" y="4988880"/>
                  <a:ext cx="13860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5028840" y="4952880"/>
                <a:ext cx="380880" cy="80280"/>
                <a:chOff x="5028840" y="4952880"/>
                <a:chExt cx="380880" cy="802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5028840" y="495288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028840" y="4952880"/>
                  <a:ext cx="38088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>
                <a:off x="5043960" y="5000040"/>
                <a:ext cx="20304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043960" y="5043240"/>
                <a:ext cx="20304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043960" y="5000040"/>
                <a:ext cx="20196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5" name=""/>
              <p:cNvGrpSpPr/>
              <p:nvPr/>
            </p:nvGrpSpPr>
            <p:grpSpPr>
              <a:xfrm>
                <a:off x="5058000" y="5015880"/>
                <a:ext cx="99000" cy="38880"/>
                <a:chOff x="5058000" y="5015880"/>
                <a:chExt cx="99000" cy="3888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5058000" y="5015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5058000" y="50158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5056920" y="5057640"/>
                <a:ext cx="61920" cy="57960"/>
                <a:chOff x="5056920" y="5057640"/>
                <a:chExt cx="61920" cy="579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5056920" y="5057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056920" y="50576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1" name=""/>
            <p:cNvGrpSpPr/>
            <p:nvPr/>
          </p:nvGrpSpPr>
          <p:grpSpPr>
            <a:xfrm>
              <a:off x="1447560" y="4724280"/>
              <a:ext cx="380520" cy="228240"/>
              <a:chOff x="1447560" y="4724280"/>
              <a:chExt cx="380520" cy="22824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1447920" y="4753440"/>
                <a:ext cx="240120" cy="199080"/>
                <a:chOff x="1447920" y="4753440"/>
                <a:chExt cx="240120" cy="1990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447920" y="4753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447920" y="47534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688400" y="4760280"/>
                <a:ext cx="138240" cy="192240"/>
                <a:chOff x="1688400" y="4760280"/>
                <a:chExt cx="138240" cy="1922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688400" y="4760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688400" y="47602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1447560" y="4724280"/>
                <a:ext cx="380520" cy="80280"/>
                <a:chOff x="1447560" y="4724280"/>
                <a:chExt cx="380520" cy="802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1447560" y="4724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447560" y="47242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1462680" y="47714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462680" y="48146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462680" y="47714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4" name=""/>
              <p:cNvGrpSpPr/>
              <p:nvPr/>
            </p:nvGrpSpPr>
            <p:grpSpPr>
              <a:xfrm>
                <a:off x="1476720" y="4787280"/>
                <a:ext cx="99000" cy="38880"/>
                <a:chOff x="1476720" y="4787280"/>
                <a:chExt cx="99000" cy="388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1476720" y="4787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476720" y="47872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1475640" y="4829040"/>
                <a:ext cx="61920" cy="57960"/>
                <a:chOff x="1475640" y="4829040"/>
                <a:chExt cx="61920" cy="579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475640" y="4829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475640" y="48290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 flipH="1">
              <a:off x="1752480" y="4495680"/>
              <a:ext cx="609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666880" y="4572000"/>
              <a:ext cx="129492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29920" y="472428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257440" y="5105160"/>
              <a:ext cx="685440" cy="15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5790960" y="5181480"/>
              <a:ext cx="380520" cy="228240"/>
              <a:chOff x="5790960" y="5181480"/>
              <a:chExt cx="380520" cy="228240"/>
            </a:xfrm>
          </p:grpSpPr>
          <p:grpSp>
            <p:nvGrpSpPr>
              <p:cNvPr id="1335" name=""/>
              <p:cNvGrpSpPr/>
              <p:nvPr/>
            </p:nvGrpSpPr>
            <p:grpSpPr>
              <a:xfrm>
                <a:off x="5791320" y="5210640"/>
                <a:ext cx="240120" cy="199080"/>
                <a:chOff x="5791320" y="5210640"/>
                <a:chExt cx="240120" cy="1990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52106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791320" y="5210640"/>
                  <a:ext cx="240120" cy="199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6031800" y="5217480"/>
                <a:ext cx="138240" cy="192240"/>
                <a:chOff x="6031800" y="5217480"/>
                <a:chExt cx="138240" cy="19224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6031800" y="52174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031800" y="5217480"/>
                  <a:ext cx="138240" cy="19224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0960" y="5181480"/>
                <a:ext cx="380520" cy="80280"/>
                <a:chOff x="5790960" y="5181480"/>
                <a:chExt cx="380520" cy="80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0960" y="51814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790960" y="5181480"/>
                  <a:ext cx="380520" cy="8028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" name=""/>
              <p:cNvSpPr/>
              <p:nvPr/>
            </p:nvSpPr>
            <p:spPr>
              <a:xfrm>
                <a:off x="5806080" y="5228640"/>
                <a:ext cx="202680" cy="1612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06080" y="5271840"/>
                <a:ext cx="202680" cy="1180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06080" y="5228640"/>
                <a:ext cx="201600" cy="10512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5820120" y="5244480"/>
                <a:ext cx="99000" cy="38880"/>
                <a:chOff x="5820120" y="5244480"/>
                <a:chExt cx="99000" cy="388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820120" y="52444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820120" y="5244480"/>
                  <a:ext cx="99000" cy="3888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5819040" y="5286240"/>
                <a:ext cx="61920" cy="57960"/>
                <a:chOff x="5819040" y="5286240"/>
                <a:chExt cx="61920" cy="579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5819040" y="52862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819040" y="5286240"/>
                  <a:ext cx="61920" cy="579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3" name=""/>
            <p:cNvSpPr/>
            <p:nvPr/>
          </p:nvSpPr>
          <p:spPr>
            <a:xfrm>
              <a:off x="5792400" y="49528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5105160" y="2285640"/>
              <a:ext cx="4568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29200" y="21333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238520" y="26668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165440" y="2666880"/>
              <a:ext cx="1847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-directio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GMP Forwar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16760" y="3657600"/>
              <a:ext cx="12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Root doma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for 224.0.12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2209680" y="2361960"/>
              <a:ext cx="228240" cy="228600"/>
              <a:chOff x="2209680" y="2361960"/>
              <a:chExt cx="228240" cy="22860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2209680" y="2509560"/>
                <a:ext cx="78480" cy="81000"/>
                <a:chOff x="2209680" y="2509560"/>
                <a:chExt cx="78480" cy="8100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2209680" y="250956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209680" y="2509560"/>
                  <a:ext cx="78480" cy="81000"/>
                </a:xfrm>
                <a:custGeom>
                  <a:avLst/>
                  <a:gdLst/>
                  <a:ahLst/>
                  <a:rect l="l" t="t" r="r" b="b"/>
                  <a:pathLst>
                    <a:path w="380" h="419">
                      <a:moveTo>
                        <a:pt x="380" y="419"/>
                      </a:moveTo>
                      <a:lnTo>
                        <a:pt x="380" y="227"/>
                      </a:lnTo>
                      <a:lnTo>
                        <a:pt x="0" y="0"/>
                      </a:lnTo>
                      <a:lnTo>
                        <a:pt x="0" y="189"/>
                      </a:lnTo>
                      <a:lnTo>
                        <a:pt x="380" y="41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2209680" y="2479680"/>
                <a:ext cx="228240" cy="73800"/>
                <a:chOff x="2209680" y="2479680"/>
                <a:chExt cx="228240" cy="7380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2209680" y="247968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09680" y="2479680"/>
                  <a:ext cx="228240" cy="73800"/>
                </a:xfrm>
                <a:custGeom>
                  <a:avLst/>
                  <a:gdLst/>
                  <a:ahLst/>
                  <a:rect l="l" t="t" r="r" b="b"/>
                  <a:pathLst>
                    <a:path w="1106" h="382">
                      <a:moveTo>
                        <a:pt x="381" y="382"/>
                      </a:moveTo>
                      <a:lnTo>
                        <a:pt x="1106" y="190"/>
                      </a:lnTo>
                      <a:lnTo>
                        <a:pt x="704" y="0"/>
                      </a:lnTo>
                      <a:lnTo>
                        <a:pt x="0" y="154"/>
                      </a:lnTo>
                      <a:lnTo>
                        <a:pt x="381" y="38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2288160" y="2516400"/>
                <a:ext cx="149760" cy="74160"/>
                <a:chOff x="2288160" y="2516400"/>
                <a:chExt cx="149760" cy="7416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2288160" y="251640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88160" y="2516400"/>
                  <a:ext cx="149760" cy="74160"/>
                </a:xfrm>
                <a:custGeom>
                  <a:avLst/>
                  <a:gdLst/>
                  <a:ahLst/>
                  <a:rect l="l" t="t" r="r" b="b"/>
                  <a:pathLst>
                    <a:path w="726" h="383">
                      <a:moveTo>
                        <a:pt x="726" y="0"/>
                      </a:moveTo>
                      <a:lnTo>
                        <a:pt x="725" y="187"/>
                      </a:lnTo>
                      <a:lnTo>
                        <a:pt x="0" y="383"/>
                      </a:lnTo>
                      <a:lnTo>
                        <a:pt x="0" y="192"/>
                      </a:lnTo>
                      <a:lnTo>
                        <a:pt x="72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9" name=""/>
              <p:cNvSpPr/>
              <p:nvPr/>
            </p:nvSpPr>
            <p:spPr>
              <a:xfrm>
                <a:off x="2295000" y="2551320"/>
                <a:ext cx="29880" cy="16920"/>
              </a:xfrm>
              <a:custGeom>
                <a:avLst/>
                <a:gdLst/>
                <a:ahLst/>
                <a:rect l="l" t="t" r="r" b="b"/>
                <a:pathLst>
                  <a:path w="146" h="88">
                    <a:moveTo>
                      <a:pt x="0" y="88"/>
                    </a:moveTo>
                    <a:lnTo>
                      <a:pt x="146" y="50"/>
                    </a:lnTo>
                    <a:lnTo>
                      <a:pt x="146" y="0"/>
                    </a:lnTo>
                    <a:lnTo>
                      <a:pt x="0" y="4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0" name=""/>
              <p:cNvGrpSpPr/>
              <p:nvPr/>
            </p:nvGrpSpPr>
            <p:grpSpPr>
              <a:xfrm>
                <a:off x="2371680" y="2525040"/>
                <a:ext cx="59040" cy="37440"/>
                <a:chOff x="2371680" y="2525040"/>
                <a:chExt cx="59040" cy="37440"/>
              </a:xfrm>
            </p:grpSpPr>
            <p:grpSp>
              <p:nvGrpSpPr>
                <p:cNvPr id="1371" name=""/>
                <p:cNvGrpSpPr/>
                <p:nvPr/>
              </p:nvGrpSpPr>
              <p:grpSpPr>
                <a:xfrm>
                  <a:off x="2372040" y="2525040"/>
                  <a:ext cx="58680" cy="37440"/>
                  <a:chOff x="2372040" y="2525040"/>
                  <a:chExt cx="58680" cy="3744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>
                    <a:off x="2372040" y="252504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2372040" y="2525040"/>
                    <a:ext cx="58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94">
                        <a:moveTo>
                          <a:pt x="284" y="0"/>
                        </a:moveTo>
                        <a:lnTo>
                          <a:pt x="0" y="76"/>
                        </a:lnTo>
                        <a:lnTo>
                          <a:pt x="0" y="194"/>
                        </a:lnTo>
                        <a:lnTo>
                          <a:pt x="284" y="121"/>
                        </a:lnTo>
                        <a:lnTo>
                          <a:pt x="2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4" name=""/>
                <p:cNvSpPr/>
                <p:nvPr/>
              </p:nvSpPr>
              <p:spPr>
                <a:xfrm flipH="1">
                  <a:off x="2371680" y="2538000"/>
                  <a:ext cx="5868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392560" y="2544840"/>
                  <a:ext cx="20520" cy="8280"/>
                </a:xfrm>
                <a:custGeom>
                  <a:avLst/>
                  <a:gdLst/>
                  <a:ahLst/>
                  <a:rect l="l" t="t" r="r" b="b"/>
                  <a:pathLst>
                    <a:path w="100" h="44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4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392560" y="253368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100" h="41">
                      <a:moveTo>
                        <a:pt x="100" y="0"/>
                      </a:moveTo>
                      <a:lnTo>
                        <a:pt x="100" y="15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218680" y="2361960"/>
                <a:ext cx="137520" cy="126360"/>
                <a:chOff x="2218680" y="2361960"/>
                <a:chExt cx="137520" cy="1263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218680" y="236196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  <a:lnTo>
                        <a:pt x="117" y="65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218680" y="2361960"/>
                  <a:ext cx="137520" cy="126360"/>
                </a:xfrm>
                <a:custGeom>
                  <a:avLst/>
                  <a:gdLst/>
                  <a:ahLst/>
                  <a:rect l="l" t="t" r="r" b="b"/>
                  <a:pathLst>
                    <a:path w="666" h="653">
                      <a:moveTo>
                        <a:pt x="117" y="653"/>
                      </a:moveTo>
                      <a:lnTo>
                        <a:pt x="0" y="509"/>
                      </a:lnTo>
                      <a:lnTo>
                        <a:pt x="0" y="113"/>
                      </a:lnTo>
                      <a:lnTo>
                        <a:pt x="491" y="0"/>
                      </a:lnTo>
                      <a:lnTo>
                        <a:pt x="666" y="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2243520" y="2394720"/>
                <a:ext cx="44640" cy="138600"/>
                <a:chOff x="2243520" y="2394720"/>
                <a:chExt cx="44640" cy="1386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2243520" y="239472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243520" y="2394720"/>
                  <a:ext cx="44640" cy="138600"/>
                </a:xfrm>
                <a:custGeom>
                  <a:avLst/>
                  <a:gdLst/>
                  <a:ahLst/>
                  <a:rect l="l" t="t" r="r" b="b"/>
                  <a:pathLst>
                    <a:path w="217" h="717">
                      <a:moveTo>
                        <a:pt x="217" y="717"/>
                      </a:moveTo>
                      <a:lnTo>
                        <a:pt x="217" y="116"/>
                      </a:lnTo>
                      <a:lnTo>
                        <a:pt x="0" y="0"/>
                      </a:lnTo>
                      <a:lnTo>
                        <a:pt x="0" y="579"/>
                      </a:lnTo>
                      <a:lnTo>
                        <a:pt x="217" y="71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2243520" y="2366280"/>
                <a:ext cx="185760" cy="51120"/>
                <a:chOff x="2243520" y="2366280"/>
                <a:chExt cx="185760" cy="5112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2243520" y="236628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243520" y="2366280"/>
                  <a:ext cx="185760" cy="51120"/>
                </a:xfrm>
                <a:custGeom>
                  <a:avLst/>
                  <a:gdLst/>
                  <a:ahLst/>
                  <a:rect l="l" t="t" r="r" b="b"/>
                  <a:pathLst>
                    <a:path w="900" h="265">
                      <a:moveTo>
                        <a:pt x="219" y="265"/>
                      </a:moveTo>
                      <a:lnTo>
                        <a:pt x="900" y="103"/>
                      </a:lnTo>
                      <a:lnTo>
                        <a:pt x="648" y="0"/>
                      </a:lnTo>
                      <a:lnTo>
                        <a:pt x="0" y="148"/>
                      </a:lnTo>
                      <a:lnTo>
                        <a:pt x="219" y="26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2303640" y="2506320"/>
                <a:ext cx="97920" cy="27720"/>
                <a:chOff x="2303640" y="2506320"/>
                <a:chExt cx="97920" cy="2772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2303640" y="250632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  <a:lnTo>
                        <a:pt x="475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303640" y="2506320"/>
                  <a:ext cx="97920" cy="27720"/>
                </a:xfrm>
                <a:custGeom>
                  <a:avLst/>
                  <a:gdLst/>
                  <a:ahLst/>
                  <a:rect l="l" t="t" r="r" b="b"/>
                  <a:pathLst>
                    <a:path w="475" h="145">
                      <a:moveTo>
                        <a:pt x="475" y="0"/>
                      </a:moveTo>
                      <a:lnTo>
                        <a:pt x="475" y="27"/>
                      </a:lnTo>
                      <a:lnTo>
                        <a:pt x="38" y="145"/>
                      </a:lnTo>
                      <a:lnTo>
                        <a:pt x="0" y="1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2288520" y="2386080"/>
                <a:ext cx="141120" cy="147960"/>
                <a:chOff x="2288520" y="2386080"/>
                <a:chExt cx="141120" cy="1479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2288520" y="238608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288520" y="2386080"/>
                  <a:ext cx="141120" cy="147960"/>
                </a:xfrm>
                <a:custGeom>
                  <a:avLst/>
                  <a:gdLst/>
                  <a:ahLst/>
                  <a:rect l="l" t="t" r="r" b="b"/>
                  <a:pathLst>
                    <a:path w="683" h="764">
                      <a:moveTo>
                        <a:pt x="0" y="764"/>
                      </a:moveTo>
                      <a:lnTo>
                        <a:pt x="0" y="162"/>
                      </a:lnTo>
                      <a:lnTo>
                        <a:pt x="683" y="0"/>
                      </a:lnTo>
                      <a:lnTo>
                        <a:pt x="683" y="586"/>
                      </a:lnTo>
                      <a:lnTo>
                        <a:pt x="0" y="76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2309040" y="2402640"/>
                <a:ext cx="102600" cy="107640"/>
                <a:chOff x="2309040" y="2402640"/>
                <a:chExt cx="102600" cy="10764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2309040" y="240264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309040" y="2402640"/>
                  <a:ext cx="102600" cy="107640"/>
                </a:xfrm>
                <a:custGeom>
                  <a:avLst/>
                  <a:gdLst/>
                  <a:ahLst/>
                  <a:rect l="l" t="t" r="r" b="b"/>
                  <a:pathLst>
                    <a:path w="498" h="557">
                      <a:moveTo>
                        <a:pt x="0" y="557"/>
                      </a:moveTo>
                      <a:lnTo>
                        <a:pt x="0" y="119"/>
                      </a:lnTo>
                      <a:lnTo>
                        <a:pt x="498" y="0"/>
                      </a:lnTo>
                      <a:lnTo>
                        <a:pt x="498" y="431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2313000" y="241020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313000" y="2410200"/>
                <a:ext cx="90720" cy="91080"/>
              </a:xfrm>
              <a:custGeom>
                <a:avLst/>
                <a:gdLst/>
                <a:ahLst/>
                <a:rect l="l" t="t" r="r" b="b"/>
                <a:pathLst>
                  <a:path w="439" h="472">
                    <a:moveTo>
                      <a:pt x="0" y="472"/>
                    </a:moveTo>
                    <a:lnTo>
                      <a:pt x="0" y="101"/>
                    </a:lnTo>
                    <a:lnTo>
                      <a:pt x="439" y="0"/>
                    </a:lnTo>
                    <a:lnTo>
                      <a:pt x="439" y="365"/>
                    </a:lnTo>
                    <a:lnTo>
                      <a:pt x="0" y="472"/>
                    </a:lnTo>
                  </a:path>
                </a:pathLst>
              </a:custGeom>
              <a:noFill/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323440" y="2433960"/>
                <a:ext cx="8280" cy="2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333520" y="2426040"/>
                <a:ext cx="56880" cy="6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 flipH="1">
              <a:off x="1066680" y="2743200"/>
              <a:ext cx="2514240" cy="167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24600" y="495288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78920" y="2286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162920" y="3352680"/>
              <a:ext cx="157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urce-specif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7238520" y="3352680"/>
              <a:ext cx="45684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4B0-D2F4-48CA-B9BE-587D00C25C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Source-Specific Branch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stablish the Source-specific Tree from 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re are members in domains B, C, D, F and H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main F has an Inter-domain link to domain A via F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ce only F1 is on bi-directional shared tree, data from a source S domain S will be received by F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1 must then encapsulate the data packets to F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2 injects the data into the its domai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2 may send a source-specific join towards S, also makes a multicast forwarding entry (S, G): (A4, MIGP)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rce-specific join from F propagates toward S setting up (S, G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equent data packets sent by S and received by A4 are forwarded to all other targets in (S, G) including F2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4EA-8C56-4F01-BD68-70FD4219AA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GMP: Related Work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PIM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erarchical Protocol Independent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, Handley, J. Crowcroft, et, al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ilds on PIM-SM by using a hierarchy of RPs for a group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CBT: 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dered CB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. Shield, et, al, Infocomm’97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tension of CBT where a hierarchy of cores is used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DVMRP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erarchical DVMRP for MB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 Deering, et, al, (ACM SIGCOMM’95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onnects regions(domains) running any of the existing multicast protocol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F67-E3DB-4DF2-86F8-903DC839A0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mary: Internet Standard Multicast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3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9B9-F9DD-4080-ADFC-0C827BFE688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mall Group Multicast (SGM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Multicast Scheme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not “Generally” avail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Support Certain applications very we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Telepony with Conferenc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deo-Conferencing, Real-time Collaborati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 Complex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ted by Internet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 BOF: 2000.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AD8-F8C0-41BE-B27F-AD54A846CA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GM: Featur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port “Small Groups”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in IP telephony &amp; Conferenc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rge Number of Small Grou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ulticast Routing Protocol/Signal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stored state on Rout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need to exchange Routing Inform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iminate Difficulty of M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 Complex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icult conversation between IS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820-52E3-48FA-9BA7-0B68D1103B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GM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33640" y="1467000"/>
            <a:ext cx="6876720" cy="39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1C6-74A9-4FE8-9AC6-876253D0867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GM: Analys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tra Bytes in IP Packet Hea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Stack for packet process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Suitable for larger broadcast-lik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able to Large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per-flow state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routing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Class D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tra Bytes in IP Packet Hea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CA5-9F86-4061-B30C-5265BE8238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GM: Transition Pla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d on SGM Backbon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ly, based on several SGM-capable rout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1066680" y="2370240"/>
            <a:ext cx="649620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7AC-1BF5-41ED-AC6C-77D34BF513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mary of Intra-Domain 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1600200"/>
            <a:ext cx="7772400" cy="4572000"/>
            <a:chOff x="685800" y="1600200"/>
            <a:chExt cx="7772400" cy="4572000"/>
          </a:xfrm>
        </p:grpSpPr>
        <p:sp>
          <p:nvSpPr>
            <p:cNvPr id="49" name=""/>
            <p:cNvSpPr/>
            <p:nvPr/>
          </p:nvSpPr>
          <p:spPr>
            <a:xfrm>
              <a:off x="6934320" y="5232240"/>
              <a:ext cx="1523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4120" y="5232240"/>
              <a:ext cx="16002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3 or 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080" y="5232240"/>
              <a:ext cx="2210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1/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5232240"/>
              <a:ext cx="243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G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34320" y="448308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,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4120" y="448308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ore, 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24080" y="448308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AA or GL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448308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 Address Al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57150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o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57150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4080" y="57150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o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57150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acket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34320" y="373392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4120" y="373392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24080" y="373392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Data-driven, 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373392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oin Mechanism (Bootstra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3263760"/>
              <a:ext cx="152388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4120" y="3263760"/>
              <a:ext cx="16002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3263760"/>
              <a:ext cx="2210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, 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3263760"/>
              <a:ext cx="243828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outing Table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34320" y="251460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,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4120" y="251460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ore,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24080" y="251460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251460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 Channel 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34320" y="20574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B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20574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BT(shar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24080" y="20574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BT/CBT(shar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0574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ree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4320" y="16002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4120" y="16002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6002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16002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16002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20574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2637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" y="44830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61722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" y="1600200"/>
              <a:ext cx="0" cy="45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412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58200" y="1600200"/>
              <a:ext cx="0" cy="45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52322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544-7E94-4B4C-9FA2-A72466BFD6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loyment of IP Multicast is Slow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particular, in WAN (Core/Backbone Network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 Application requires Multicast Deliv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ivery Schem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: Sender to Local Multicast Reg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: Within the Multicast Reg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, if multicast is not suppor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 in WAN, and Multicast in LA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-configuration of Unicast WA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or Mesh between Reg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9E7-0743-42C7-8D99-4C80672A04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M: Examp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0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67E-01AC-4698-B64F-D7CF2DABF8B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M: Related Projec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A: Internet Multicast Architectu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nce, INT (Research Institut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ID: Your Own Internet Distributio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aciri.org/yoid/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OID Tree Managemen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OID Distribution Protocol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System Mult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MU School of Computer Scien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MX: Reliable Multicast proXies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C Berkeley Computer Scien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C24-8AA9-4EEF-BE62-8E63BC6F68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-Domain Multicast Rou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ain-Specific Multicast Routing Polic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ain: Region, AS(Autonomous System) or IS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Source Discovery: MSDP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is the Group Source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covery of Sources in different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Collisions: MALLOC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fficient Address allocation in Global Inter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Routing between Domains: BGMP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of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lutions (?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DP/PIM-SM: near-ter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GMP: long-term 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23B-D330-477F-8853-6B57098687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Backgrou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Source Discovery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ietf-msdp-spec-06.txt (July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M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-Term Solu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ed Near Term Solu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ar Term Approac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connect existing shared tre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inter-doma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red tre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ust inter-doma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 tre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duces to problem of locating active sour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 joins inter-doma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F0C-30CB-4309-AABF-99C310E2F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/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a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 &lt;-&gt;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RPs in different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 &lt;-&gt; RP: TCP connec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Discover a source in a different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he source is found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- 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est Path Tre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21D-7C3B-45C0-B63C-C8247B7EDC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Mechani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 Peering Session (Pre-configured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RPs in different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using M-BGP(BGP4+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hange of Information on RP in the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s over TC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-Domain RP Topolog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 (Source Active) messag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,G)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ing to the other MSDP-peer R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T Configuratio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T between RP an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 sends a (S,G)-join to the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08F-CB55-433E-96B1-8695223ED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DP: Example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DP Peering between RPs (via TC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31720" y="2590920"/>
            <a:ext cx="4088160" cy="2845800"/>
            <a:chOff x="2331720" y="2590920"/>
            <a:chExt cx="4088160" cy="2845800"/>
          </a:xfrm>
        </p:grpSpPr>
        <p:sp>
          <p:nvSpPr>
            <p:cNvPr id="106" name=""/>
            <p:cNvSpPr/>
            <p:nvPr/>
          </p:nvSpPr>
          <p:spPr>
            <a:xfrm>
              <a:off x="2362320" y="2590920"/>
              <a:ext cx="1238400" cy="634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331720" y="4800240"/>
              <a:ext cx="1369440" cy="636480"/>
              <a:chOff x="2331720" y="4800240"/>
              <a:chExt cx="1369440" cy="636480"/>
            </a:xfrm>
          </p:grpSpPr>
          <p:sp>
            <p:nvSpPr>
              <p:cNvPr id="108" name=""/>
              <p:cNvSpPr/>
              <p:nvPr/>
            </p:nvSpPr>
            <p:spPr>
              <a:xfrm>
                <a:off x="2413080" y="4800240"/>
                <a:ext cx="1236600" cy="636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1720" y="4947480"/>
                <a:ext cx="136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Receiver 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181840" y="2666880"/>
              <a:ext cx="1238040" cy="61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154120" y="4800240"/>
              <a:ext cx="1264320" cy="614160"/>
              <a:chOff x="5154120" y="4800240"/>
              <a:chExt cx="1264320" cy="614160"/>
            </a:xfrm>
          </p:grpSpPr>
          <p:sp>
            <p:nvSpPr>
              <p:cNvPr id="112" name=""/>
              <p:cNvSpPr/>
              <p:nvPr/>
            </p:nvSpPr>
            <p:spPr>
              <a:xfrm>
                <a:off x="5181840" y="4800240"/>
                <a:ext cx="1236600" cy="61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54120" y="495252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Source 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581640" y="2971440"/>
              <a:ext cx="1600200" cy="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0920" y="31240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5050"/>
                  </a:solidFill>
                  <a:latin typeface="Times New Roman"/>
                </a:rPr>
                <a:t>MSDP P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3276360"/>
              <a:ext cx="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1320" y="3276360"/>
              <a:ext cx="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C31-2B43-49EA-B43C-CD6EEF9938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2000-09-15T09:39:25Z</cp:lastPrinted>
  <dcterms:modified xsi:type="dcterms:W3CDTF">2000-10-12T06:55:29Z</dcterms:modified>
  <cp:revision>170</cp:revision>
  <dc:subject/>
  <dc:title>Introduction to IP Multicast</dc:title>
</cp:coreProperties>
</file>