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93EA-9696-4B8B-B66F-E0A5F34E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B5DC-942F-40B3-B3F9-18BF80CC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1528-5911-4DF5-8BD3-D1FE782A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A19C-39F4-455C-A527-EA250BC7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0CC1-E692-4857-9F28-723B3F8D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0E11-7F9E-4F4A-9BF7-962B9B38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E0B8-E502-480B-A5FF-0A344FBD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A978-B6DC-4180-B7C2-6C35BDE2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5E21-81F1-4205-92B8-4C4C0DB3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6A70-9D30-448A-A27D-37FDE0BF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A0D5-37E1-4808-B717-B0C87761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40C4-59DF-4C36-8DF4-1EF02643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C77B-C28B-4837-9A85-25DD8FB8EA5F}" type="slidenum">
              <a:rPr b="0" lang="ko-KR" sz="1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ulticast Routing Protocol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 Dense Mode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pters 7 - 10 in Textbook&gt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ok Joo Koh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7584-67B1-4A2B-8375-7B36C331EE4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oding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ive Broadcasting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752480" y="2133720"/>
            <a:ext cx="4648320" cy="3812400"/>
            <a:chOff x="1752480" y="2133720"/>
            <a:chExt cx="4648320" cy="3812400"/>
          </a:xfrm>
        </p:grpSpPr>
        <p:sp>
          <p:nvSpPr>
            <p:cNvPr id="127" name=""/>
            <p:cNvSpPr/>
            <p:nvPr/>
          </p:nvSpPr>
          <p:spPr>
            <a:xfrm>
              <a:off x="3809880" y="236232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00600" y="365760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19160" y="3657600"/>
              <a:ext cx="38124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43600" y="495324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86200" y="495324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28800" y="495324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200040" y="2743200"/>
              <a:ext cx="6858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133000" y="4038840"/>
              <a:ext cx="7621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14800" y="2819520"/>
              <a:ext cx="6858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81480" y="4038840"/>
              <a:ext cx="7621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24080" y="4114800"/>
              <a:ext cx="7621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00400" y="381024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09680" y="518184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190400" y="4114800"/>
              <a:ext cx="68580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67080" y="518184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19360" y="21337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19560" y="5486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86200" y="5486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52480" y="5486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00400" y="396252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E9B0-7F00-4E28-AA3C-B1E56D3BE4F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PB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, Dalal and Metcalfe (1978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eration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verse Path: shortest path toward Sourc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 terms of the local rout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rent link &amp; Child link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a packet arrives on the parent link, the router forwards the packet on all the child link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therwise, discard the packet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uting Table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eeps the information on parent and child link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changes Routing Tables with Neighbor Router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1BDF-FA1B-4EB3-A6F8-7011F2947BE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 Path Broadcasting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verse Path (by Multicast Routing Table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362320"/>
            <a:ext cx="38088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3657600"/>
            <a:ext cx="38088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81280" y="3657600"/>
            <a:ext cx="381240" cy="457200"/>
          </a:xfrm>
          <a:prstGeom prst="ellipse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05720" y="4952880"/>
            <a:ext cx="38088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4952880"/>
            <a:ext cx="38088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90920" y="4952880"/>
            <a:ext cx="38088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962160" y="2743200"/>
            <a:ext cx="6858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895120" y="4038480"/>
            <a:ext cx="7621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819520"/>
            <a:ext cx="6858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4038480"/>
            <a:ext cx="7621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4114800"/>
            <a:ext cx="7621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2520" y="38862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71800" y="51814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952520" y="41148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51814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4120" y="1981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876920" y="228564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5486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5486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274320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ent 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3962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ild 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3276360" y="297144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2666520" y="434304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3048120" y="4266720"/>
            <a:ext cx="1218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38880" y="4876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7220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B71F-70FC-4E20-991B-47C203EE6D8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 Path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nicast (Path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sed on Destination Addres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to send the packet toward ?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lticast (Reverse Path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sed on Group (Destination) Addres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to receive the packet from ?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143000" y="4191120"/>
            <a:ext cx="2057400" cy="1828800"/>
            <a:chOff x="1143000" y="4191120"/>
            <a:chExt cx="2057400" cy="1828800"/>
          </a:xfrm>
        </p:grpSpPr>
        <p:sp>
          <p:nvSpPr>
            <p:cNvPr id="180" name=""/>
            <p:cNvSpPr/>
            <p:nvPr/>
          </p:nvSpPr>
          <p:spPr>
            <a:xfrm>
              <a:off x="1828800" y="4876920"/>
              <a:ext cx="381240" cy="381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19520" y="563904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19520" y="4191120"/>
              <a:ext cx="380880" cy="381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43000" y="502956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10040" y="5181840"/>
              <a:ext cx="68580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2210040" y="449604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7162920" y="48006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19920" y="5410080"/>
            <a:ext cx="38088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43600" y="4267080"/>
            <a:ext cx="38088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43800" y="495288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400800" y="5105520"/>
            <a:ext cx="7621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4495680"/>
            <a:ext cx="91440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3886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3809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0" y="4876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Times New Roman"/>
              </a:rPr>
              <a:t>To where to send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00600" y="4800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Times New Roman"/>
              </a:rPr>
              <a:t>From where to receiv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6CD9-8FB6-47F0-9122-43EC7B39B8D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ncated RPB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PB + Truncated (based on IGMP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838080" y="2362320"/>
            <a:ext cx="7391520" cy="3812400"/>
            <a:chOff x="838080" y="2362320"/>
            <a:chExt cx="7391520" cy="3812400"/>
          </a:xfrm>
        </p:grpSpPr>
        <p:sp>
          <p:nvSpPr>
            <p:cNvPr id="199" name=""/>
            <p:cNvSpPr/>
            <p:nvPr/>
          </p:nvSpPr>
          <p:spPr>
            <a:xfrm>
              <a:off x="3276720" y="259092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67080" y="3886200"/>
              <a:ext cx="38124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86000" y="388620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10080" y="5181480"/>
              <a:ext cx="38124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5181480"/>
              <a:ext cx="38124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95280" y="5181480"/>
              <a:ext cx="38124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666520" y="2971800"/>
              <a:ext cx="6858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599840" y="4267080"/>
              <a:ext cx="7621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81280" y="3048120"/>
              <a:ext cx="6858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48320" y="4267080"/>
              <a:ext cx="76176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90920" y="4343400"/>
              <a:ext cx="76176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33920" y="2362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(G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29200" y="274320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29200" y="320040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95880" y="251460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ctive Bran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95880" y="297180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active Bran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86400" y="5715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52680" y="57150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19320" y="5715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38080" y="3809880"/>
              <a:ext cx="60984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15000" y="3886200"/>
              <a:ext cx="251460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roup member G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47920" y="411480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648320" y="41148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E69D-3D38-426E-B9D5-3C29A2F56B3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 Path Multicasting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hancement to RPB and TRPB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livery Tree includes onl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networks with Group member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ong the shortest path from Source to Receiver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ncated RPB + Prune + Graf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un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no member in the subnet and downstrea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iodicall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stream routers keep the Prune Stat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ft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a member appears agai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uter forward Grafting message toward Sourc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38E3-0BED-42B8-92CC-0617C19E993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un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iodic Prune message to Upstream Router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752480" y="2133720"/>
            <a:ext cx="6477120" cy="4117320"/>
            <a:chOff x="1752480" y="2133720"/>
            <a:chExt cx="6477120" cy="4117320"/>
          </a:xfrm>
        </p:grpSpPr>
        <p:sp>
          <p:nvSpPr>
            <p:cNvPr id="227" name=""/>
            <p:cNvSpPr/>
            <p:nvPr/>
          </p:nvSpPr>
          <p:spPr>
            <a:xfrm>
              <a:off x="4038480" y="2514600"/>
              <a:ext cx="38124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29200" y="380988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48120" y="3809880"/>
              <a:ext cx="380880" cy="457200"/>
            </a:xfrm>
            <a:prstGeom prst="ellipse">
              <a:avLst/>
            </a:prstGeom>
            <a:solidFill>
              <a:srgbClr val="ff5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72200" y="510552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14800" y="510552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57400" y="510552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428640" y="2895480"/>
              <a:ext cx="6858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2362320" y="4191120"/>
              <a:ext cx="76176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343400" y="2971800"/>
              <a:ext cx="685800" cy="8380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10080" y="4191120"/>
              <a:ext cx="762120" cy="9144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52680" y="4267080"/>
              <a:ext cx="7621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29000" y="403848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38280" y="533412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4419360" y="4267080"/>
              <a:ext cx="685800" cy="9144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95680" y="533412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800600" y="2133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4343400" y="2438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24480" y="419112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une Mes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52480" y="56386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5638680" y="3962160"/>
              <a:ext cx="914400" cy="114300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flipV="1">
              <a:off x="4495680" y="2666520"/>
              <a:ext cx="914400" cy="114300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2057400" y="5562360"/>
              <a:ext cx="1522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4343400" y="5562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29200" y="289548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une Mes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4FDB-E9B9-48DF-BB39-7C35ED2C6C3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fting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fting Prune message to Upstream Router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til active delivery tree is reached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4" name=""/>
          <p:cNvSpPr/>
          <p:nvPr/>
        </p:nvSpPr>
        <p:spPr>
          <a:xfrm>
            <a:off x="167652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057400" y="2286000"/>
            <a:ext cx="6172200" cy="3736440"/>
            <a:chOff x="2057400" y="2286000"/>
            <a:chExt cx="6172200" cy="3736440"/>
          </a:xfrm>
        </p:grpSpPr>
        <p:sp>
          <p:nvSpPr>
            <p:cNvPr id="256" name=""/>
            <p:cNvSpPr/>
            <p:nvPr/>
          </p:nvSpPr>
          <p:spPr>
            <a:xfrm>
              <a:off x="4038480" y="2666880"/>
              <a:ext cx="38124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29200" y="396252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48120" y="3962520"/>
              <a:ext cx="380880" cy="457200"/>
            </a:xfrm>
            <a:prstGeom prst="ellipse">
              <a:avLst/>
            </a:prstGeom>
            <a:solidFill>
              <a:srgbClr val="ff5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72200" y="525780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525780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057400" y="525780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3428640" y="3048120"/>
              <a:ext cx="6858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362320" y="4343400"/>
              <a:ext cx="76176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43400" y="3124080"/>
              <a:ext cx="68580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10080" y="4343400"/>
              <a:ext cx="7621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352680" y="4419720"/>
              <a:ext cx="7621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29000" y="419112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38280" y="548640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419360" y="4419720"/>
              <a:ext cx="685800" cy="9144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95680" y="548640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00600" y="2286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4343400" y="2590560"/>
              <a:ext cx="4572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324480" y="434340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raft Mes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886200" y="5562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flipV="1">
              <a:off x="5638680" y="4114440"/>
              <a:ext cx="914400" cy="114300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4495680" y="2819160"/>
              <a:ext cx="914400" cy="114300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29200" y="304812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raft Mes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53080" y="55627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181480" y="44197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6010-7027-4472-A5AC-E17942A8EE8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PM: Limitation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rovement to TRPB, but 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lability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lticast packets must periodically be broadcast across every router in the network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steful of Bandwidth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very router must have forwarding table entries and Prune State information for each (S,G) pai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large group and many sourc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ed by DVMRP and PIM-DM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duces Shared Tree approach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6EEF-8C62-4E1A-9D64-E7692ADCDE5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VMRP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stance Vector Multicast Routing Protoco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rst defined in RFC 1075 (1988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rived from RIP and TRPB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uting Information Protocol : RFC 1058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jor difference between RIP and DVMR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IP: next hop toward destinat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VMRP: previous hop back toward Sourc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ly, DVMRP version 3 (IDMR WG draft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ill employed in MBON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nce mrouted 3.0, DVMRP use RP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VMRP implements the RPM algorith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8456-B8BF-4112-9A08-0AC9105367B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view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verse Path Multicasting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stance Vector MRP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tocol Independent Multicast - Dense Mod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lticast extensions to OSPF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B4F0-59C6-4594-A5C8-5D00ABA450D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te: RIP for Unicas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IP (Routing Information Protocol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irst Dynamic Routing Protocol in Interne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tance Vector protoco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change Routing Tables with Neighbor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llman-Ford Algorithm for Shortest Path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mall network within 15 hops (Restricted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ful Routing: Not subnetting, Not CID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efficiency in Networks with many Sunet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uces the RIP version 2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w adaptation to topology chang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VMRP is based on RIP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 terms of DVMRP routing table updat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C4E8-94FB-4AD8-B414-25ECD8081DB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te: OSPF for Unicas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SPF (Open Shortest Path First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k State Protoco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ooding Routing Tables (LSA) into the Domai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jkstra Algorithm for Shortest Path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itable for QoS rout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SA (Link State Advertisement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st, Bandwidth, Distance, ...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ithin an AS (Autonomous System) domai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less Routing &amp; Subnett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action with Exterior Gateway Protocol (BGP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terior : BG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ior : OSPF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SPF is based on OSPF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2CFC-B2DA-4031-A6E0-074F0F68714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cast Routing Protocol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stance Vector: Interaction with Neighbor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 State Protocol: Flooding into the Domai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alize Topology Information !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0" name=""/>
          <p:cNvSpPr/>
          <p:nvPr/>
        </p:nvSpPr>
        <p:spPr>
          <a:xfrm>
            <a:off x="5638680" y="3352680"/>
            <a:ext cx="304920" cy="304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29200" y="4114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15000" y="46483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629400" y="46483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15200" y="4038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629400" y="32767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5257800" y="3657600"/>
            <a:ext cx="38088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67280" y="365760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43600" y="3581280"/>
            <a:ext cx="838080" cy="1067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934320" y="4419720"/>
            <a:ext cx="38088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35053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5334120" y="4419720"/>
            <a:ext cx="38088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19920" y="48006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6934320" y="3580920"/>
            <a:ext cx="45720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990720" y="3276720"/>
            <a:ext cx="2590200" cy="1675800"/>
            <a:chOff x="990720" y="3276720"/>
            <a:chExt cx="2590200" cy="1675800"/>
          </a:xfrm>
        </p:grpSpPr>
        <p:sp>
          <p:nvSpPr>
            <p:cNvPr id="305" name=""/>
            <p:cNvSpPr/>
            <p:nvPr/>
          </p:nvSpPr>
          <p:spPr>
            <a:xfrm>
              <a:off x="1600200" y="3352680"/>
              <a:ext cx="30420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90720" y="4114800"/>
              <a:ext cx="304560" cy="304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676160" y="4647960"/>
              <a:ext cx="30456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90560" y="4647960"/>
              <a:ext cx="30456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276360" y="4038480"/>
              <a:ext cx="30456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90560" y="3276720"/>
              <a:ext cx="30456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218960" y="3657600"/>
              <a:ext cx="380880" cy="45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28800" y="3657600"/>
              <a:ext cx="0" cy="9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3200" y="3657600"/>
              <a:ext cx="0" cy="9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2895120" y="4419360"/>
              <a:ext cx="38052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981080" y="3504960"/>
              <a:ext cx="609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flipV="1">
              <a:off x="1294920" y="4419360"/>
              <a:ext cx="38052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057400" y="4800600"/>
              <a:ext cx="609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>
              <a:off x="2971440" y="3657240"/>
              <a:ext cx="380520" cy="30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6019920" y="3581280"/>
            <a:ext cx="129528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143000" y="52567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e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10080" y="52567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B7BD-CDE0-4409-807A-F8697EF6738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t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nicast Routing Protocol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(Configured) Rout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IP (Routing Information Protocol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IPv1, RIPv2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SPF (Open Shortest Path First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S-IS: From ISO/IEC JTC 1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mediate System to Intermediate Syste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erior) BG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47C3-3821-4F31-B997-FDB069BE32A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VMRP: Operations (1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sed on the DVMRP Routing Tab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tain Reverse Path informat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 first datagram is broadcast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t all non-incoming, but downstream links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y “Poison-Reverse” (in routing table update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warding Table is created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une Proces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active branch is removed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leaf router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fting Proces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ve branch is re-created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3596-9953-494B-9716-C2DB2834E6C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VMRP: Operations (2)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sed on DVMRP routing table at each router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8" name=""/>
          <p:cNvSpPr/>
          <p:nvPr/>
        </p:nvSpPr>
        <p:spPr>
          <a:xfrm>
            <a:off x="4038480" y="2666880"/>
            <a:ext cx="38124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29200" y="3962520"/>
            <a:ext cx="38088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8120" y="3962520"/>
            <a:ext cx="38088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2200" y="5257800"/>
            <a:ext cx="38088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14800" y="5257800"/>
            <a:ext cx="38088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57400" y="5257800"/>
            <a:ext cx="38088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428640" y="30481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2362320" y="4343400"/>
            <a:ext cx="76176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43400" y="3124080"/>
            <a:ext cx="6858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10080" y="4343400"/>
            <a:ext cx="7621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4419720"/>
            <a:ext cx="7621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29000" y="41911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438280" y="54864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4419360" y="441972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95680" y="54864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0060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4343400" y="259056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324480" y="43434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or Gra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86200" y="5562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 flipV="1">
            <a:off x="5638680" y="4114440"/>
            <a:ext cx="914400" cy="1143000"/>
          </a:xfrm>
          <a:prstGeom prst="line">
            <a:avLst/>
          </a:prstGeom>
          <a:ln w="158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 flipV="1">
            <a:off x="4495680" y="2819160"/>
            <a:ext cx="914400" cy="1143000"/>
          </a:xfrm>
          <a:prstGeom prst="line">
            <a:avLst/>
          </a:prstGeom>
          <a:ln w="158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29200" y="30481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or Gra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553080" y="5562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181480" y="4419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828E-AC0E-441B-A985-02FEB7E9A6B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VMRP: Routing Tabl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</a:rPr>
              <a:t>Periodic exchange and update of Routing Tab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</a:rPr>
              <a:t>Based on the Routing tab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Create Forwarding tabl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</a:rPr>
              <a:t>Not contain Group membership &amp; Prun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058760" y="3809880"/>
          <a:ext cx="6772320" cy="221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3809880"/>
                    <a:ext cx="677232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095A-FEE4-4733-B0A0-8ADE0714D9D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VMRP: Forwarding Tabl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</a:rPr>
              <a:t>Based on DVMRP Routing tab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</a:rPr>
              <a:t>Group membership &amp; Prun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</a:rPr>
              <a:t>Input/Output Interfaces for Multicast Packet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066680" y="3276720"/>
          <a:ext cx="7170840" cy="228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276720"/>
                    <a:ext cx="71708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DE2F-F8EB-4855-AADC-2918CD77C3C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VMRP: Weaknes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low to adapt to topology change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w to converg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mited network diameter (15 hops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intain source-specific sta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en not on-tre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ste Router memor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t scale for larger number of sourc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lability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lticast traffic is periodically broadcast across the entire network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98FF-7D08-47DE-9B5A-DB381CA6E78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M-DM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tocol Independent Multicas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pendent of Underlying Unicast Protoco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t needs any one unicast routing protoco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VMRP: DVMRP multicast protoco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IM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parse Mode: Sparsely distributed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nse Mode: Densely distributed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IM-DM is based on RPM algorithm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ke DVMR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roadcas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un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f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8584-78BE-4122-A8DD-4F5637DD96F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rnet Communication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49528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066680" y="2362320"/>
            <a:ext cx="1371600" cy="1828800"/>
            <a:chOff x="1066680" y="2362320"/>
            <a:chExt cx="1371600" cy="1828800"/>
          </a:xfrm>
        </p:grpSpPr>
        <p:sp>
          <p:nvSpPr>
            <p:cNvPr id="48" name=""/>
            <p:cNvSpPr/>
            <p:nvPr/>
          </p:nvSpPr>
          <p:spPr>
            <a:xfrm>
              <a:off x="1066680" y="2362320"/>
              <a:ext cx="1371600" cy="380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3124440"/>
              <a:ext cx="137160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066680" y="3429000"/>
              <a:ext cx="1371600" cy="381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 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66680" y="381024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066680" y="2743200"/>
              <a:ext cx="1371600" cy="3812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CP/UD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7010280" y="2362320"/>
            <a:ext cx="1371600" cy="1828800"/>
            <a:chOff x="7010280" y="2362320"/>
            <a:chExt cx="1371600" cy="1828800"/>
          </a:xfrm>
        </p:grpSpPr>
        <p:sp>
          <p:nvSpPr>
            <p:cNvPr id="54" name=""/>
            <p:cNvSpPr/>
            <p:nvPr/>
          </p:nvSpPr>
          <p:spPr>
            <a:xfrm>
              <a:off x="7010280" y="2362320"/>
              <a:ext cx="1371600" cy="380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010280" y="3124440"/>
              <a:ext cx="137160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010280" y="3429000"/>
              <a:ext cx="1371600" cy="381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 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010280" y="381024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010280" y="2743200"/>
              <a:ext cx="1371600" cy="3812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CP/UD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124080" y="3124080"/>
            <a:ext cx="1371600" cy="1067040"/>
            <a:chOff x="3124080" y="3124080"/>
            <a:chExt cx="1371600" cy="1067040"/>
          </a:xfrm>
        </p:grpSpPr>
        <p:sp>
          <p:nvSpPr>
            <p:cNvPr id="60" name=""/>
            <p:cNvSpPr/>
            <p:nvPr/>
          </p:nvSpPr>
          <p:spPr>
            <a:xfrm>
              <a:off x="3124080" y="3124080"/>
              <a:ext cx="1371600" cy="3049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24080" y="3429000"/>
              <a:ext cx="137160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 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124080" y="3809880"/>
              <a:ext cx="1371600" cy="381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105520" y="3124080"/>
            <a:ext cx="1371600" cy="1067040"/>
            <a:chOff x="5105520" y="3124080"/>
            <a:chExt cx="1371600" cy="1067040"/>
          </a:xfrm>
        </p:grpSpPr>
        <p:sp>
          <p:nvSpPr>
            <p:cNvPr id="64" name=""/>
            <p:cNvSpPr/>
            <p:nvPr/>
          </p:nvSpPr>
          <p:spPr>
            <a:xfrm>
              <a:off x="5105520" y="3124080"/>
              <a:ext cx="1371600" cy="3049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105520" y="3429000"/>
              <a:ext cx="137160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 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05520" y="3809880"/>
              <a:ext cx="1371600" cy="381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438280" y="3962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3276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38280" y="3657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95680" y="3276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3581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4038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38280" y="28954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38280" y="25909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2096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47242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666880" y="29718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66880" y="2971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29718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4800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705720" y="22093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05720" y="2209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81680" y="50292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aps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3276720"/>
            <a:ext cx="6098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1880" y="3276720"/>
            <a:ext cx="609840" cy="0"/>
          </a:xfrm>
          <a:prstGeom prst="line">
            <a:avLst/>
          </a:prstGeom>
          <a:ln w="25560">
            <a:solidFill>
              <a:srgbClr val="3333cc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4812-34BB-4907-97E0-5E36DA654AF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M-DM vs. DVMRP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oadcasting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VMRP: only child interfac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M-DM: all non-incoming interfac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til explicit Prune messages are received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cause no distinct MR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adeoff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uplicated packets vs. simple mechanis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verse Path Check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VMRP: Reverse Path calculation by Routing tabl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M-DM: Depends on Unicast Routing Tabl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siders Multicast Source as Desinat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evious Hop Calculat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F971-06C1-461F-A395-C37445797B4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roadcasting: PIM-DM vs. DVMRP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VRMP: Only child interfac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IM-DM: all non-incoming interfac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447920" y="2703960"/>
            <a:ext cx="1752480" cy="2020320"/>
            <a:chOff x="1447920" y="2703960"/>
            <a:chExt cx="1752480" cy="2020320"/>
          </a:xfrm>
        </p:grpSpPr>
        <p:sp>
          <p:nvSpPr>
            <p:cNvPr id="369" name=""/>
            <p:cNvSpPr/>
            <p:nvPr/>
          </p:nvSpPr>
          <p:spPr>
            <a:xfrm>
              <a:off x="1523880" y="3276720"/>
              <a:ext cx="16002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u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86000" y="38098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1447920" y="3809880"/>
              <a:ext cx="3808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819520" y="3809880"/>
              <a:ext cx="3808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1904760" y="3809880"/>
              <a:ext cx="152280" cy="838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514600" y="3809880"/>
              <a:ext cx="15228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695960" y="2703960"/>
              <a:ext cx="126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VMR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5410080" y="3314880"/>
            <a:ext cx="1600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172200" y="38480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5334120" y="3848040"/>
            <a:ext cx="380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05720" y="3848040"/>
            <a:ext cx="380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5790960" y="3848040"/>
            <a:ext cx="1522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00800" y="384804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555160" y="27421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M-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48E5-C1C7-4CD8-88C3-DB899C3FB52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SPF (1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en Shortest Path Firs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SPF Version 2: RFC 2178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SPF is an Interior Gateway Protocol (IGP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tributes unicast topology informat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mong routers belonging to a single OSPF A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uting Table calculation: Link State algorithm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pid &amp; efficient Route calculat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 the cost of Routing Protocol Traffi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k State Advertisement (LSA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k Cost, Available bandwidth, length, etc..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ierarchical routing, load balancing, etc.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3CB4-BE18-478E-8C14-01F3CCFDB81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SPF (2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lticast extensions to OSPF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FC 1584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SPF routers maintain a current image of the network topology via unicast OSPF protoco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SPF are built on top of OSPFv2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SPF Routers inter-operate with non-MOPSF router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n forwarding unicast IP data traffi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ra-Area routing with OSPF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urce and destination are all in a single area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-Area routing with OSPF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urce or some receivers are in a different area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1A26-5400-4557-BF0C-4E3F96EFFAA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cal Group Databas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SA (Link State Advertisement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SPF database: LSA (with topology information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-Membership LSA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SPF (with help of IGMP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SPF database: LSA + Group membership LSA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SPF routers maintain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SA and Group-Membership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o LSA its local databas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SPF router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municates group membership information to all other routers in the OSPF area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y flooding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roup-Membership LS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92DE-CA85-4435-B469-768A110E1C2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SPF: Shortest Path Tre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ortest Path Tre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th From source to receivers for a (S,G) pai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ilt “On Demand”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n a router receives the first multicast packet for (S,G) pai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lculated based 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SPF LSA (topology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SPF Group-membership LSA (by IGMP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cation of group members are known !!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livery tree spans only the routers with the group embers !!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t RPF (Reverse Path Check, DVMRP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jkstra’s algorith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9183-DC20-4D2E-8072-F67733B1956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SPF: Operation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2" name=""/>
          <p:cNvSpPr/>
          <p:nvPr/>
        </p:nvSpPr>
        <p:spPr>
          <a:xfrm>
            <a:off x="3581280" y="2209680"/>
            <a:ext cx="38124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0" y="3505320"/>
            <a:ext cx="38088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3505320"/>
            <a:ext cx="38088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15000" y="4800600"/>
            <a:ext cx="38088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76720" y="4876920"/>
            <a:ext cx="38088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0200" y="4800600"/>
            <a:ext cx="38088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971440" y="25909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1905120" y="3886200"/>
            <a:ext cx="76176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2666880"/>
            <a:ext cx="6858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952880" y="3886200"/>
            <a:ext cx="7621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962520"/>
            <a:ext cx="53352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1371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733920" y="1828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7672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952880" y="1447920"/>
            <a:ext cx="3886200" cy="1789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ll MOSPF rout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LSA + Group-Membership L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“On-Demand” Tree Cal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&gt; Forwarding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9132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81480" y="3429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7652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038480" y="4876920"/>
            <a:ext cx="38124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4343400" y="3962520"/>
            <a:ext cx="380880" cy="914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2D43-E788-421A-A876-0339288C0181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warding Cach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ilt from the shortest path tree for (S,G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n the first data arrives (On-demand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ward all subsequent data from UP to DOW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 MOSPF routers have the same SPT informati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warding cache is created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cording to its location along the SPT tre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1054080" y="3809880"/>
          <a:ext cx="6769080" cy="233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4080" y="3809880"/>
                    <a:ext cx="676908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AABE-D5EC-4AAE-B00E-58DCA3A4F72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SPF: Summary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ource-rooted Shortest Path Tre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 DVMRP, PIM-D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plicit Join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 can be calculated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fter IGMP information is sent to Source Subne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a Group-Membership LSA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ta-Drive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fter the first data arrives, the tree is now calculated (with forwarding cache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operable with unicast OSPF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DF43-6F62-4776-B8F9-CD0681E129A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SPF: Weaknes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jkstra’s algorithm must be ru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very time a new (S,G) pair is see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ste CPU resourc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SA (with Group Membership) flooding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 identify network topology and group informat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 OSPF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o much control overhead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t scalable to large network and group !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539E-FF41-4708-9126-AC748923F7E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pplication (Data Stream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CP or UDP Header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P Header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thernet (MAC) Frame header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hysical Layer: SONET/SDH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ptical bit (0/1) transmission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676520" y="4495680"/>
            <a:ext cx="5790600" cy="533520"/>
            <a:chOff x="1676520" y="4495680"/>
            <a:chExt cx="5790600" cy="533520"/>
          </a:xfrm>
        </p:grpSpPr>
        <p:sp>
          <p:nvSpPr>
            <p:cNvPr id="92" name=""/>
            <p:cNvSpPr/>
            <p:nvPr/>
          </p:nvSpPr>
          <p:spPr>
            <a:xfrm>
              <a:off x="1676520" y="4495680"/>
              <a:ext cx="837720" cy="5335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th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14240" y="4495680"/>
              <a:ext cx="838080" cy="533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52680" y="4495680"/>
              <a:ext cx="9900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CP/UD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43040" y="4495680"/>
              <a:ext cx="312408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pplication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FA81-98B5-4549-86E8-E9863147B0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mmary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nse Mod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st of group members are densely distribute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ithin a small network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lticast Routing Protocol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VMR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M-D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SPF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t scalable to large network or Sparse Group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, deployable in the small intrane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quires abundant network resourc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mall number of Sources and Group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EE05-FB21-4A00-A75E-86BB5E6849A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tocol Layer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GMP, Routing Protocols over I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SDP(Multicast Source Discovery Protocol)over TC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liable Multicast Transport Protocol over UD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4343400"/>
            <a:ext cx="137160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4648320"/>
            <a:ext cx="13716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5029200"/>
            <a:ext cx="1371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324480" y="4038480"/>
            <a:ext cx="1371600" cy="1447560"/>
            <a:chOff x="6324480" y="4038480"/>
            <a:chExt cx="1371600" cy="1447560"/>
          </a:xfrm>
        </p:grpSpPr>
        <p:sp>
          <p:nvSpPr>
            <p:cNvPr id="102" name=""/>
            <p:cNvSpPr/>
            <p:nvPr/>
          </p:nvSpPr>
          <p:spPr>
            <a:xfrm>
              <a:off x="6324480" y="4419360"/>
              <a:ext cx="1371600" cy="3049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24480" y="4724280"/>
              <a:ext cx="137160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 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24480" y="510516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24480" y="4038480"/>
              <a:ext cx="1371600" cy="380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429000" y="4038480"/>
            <a:ext cx="1371600" cy="1447560"/>
            <a:chOff x="3429000" y="4038480"/>
            <a:chExt cx="1371600" cy="1447560"/>
          </a:xfrm>
        </p:grpSpPr>
        <p:sp>
          <p:nvSpPr>
            <p:cNvPr id="107" name=""/>
            <p:cNvSpPr/>
            <p:nvPr/>
          </p:nvSpPr>
          <p:spPr>
            <a:xfrm>
              <a:off x="3429000" y="4419360"/>
              <a:ext cx="1371600" cy="3049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29000" y="4724280"/>
              <a:ext cx="137160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 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29000" y="510516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29000" y="4038480"/>
              <a:ext cx="1371600" cy="380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990720" y="403848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G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3733920"/>
            <a:ext cx="1371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3733920"/>
            <a:ext cx="1371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F899-456D-4285-B717-F7FCB7369A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GMP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GMPv1: Query &amp; Report(G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GMPv2: Lower Leave Latencey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ave Group(G) &amp; Group-Specific Query(G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GMPv3 (S,G): Source Filtering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19320" y="3429000"/>
            <a:ext cx="6629400" cy="25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0876-8835-4894-AE3E-6F58740023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ification of MRP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 Typ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urce-Specific Tre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enter-based Shared Tre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oin Typ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ata Driven (Implicit Join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plicit Joi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2FE9-C90A-46D1-97F6-1D9EAAB355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ulticast Routing Protocol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219320" y="2209680"/>
          <a:ext cx="6553080" cy="36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09680"/>
                    <a:ext cx="6553080" cy="36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5850-EAFF-4C6D-8507-6AD06210BFE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 Path Multicasting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oding: naive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oadcasting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PB (Reverse Path Broadcasting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ooding + Reverse Path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verse Path Forward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verse Path: shortest path toward Sourc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PB (Truncated RPB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PB + Truncated (Based on IGMP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op forwarding to Subne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PM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PB + Prune + Grat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une the branch from the tree, if no memb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fting, if a member appears agai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9522-C326-44B6-B79E-1B9013CFD1B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/>
  <dc:description/>
  <dc:language>en-US</dc:language>
  <cp:lastModifiedBy>Seok J. Koh</cp:lastModifiedBy>
  <cp:lastPrinted>2000-09-15T09:39:25Z</cp:lastPrinted>
  <dcterms:modified xsi:type="dcterms:W3CDTF">2000-12-11T02:51:44Z</dcterms:modified>
  <cp:revision>90</cp:revision>
  <dc:subject/>
  <dc:title>Introduction to IP Multicast</dc:title>
</cp:coreProperties>
</file>