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17C-EA9D-41D5-93DB-CE19AD1B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61F-C462-4249-BEC6-627C3A13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65E-870F-4F36-8264-5FC3D7B6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288-997E-4CCB-A495-6DBDA9CE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A7E-2A38-4C6A-B54C-D3B321F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615-F57A-4EFB-908D-2BE3AB1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939-5CF1-4089-ACEB-9B197F76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D69-E3CF-446B-B581-DEAE0BE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6A8-D75B-4630-B8E9-040A05A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7C9-787C-4BB9-B4BE-F212E88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D78-2CDA-4B00-AE67-D5FBC9C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61B-F50D-47C1-8345-145E820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296B-D31F-46E2-B0B2-E0CEF8837D30}" type="slidenum"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liable Multicast Transpor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ok Joo Ko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52F-BE33-486B-BF89-83A0E48274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 Flow/Congestion Control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 Size: ACK of Receiv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ailable (Receiver’s) Buffer Sp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iding Window (in Sending Buffer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ee points: Start/Current/En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point = Start + cwn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gestion Avoidanc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w Start &amp; Congestion M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meters: cwnd, ssthresh (RFC200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47920" y="4724280"/>
            <a:ext cx="5562000" cy="990720"/>
            <a:chOff x="1447920" y="4724280"/>
            <a:chExt cx="5562000" cy="990720"/>
          </a:xfrm>
        </p:grpSpPr>
        <p:sp>
          <p:nvSpPr>
            <p:cNvPr id="81" name=""/>
            <p:cNvSpPr/>
            <p:nvPr/>
          </p:nvSpPr>
          <p:spPr>
            <a:xfrm>
              <a:off x="1904760" y="51814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04760" y="571500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240" y="5181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440" y="5181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67080" y="5181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57040" y="472428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47242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240" y="48006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7920" y="52578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K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560" y="5257800"/>
              <a:ext cx="175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ent/UnACK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360" y="5257800"/>
              <a:ext cx="175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o be s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4A8-93D6-4A7C-A9E1-D02B2625F5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Control in RM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lability (many receiver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CP is applied to RM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K Implosions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ACK, also NACK Implosions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90720" y="3505320"/>
            <a:ext cx="7238880" cy="2133000"/>
            <a:chOff x="990720" y="3505320"/>
            <a:chExt cx="7238880" cy="2133000"/>
          </a:xfrm>
        </p:grpSpPr>
        <p:sp>
          <p:nvSpPr>
            <p:cNvPr id="95" name=""/>
            <p:cNvSpPr/>
            <p:nvPr/>
          </p:nvSpPr>
          <p:spPr>
            <a:xfrm>
              <a:off x="3581280" y="3505320"/>
              <a:ext cx="129564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5257440"/>
              <a:ext cx="10666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5257440"/>
              <a:ext cx="1066680" cy="38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.. 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62920" y="5257440"/>
              <a:ext cx="10666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57800" y="5257440"/>
              <a:ext cx="10666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6880" y="5257440"/>
              <a:ext cx="106704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828800" y="3809880"/>
              <a:ext cx="175248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429000" y="3962160"/>
              <a:ext cx="457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572000" y="3961800"/>
              <a:ext cx="8380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952880" y="3885480"/>
              <a:ext cx="236232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4419360"/>
              <a:ext cx="1067040" cy="38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.. 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42670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CK/N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429-DB22-4E87-B48D-E420957092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ny Approaches for RMT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if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iability Mechanis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K or NACK bas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air Request and Retransmiss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 or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edback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ure or Timer bas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w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te based or Window bas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entralized or Distribu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Manage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or Implici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ED9-AC59-4273-BE07-317A89408A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ny Approaches for RMT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l-Purpose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BP: Reliable Broadcas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P: Multicast Transpor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P: Reliable Multicas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TP: Xpress Transpor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GC: Uniform Reliable Group Communi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-point Interactive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M: Scalable Reliabl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BRM: Log-Based Receiver Reliabl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MP: Reliable Adaptive Multicas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M: Transport Protocol for Reliabl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D4A-254A-443C-8C8D-62D991E659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ny Approaches for RMT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 Dissemination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se: multicast news on MBON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P: Multicast Dissemination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DP: Adaptive File Dissemination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MTP: Tree-based Multicast Transpor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P: Reliable Multicast Transpor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FTP: Multicast File Transfer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RM: Structure Oriented Resilient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DP: Reliable Multicast Dissemination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540-2B29-414E-8E86-B7BC5B16E9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ification of Some RMT Protocol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me of Existing RM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P: Tree based ACK (from child to paren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M: Multicast N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GM: Router Suppor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FTP: Specific to FTP (Round base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: Forward Error Correc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GMP: Local Group bas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 for more in detai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research.ivv.nasa.gov/RMP/links.htm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nard.net/~tmont/rm-links.htm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137-5B5D-4633-865C-588E37136A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me Protocol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RM(Scalable Reliable Multicas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comm’9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eiver Initia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ulticast) NACK bas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ransmission Requests by using N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CK Suppression by Random Back-off Tim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Retransmiss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aciri.org/floyd/srm.htm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M applications: wb, MediaBoard, …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 ALF(Application Level Fram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 BB &amp; PI: IETF RMT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20A-2116-45CF-B58F-37BCF42A71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me Protocols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MTP (Reliable Multicast Transport Protoco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47676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F7D-0EC4-44F2-BF53-AD7064A180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me Protocols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GM (Pretty Good Multicas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teBarn =&gt; Talaria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172200" cy="330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124-455F-4632-AB05-79929DA57B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me Protocols (4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FTP (Multicast File Transfer Protoco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40080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41E-558D-4CC5-82F3-44F5E3688B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MT 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isting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rrently Major Protocols in IETF RMT WG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Multicast Perspectiv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0A7-36C8-4929-8AD3-7A57272C95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me Protocols (5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GMP (Local Group based Multicast Protoco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rk Hofmann: www.telematik.informatik.uni-karlsruhe.de/~hofmann/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8672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79F-5281-4F55-9933-21CBE88022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me Protocols (6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C (Forward Error Correction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 Feedb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k Source packets, Transmit n pack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k + (n - k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- k : Redundanc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 cod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y, n = k +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T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nado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871-8FBC-46C5-8049-EB5C148E69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ETF RMT W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RTF RMRG (Reliable Multicast Research Grou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ETF RMT WG: 1999. 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ilding Block Approac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-to-Many Bulk Data Transpor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ee Major Protocol Instantiations (PI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based ACK (TRACK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CK Oriented Reliable Multicast (NOR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hronous  Layered Coding (AL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ilding Block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ic Router Assi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 Error Correction (F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Configuration, NACK BB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663-9789-4D46-80E4-ABD1E2A87C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MT WG Draf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 BBs for One-to-Many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 Design Sp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hor Guidelines for RMT BB and PI document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B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ic Router Assist (GR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-rate Congestion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 Error Correc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Auto-Configur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hronous Layered Coding (AL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CK PI Architectu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urity Requirements For TRACK (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A39-4A98-47AF-9713-61242F074A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CK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P-II: Talarian Corpor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M: Sun MicroSyste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TP: ETRI (ITU-T SG7, JTC1/SC6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MTP-II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RMTP (Lucent): 1994 – 1997 (Sanjoy Pau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RMTP-II Version 1 (Globalcast): 1997. 9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RMTP-II Version 2 (Talarian): 1999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Implementation: on Windows NT 4.0 &amp; Sun Solari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Extensional features (FEC, Congestion Contr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Working on progres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1D5-12B1-4F01-A87B-E7565DDD62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CK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굴림체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굴림체"/>
              </a:rPr>
              <a:t>Talarian Corpor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2000. 4. 13: IPO (Initial Public Offering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20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년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월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: Acquisition of WhiteBarn (PG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Product Famil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Smart Sock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Mqexpress (middle-war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RMTP-II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PGM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굴림체"/>
              </a:rPr>
              <a:t>SUN MicroSystem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Project: Java Reliable Multicast Service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1998 -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615-A6BC-4B01-8C5B-7FF6B193B3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CK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TRI (ECT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t Project of ITU-T SG7 &amp; JTC1/SC6/WG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.ectp | CD 14476.4 (under 4th ballot proces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 Contributions from Korean Exper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TP Featur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Transport Protocol running over 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TF: RMT over UD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addition to IETF RMT, ECTP suppor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ion (Session) Manage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-to-end QoS negotiation/arbitr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-to-many group communicat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634-8521-4A34-A64D-AA39472481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EC based AL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 Protoco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DP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gital Fountain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nture Corporation (199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pital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llions $, 20 Employe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CEO: Cliff Meltzer (IBM &amp; Cisco 20 year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CTO (chief technical officer): Mike Lub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UC Berkle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FEC based error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Patent-pending Tech. + Mathematical algorith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ALC: Multi-rate based Congestion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F40-73AF-4B71-9F2F-2D57153202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 Protoco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M (Scalable Reliable Multicas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SA Universiti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ally Floyd (ACIRI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BONE: Whiteborad appli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NORM BB: very rough (framework for RM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Generic Overview of NACK and RM approac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굴림체"/>
              </a:rPr>
              <a:t>NACK suppression with exponential back-off tim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95D-740F-4D96-805D-707EF31ED4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CK P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ading Drafting Memb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ian Whetton (Talaria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h Ming Chiu (Sun MicroSyste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ed Draf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CK architectu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l material by Brian Whetton (2000. 2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viewed by Dah Ming and et. al. (2000. 3 - 6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G draft: 2000. 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Configuration BB: 2000. 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ian Levine, Brad Cain + TRAM + RMTP + ECT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CK Security: 2000. 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5D0-0647-44D2-980E-6E466AF439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Multicast Compon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Application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-to-Man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 (Group) Managemen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ssion Cre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ssion Announcement: SDP/SAP, Web, E-mai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ssion Enrollment: Authenti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Routing &amp; Forward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Forward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iable Multicast Transpor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iability for Multicast Deliver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oS Requirements(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2C2-8F07-4C6E-A929-4B957DE73E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CK Architectur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8168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29D-0A47-4E04-8DE1-A61EC69D378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et Typ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 Bind &amp; Confirm Packet (Accept &amp; Rejec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 Packe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ransmission Data Pakc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 Data Packe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 Packe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CK: ACK with a flag of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ave Request &amp; Confirm Packe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rtbeat Packe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artbeat Response Pack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ject Packet (for troublemaker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736-F024-4054-BD79-3BFDA8630D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 Configuration B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2000. 1 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 WG Interim mee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0. 3 : IETF meeting (Adelaide) Issu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ERS &amp; Many-Many Multicast (TRA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Dedicated Server for Repair Heads (RMT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0. 7 : RMT-TREE group mee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0. 8 : IETF meeting (Pittsbur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s are submitted (a rough sketch stil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E9F-A566-4DE5-995B-81473DD94C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 Configuration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rol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path for control Packet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K: from Children to Par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ransmission: From Parent to Childre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ttom-Up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eiver-Initia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receiver learns the Distance from Sen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?: Four Metric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n Group/Loose Control in Internet Environ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Connection Management Concept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Loop Guarantee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075-4B07-4CDC-B78B-636E0BA952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 Configuration: Issu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Loop Guarantee 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ttom-Up approac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istent with four metric 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) Heartbeat messa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S (from parent to chil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 (from a child to paren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end on TTL and Many-to-Many multi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p-Down Configuration (in ECTP) 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4F1-C800-4B92-B113-6A80C9A7BE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Multicast: Curren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Rou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isting: DVMRP/MOSPF/PIM/CBT/MSDP/BGM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: SSM(IGMPv3), SGM, 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fficult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-Domain Multicast Rou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gotiation and Policy between IS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ffic Control &amp; Manage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bership (Sender/Receivers) Manage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lling/Charging/Authenti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plication Level Multi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xed with Un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lication Relays: Multicast Ho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13F-59E9-4808-8B0A-F4C0BD9D55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Multicast: Tomorro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Multicast or Application Relay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xed Solutions: ALM (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 in Backbone &amp; Local Multicast (SS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Multicast Deployment Depends 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? : 1 - 3 or 5 - 10 years, or other tech.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ller Applicat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et TV Broad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-Time &amp; Unrelia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Business Model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es IP Multicast make money (How many users)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l Investment Cost (Router/Softwar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7E1-F903-48AB-87B4-5C6EB62422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&amp; Forward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: v1, v2, v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et Standard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/PIM-DM/MOSPF: Dense-M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SM/CBT: Sparse-M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DP/M-BGP/BGMP: Inter-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Approach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G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9F7-EC73-42CD-9723-325A26ED82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iable Multicast Transport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FC9-BE64-4E4B-A2BB-D8E3DAD1D9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iable Multicast Transport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MT Issues (End-to-End Transport Issue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iable Data Transfer: Error-Free/Loss-F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w/Congestion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just the Data Transmission R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w Control: Receiver side(Buffe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 Control: network sid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 Avoidan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urity Issu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992-84CC-4DC8-8F77-AEC84A2099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Control or Recovery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Types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rruption, Lo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Detect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 Receiv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ransmission Reque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Receiver to Sen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ransmiss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Recov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4F6-9488-43F1-9506-77C2F8090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Control or Recovery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TC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K(Acknowledgement)-bas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124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124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3886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240" y="3657600"/>
            <a:ext cx="38862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4038480"/>
            <a:ext cx="3886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191120"/>
            <a:ext cx="3886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743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819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200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wnd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wnd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514240" y="4191120"/>
            <a:ext cx="38098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419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wnd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4724280"/>
            <a:ext cx="3886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4952880"/>
            <a:ext cx="3886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14240" y="4343400"/>
            <a:ext cx="388620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02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wnd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124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a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505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K for Data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0D2-338E-4CCB-9398-A1DEE914DE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 Header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1676520"/>
          <a:ext cx="718812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1881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F5E-CA45-4A94-82F8-6D065B6F41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1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Seok J. Koh</cp:lastModifiedBy>
  <cp:lastPrinted>2000-09-15T09:39:25Z</cp:lastPrinted>
  <dcterms:modified xsi:type="dcterms:W3CDTF">2000-11-02T07:07:31Z</dcterms:modified>
  <cp:revision>210</cp:revision>
  <dc:subject/>
  <dc:title>Introduction to IP Multicast</dc:title>
</cp:coreProperties>
</file>