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4B1B-4127-4AEF-BD11-320EBC96B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E958-A4D4-4E2E-9832-310CC9453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7EE3-2D11-41E2-9F09-8A2F38332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2688-0F4A-42A0-BF79-8A29F967B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FE6F1-6661-4DC9-A2F4-F20580AA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4C5C8-771F-4C8D-8E61-5B6290AD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61EB3-8CAF-4078-80C7-E23118F8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E6A28-BCC6-4D6C-BA80-6A0C7510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D4DCC-68C4-4CA1-8F09-6D01667A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1EB9B-1872-4231-B26D-5CDF9249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B725F-4D52-400C-8665-1E58FD72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5DC7-386C-4ECB-8812-E6B1B668F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4A4D0-9259-4E14-830E-35DAEDA5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FE07-8450-40C0-B70A-207AFAC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8C950-65E2-40BE-86AA-084FFC9D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EDEEC-6794-448D-A133-B097A291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9AE30-AFD5-4487-8722-0F8439A3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20F0-45DD-4D44-B514-02665F8B3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F9C0-A0DF-4427-88E6-8FDC61A0B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39D6-AA94-4AB7-82DA-131DFAE5D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87E4-1E27-42E5-A8B1-B78C70F48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4708-F973-46B3-A31A-2B8B6B69F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FD86-0798-4798-8603-7D95D402E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5B06-7B6F-4972-9551-EFE5F356A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2"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3"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4"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5"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6"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DD0F-44C2-406A-BED4-3AF7EB12FE7A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/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583E-129C-48CA-BF0B-5C077FFE0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Y견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 algn="ctr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914400" algn="ctr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3" marL="1371600" algn="ctr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o.org/iso/standards_development/processes_and_procedures/iso_iec_directives_and_iso_supplement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Y헤드라인M"/>
              </a:rPr>
              <a:t>ISO/IEC Directives: Part 2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HY헤드라인M"/>
              </a:rPr>
              <a:t>&lt;</a:t>
            </a:r>
            <a:r>
              <a:rPr b="0" lang="zh-CN" sz="2900" spc="-1" strike="noStrike">
                <a:solidFill>
                  <a:srgbClr val="ffffff"/>
                </a:solidFill>
                <a:latin typeface="HY헤드라인M"/>
              </a:rPr>
              <a:t>표준문서 구조 및 작성방법</a:t>
            </a:r>
            <a:r>
              <a:rPr b="0" lang="en-US" sz="2900" spc="-1" strike="noStrike">
                <a:solidFill>
                  <a:srgbClr val="ffffff"/>
                </a:solidFill>
                <a:latin typeface="HY헤드라인M"/>
              </a:rPr>
              <a:t>&gt;</a:t>
            </a:r>
            <a:endParaRPr b="0" lang="en-US" sz="29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843280" y="4365360"/>
            <a:ext cx="439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52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HY견고딕"/>
              </a:rPr>
              <a:t>고석주</a:t>
            </a:r>
            <a:endParaRPr b="0" lang="en-US" sz="2100" spc="-1" strike="noStrike">
              <a:solidFill>
                <a:srgbClr val="000000"/>
              </a:solidFill>
              <a:latin typeface="HY견고딕"/>
            </a:endParaRPr>
          </a:p>
          <a:p>
            <a:pPr indent="0" algn="ctr">
              <a:lnSpc>
                <a:spcPct val="110000"/>
              </a:lnSpc>
              <a:spcBef>
                <a:spcPts val="52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HY견고딕"/>
              </a:rPr>
              <a:t>경북대학교</a:t>
            </a:r>
            <a:r>
              <a:rPr b="0" lang="en-US" sz="2100" spc="-1" strike="noStrike">
                <a:solidFill>
                  <a:srgbClr val="000000"/>
                </a:solidFill>
                <a:latin typeface="HY견고딕"/>
              </a:rPr>
              <a:t>/</a:t>
            </a:r>
            <a:r>
              <a:rPr b="0" lang="zh-CN" sz="2100" spc="-1" strike="noStrike">
                <a:solidFill>
                  <a:srgbClr val="000000"/>
                </a:solidFill>
                <a:latin typeface="HY견고딕"/>
              </a:rPr>
              <a:t>전자전기컴퓨터학부</a:t>
            </a:r>
            <a:endParaRPr b="0" lang="en-US" sz="21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1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여러 개의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Part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로 구성되는 표준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문서의 분할 기준은 무엇인가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8002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표준문서의 분할과 관련하여 보편적인 규칙은 없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219320" indent="-30492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대개는 분할하지 않고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하나의 표준문서로 구성함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8002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단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다음의 경우에는 여러 개의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Part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문서로 분할될 수 있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219320" indent="-30492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내용이 너무 많아서 하나의 문서에 포함하기에 적절하지 않은 경우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219320" indent="-30492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문서 내용의 일부가 “규제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(regulation)”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와 관련되어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따로 작업해야 하는 경우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219320" indent="-30492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여러 개의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Part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문서로 분할하는 것이 더 좋은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유리한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경우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표준문서의 분할은 해당 분과위원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(SC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의 승인이 필요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8002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분할이 필요한 경우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관련 기고서를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SC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총회에 제출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8D5C-5D03-4F0D-A471-822EDCC4C2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1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여러 개의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Part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로 구성되는 표준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를 구성하는 방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예제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 1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800280" indent="-34308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Part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문서가 독립적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stand alone)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주제를 다루는 경우 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3133800" cy="33130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572000" y="1413000"/>
            <a:ext cx="40384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구성하는 방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제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Part 1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은 공통 부분을 다루고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나머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Part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문서는 각각 특수한 이슈를 다루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951280" cy="16225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5585-9C21-4B84-9694-DBCC8C7FEC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1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여러 개의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Part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로 구성되는 표준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표준문서의 실제 분할 사례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1&gt;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ISO/IEC 14476 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표준명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ECTP (Enhanced Communications Transport Protocol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JTC1/SC6/WG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에서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199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년에 표준화 시작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200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년에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개의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Part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로 분할되어 추진됨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아래 참조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3716280"/>
            <a:ext cx="8229600" cy="2592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D3AC-2775-4DB4-B38D-F80889EA25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1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여러 개의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Part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로 구성되는 표준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표준문서의 실제 분할 사례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&gt;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ISO/IEC 24793 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표준명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MMC (Mobile Multicast Communications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JTC1/SC6/WG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에서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200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년에 표준화 시작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200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년에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개의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Part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로 분할되어 추진됨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아래 참조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3971880"/>
            <a:ext cx="8229600" cy="23367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8B5F-1344-42C6-9C3B-EDF7BC1533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1.2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단일 문서의 내용 구성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단일 문서의 내용 전개는 다음을 사용하여 세분화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800280" indent="-34308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clause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세부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sub-clause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단락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paragraph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800280" indent="-34308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부록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annex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각 절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세부절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단락 등의 번호체계는 아래 표를 따른다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3971880"/>
            <a:ext cx="6337440" cy="23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2338-837B-4B91-98A8-261686686B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1.2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단일 문서의 내용 구성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표준문서는 대개 다음과 같이 구성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앞부분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: Introductory &amp; Informative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Title page, Table of Contents, Forward, Introduction,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본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Body): Normative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Title, Scope, Normative reference, Terms and definitions, Abbreviation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Technical texts (clauses)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부록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Annex (normative and/or informative)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Bibliography, Index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00B8-2A69-4E6B-B439-57F1C9C819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1.2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단일 문서의 내용 구성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Table 2 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다음 페이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상기한 목차의 전형적인 순서를 보여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준문서가 상기한 모든 내용을 반드시 포함할 필요는 없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, Foreword, Title, Scope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는 반드시 포함해야 함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Normative &amp; Informative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용어의 의미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Normative: “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필수사항”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반드시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nformative: “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선택사항”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참조용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C536-4EF4-483E-8E3C-0BAFFC3B88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1.2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단일 문서의 내용 구성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51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2502-8F11-4579-804B-E8064484EE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2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내용 구성 체계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2.2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문서내용 구성체계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번호 체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: numbering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1 Part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2 Clause, Subclause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3 Paragraph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4 Lists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5 Annex, Bibliography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및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Indexes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9D60-2A14-4B55-9C83-29503B32B1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2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내용 구성 체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Annex C of Directives-2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200" y="1197000"/>
            <a:ext cx="8229600" cy="5111640"/>
            <a:chOff x="457200" y="1197000"/>
            <a:chExt cx="8229600" cy="51116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457200" y="1197000"/>
              <a:ext cx="8229600" cy="5111640"/>
            </a:xfrm>
            <a:prstGeom prst="rect">
              <a:avLst/>
            </a:prstGeom>
            <a:ln w="9360">
              <a:solidFill>
                <a:srgbClr val="00007d"/>
              </a:solidFill>
              <a:miter/>
            </a:ln>
          </p:spPr>
        </p:pic>
        <p:sp>
          <p:nvSpPr>
            <p:cNvPr id="154" name=""/>
            <p:cNvSpPr txBox="1"/>
            <p:nvPr/>
          </p:nvSpPr>
          <p:spPr>
            <a:xfrm>
              <a:off x="457200" y="1197000"/>
              <a:ext cx="8229600" cy="51116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04A9-51FB-4B10-AB06-977E4EE035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전 체 목 차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Directives (Part 2)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문서에 대한 소개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 구조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Structure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Directives (Part 2): 5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절 및 관련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Annex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 작성방법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Drafting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Directives (Part 2): 6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절 및 관련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Annex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4.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참고문헌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표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준문서 작성과 관련된 참고문헌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준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목록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6867-AC1D-4200-8290-7D25E8BD5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2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 내용 구성체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사례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ISO/IEC 14476-1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351C-44A6-4967-9FB9-CD7B38E30F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2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내용 구성체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Part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각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의 번호는 아라비아 숫자를 사용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부터 시작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예제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) 9999-1, 9999-2, ..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예제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) 14476-1, 14476-2, …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각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Part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문서의 제목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Title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은 “공통 제목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general title)”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을 포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아래 예시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3573360"/>
            <a:ext cx="8229600" cy="27352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FBCB-E175-4AD2-814B-328A4B0839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</a:rPr>
              <a:t>2.2.2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</a:rPr>
              <a:t>문서내용 구성체계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</a:rPr>
              <a:t>: Clause, Subclause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Clause 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필수사항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Scope (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, Normative References (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이후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3, 4, 5, .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처럼 순서대로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clause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번호를 부여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Subclause 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세부 절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각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Clause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는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1.1, 1.1.1, 1.1.1.1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의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subclause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로 세분화 될 수 있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subclause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는 번호 단계는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단계를 넘지 않도록 할 것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 5.1.1.1.1.1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까지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3645000"/>
            <a:ext cx="8229600" cy="26636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1E96-DFDF-4395-A480-87D3087221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2.3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내용 구성체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Paragraph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Paragraph 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단락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단락은 번호를 부여하지 않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아래처럼 “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hanging paragraph”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는 사용하지 말 것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본문 내에서 해당 부분을 참조하기 어려움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삭제하거나 위치를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subclause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로 이동 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6208-4A8D-4F03-B211-70B24B9918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2.4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내용 구성체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List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List 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목록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을 사용하는 예제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문장 다음에 목록 나열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소문자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a), b), c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를 사용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필요하면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sub-list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를 추가할 수 있음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 1), 2), 3) 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주의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 List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는 “목차”에 포함되지 않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목차에 포함될 필요가 있는 내용은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, List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보다는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subclause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를 사용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3716280"/>
            <a:ext cx="8229600" cy="2592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7E81-B784-424A-BBA1-3CB735A265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2.4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내용 구성체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List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List 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목록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을 사용하는 예제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완전한 문장으로 종결되는 경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콜론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:)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다음에 목록 내용 기술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각 항목마다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bullet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을 사용할 수 있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각 항목 뒤에는 세미콜론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(;) </a:t>
            </a: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추가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맨 뒤 항목에는 마침표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(.) </a:t>
            </a: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추가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8229600" cy="2016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DF45-CC5D-4AEB-8F69-7E0D66D503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2.4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내용 구성체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List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List 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목록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을 사용하는 예제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전치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preposition)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로 문장이 종결되는 경우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아래 예제 참조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맨 뒤 항목에는 마침표를 추가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주의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)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목록 뒤에서 문장이 계속되지 않도록 할 것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6059520" cy="17622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1988-CD74-47C9-8A3E-9B69A26FB1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2.5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내용 구성체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Annex, Bibliography, Index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본문 뒤에는 다음 사항이 올 수 있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차례대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Annex: Normative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nformative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로 분류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Normative: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본문 내용의 일부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(integral part of the body)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로 간주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nformative: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본문 내용의 일부가 아님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단순한 참조용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순서는 본문에서 인용되는 순서를 따름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 Annex A, Annex B, Annex C, ..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절의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Normative References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에 포함시키기 어려운 참고문헌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nformative References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에 해당함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ndex 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찾아보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필요한 경우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문서의 맨 뒤에 추가할 수 있음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대개 사용하지 않음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B343-81C9-49F0-9636-6BCD9BB7C9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 작성방법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drafting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1 Preliminary informative elements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2 General normative elements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3 Technical normative elements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4 Supplementary informative elements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5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작성 규칙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세부 사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ED5F-27A2-4633-AD85-4D0E288A17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1 Preliminary informative element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&lt;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의 앞부분에 위치하는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informative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항목들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1.1 Title page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1.2 Table of Contents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1.3 Forward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.1.4 Introduction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D50A-766F-4B5A-85D5-0C22FEF2FA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본 문서는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ISO/IEC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디렉티브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Part 2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에 대한 설명자료임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004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년판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국제표준 문서의 구조 및 작성방법에 관한 규칙을 기술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6910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B283-DECA-4EC3-B63B-595DDE3E58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1.1 Title page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의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cover page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문서 제목을 포함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다른 사항들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IS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발간 단계에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ISO/IEC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사무국에서 추가 편집함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ISO/IEC JTC1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의 모든 문서는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Title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의 맨 앞에 “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Information technology”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가 붙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JTC1</a:t>
            </a: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의 표준 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Scope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E910-81FA-47DB-AEA3-F69DD17308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1.1 Title page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Title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은 다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가지 요소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element)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로 나뉘어짐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ntroductory element (optional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문서가 속하는 큰 범주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기술 분류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 Information Technology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Main element (obligatory):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반드시 포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제목은 “간단명료”하게 설정할 것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Complementary element (optional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여러 개의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art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문서로 표준이 구성되는 경우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해당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art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제목을 명기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71640" y="5300640"/>
            <a:ext cx="6811920" cy="8780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3303-BE23-4B2F-A311-312CA77ED0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1.2 Table of Contents (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목차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필수 사항은 아니지만 가급적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특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긴 문서의 경우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참고사항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문서 내용에 포함된 모든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clause, subclause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들을 나열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문서편집 과정에서 목차가 “자동”으로 생성되도록 할 것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Terms &amp; Definitions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의 해당 항목들은 표시되지 않도록 할 것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분량이 너무 많음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0542-0E3D-474A-BC62-4940BD72E4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1.2 Table of Contents (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목차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참고사항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계속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뒷 부분에 표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Tables)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및 그림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Figures)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목차도 표시하면 좋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52400" y="2509920"/>
            <a:ext cx="7639200" cy="18381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632720" cy="17240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EA04-C7C2-41AC-801B-BD29ECF809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1.3 Foreword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해당 표준문서 관련 일반사항 기술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표준의 내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이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주관기구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예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: JTC1/SC6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기타 표준화 작업 관련 사항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표준 문서 승인 등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관련된 표준문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Part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문서 정보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기타 행정관련 사항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대개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IS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준승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출간 단계에서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SO, IEC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사무국에서 직접 작성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7B1C-349A-47E6-85AA-C7D566ACDE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1.4 Introduction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서론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선택사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(optional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문서의 기술적 내용에 참고사항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해당 표준개발 배경 등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특허권이 있는 경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명시함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그림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표 등이 포함될 수 있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번호 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로 시작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4719-216B-4EEA-A57B-4F7C338823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2 General normative elements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준문서의 본문에 해당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음 사항을 반드시 포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Scope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Normative References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C964-9767-4F8D-BD78-C9FDE7A57D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2.1 Scope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문서에서 다루는 내용의 범위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음 문구 예시 참조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2498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3543120" cy="19335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11280" y="5013360"/>
            <a:ext cx="3529080" cy="333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CB11-4B1B-4BC6-8617-AEB37D9F67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2.2 Normative Reference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공식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(normative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참고문헌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문서에서 “반드시” 참조해야 하는 문헌들을 수록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각 문헌에 대한 표준번호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발간기구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발간년도 등을 정확히 기록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참고문헌 문서가 수정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변경되는 경우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이를 파악할 수 있어야 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공식 문헌의 범위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원칙적으로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ISO, IEC, ISO/IEC JTC1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에서 발간된 문서를 의미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타 표준기구의 경우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ISO/IEC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에서 인정할 수 있는 기구여야 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대개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ISO/IEC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와 공식적인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liaison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관계를 체결하고 있는 표준기구들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) IEEE, ITU, ETSI, IETF (Standard Track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의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RFC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문서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상기에 포함되는 않는 문서의 경우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맨 뒤의 “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Bibliography”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에 수록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9ED6-E77A-4FC1-A7D2-8B6E23AFC0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2.2 Normative References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3971880"/>
            <a:ext cx="8229600" cy="23367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1484280"/>
            <a:ext cx="8229600" cy="23353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D9DF-6962-47DB-A788-79BA9F71A9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개요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디렉티브 문서는 다음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ISO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홈페이지에서 구할 수 있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666699"/>
                </a:solidFill>
                <a:uFillTx/>
                <a:latin typeface="HY견고딕"/>
                <a:hlinkClick r:id="rId1"/>
              </a:rPr>
              <a:t>http://www.iso.org/iso/standards_development/processes_and_procedures/iso_iec_directives_and_iso_supplement.htm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2924280"/>
            <a:ext cx="8229600" cy="338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B13A-CF5F-47CD-9A36-91712D30D5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2.2 Normative Reference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대개 다음의 인용관련 문구를 사용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다음 문구 등은 바람직하지 않음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543720" cy="6667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258920" y="4508640"/>
            <a:ext cx="6781680" cy="9810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EB6E-F4D3-439F-A627-6D2BEA7CCC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 Technical Normative Element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표준문서의 본문에 다음 사항을 수록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2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절 이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Terms and definitions 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대개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절에 해당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Symbols and abbreviations 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대개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절에 해당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Technical Description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절 이후부터는 “문서 내용”에 따라 여러 개의 절로 구성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실제 표준문서의 내용에 해당함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Normative Annex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Normative Annex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는 본문의 일부로 간주함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편의상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분량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특성 등을 고려하여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 Annex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에 배치함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D4F2-7B93-4048-AC38-E4FAB82876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1 Terms and Definitions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에서 사용되는 용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terms)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및 정의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definitions)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수록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른 문서에 이미 동일한 용어가 정의되어 있는 경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가급적 중복 정의를 피해야 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용어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정의 등은 앞부분 목차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Contents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에 표시되지 않도록 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용어를 새로이 정의하는 경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음 문구를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기존 문서의 용어를 재사용하는 경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음 문구를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42920" y="3645000"/>
            <a:ext cx="7039080" cy="4093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7790040" cy="5619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E9DA-71D8-4C76-A09B-5AA8567F600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1 Terms and Definitions (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736640"/>
            <a:ext cx="8229600" cy="43196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55EA-DB48-44CF-8807-8B304B06D3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1 Terms and Definitions (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39E1-3CAC-4E8B-8534-9ACBB695867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2 Symbols and Abbreviation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약어정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선택사항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필요한 경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용어에 대한 약어 등을 수록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앞선 “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Terms and Definitions”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와 같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clause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에 포함시킬 수 있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가급적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문자순서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alphabetical order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에 따라 배열할 것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용어사용에 대한 관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Convention)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를 명기할 수도 있음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16000" y="4365720"/>
            <a:ext cx="6858000" cy="12096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C927-EE34-47ED-961B-5FEF8791B1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2 Symbols and Abbreviations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시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5400720" cy="47530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2606-AE23-4ADF-B3DA-A6C4A27DF08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3 Technical Description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이후에 실제 표준문서 내용에 해당하는 기술적 사항들을 수록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분량 및 특성에 따라 여러 개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clauses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로 구성할 수 있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하나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clause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를 다단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sub-clause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로 나눌 수 있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clause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의 제목은 내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특성을 반영하여 적절히 설정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57200" y="3284640"/>
            <a:ext cx="8229600" cy="3024000"/>
            <a:chOff x="457200" y="3284640"/>
            <a:chExt cx="8229600" cy="302400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457200" y="3284640"/>
              <a:ext cx="8229600" cy="3024000"/>
            </a:xfrm>
            <a:prstGeom prst="rect">
              <a:avLst/>
            </a:prstGeom>
            <a:ln w="9360">
              <a:solidFill>
                <a:srgbClr val="00007d"/>
              </a:solidFill>
              <a:miter/>
            </a:ln>
          </p:spPr>
        </p:pic>
        <p:sp>
          <p:nvSpPr>
            <p:cNvPr id="237" name=""/>
            <p:cNvSpPr txBox="1"/>
            <p:nvPr/>
          </p:nvSpPr>
          <p:spPr>
            <a:xfrm>
              <a:off x="457200" y="3284640"/>
              <a:ext cx="8229600" cy="3024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4C01-FBEE-4916-88B5-84DF7C7F654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3 Technical Description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57200" y="1484280"/>
            <a:ext cx="4038480" cy="4824360"/>
            <a:chOff x="457200" y="1484280"/>
            <a:chExt cx="4038480" cy="482436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457200" y="1484280"/>
              <a:ext cx="4038480" cy="4824360"/>
            </a:xfrm>
            <a:prstGeom prst="rect">
              <a:avLst/>
            </a:prstGeom>
            <a:ln w="9360">
              <a:solidFill>
                <a:srgbClr val="00007d"/>
              </a:solidFill>
              <a:miter/>
            </a:ln>
          </p:spPr>
        </p:pic>
        <p:sp>
          <p:nvSpPr>
            <p:cNvPr id="241" name=""/>
            <p:cNvSpPr txBox="1"/>
            <p:nvPr/>
          </p:nvSpPr>
          <p:spPr>
            <a:xfrm>
              <a:off x="457200" y="1484280"/>
              <a:ext cx="4038480" cy="482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48320" y="1484280"/>
            <a:ext cx="4038480" cy="4824360"/>
            <a:chOff x="4648320" y="1484280"/>
            <a:chExt cx="4038480" cy="482436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4648320" y="1484280"/>
              <a:ext cx="4038480" cy="4824360"/>
            </a:xfrm>
            <a:prstGeom prst="rect">
              <a:avLst/>
            </a:prstGeom>
            <a:ln w="9360">
              <a:solidFill>
                <a:srgbClr val="00007d"/>
              </a:solidFill>
              <a:miter/>
            </a:ln>
          </p:spPr>
        </p:pic>
        <p:sp>
          <p:nvSpPr>
            <p:cNvPr id="244" name=""/>
            <p:cNvSpPr txBox="1"/>
            <p:nvPr/>
          </p:nvSpPr>
          <p:spPr>
            <a:xfrm>
              <a:off x="4648320" y="1484280"/>
              <a:ext cx="4038480" cy="482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E82F-F858-4A99-8142-AF2C0E87FF9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3 Technical Description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계속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7200" y="1484280"/>
            <a:ext cx="4038480" cy="4824360"/>
            <a:chOff x="457200" y="1484280"/>
            <a:chExt cx="4038480" cy="482436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457200" y="1484280"/>
              <a:ext cx="4038480" cy="4824360"/>
            </a:xfrm>
            <a:prstGeom prst="rect">
              <a:avLst/>
            </a:prstGeom>
            <a:ln w="9360">
              <a:solidFill>
                <a:srgbClr val="00007d"/>
              </a:solidFill>
              <a:miter/>
            </a:ln>
          </p:spPr>
        </p:pic>
        <p:sp>
          <p:nvSpPr>
            <p:cNvPr id="248" name=""/>
            <p:cNvSpPr txBox="1"/>
            <p:nvPr/>
          </p:nvSpPr>
          <p:spPr>
            <a:xfrm>
              <a:off x="457200" y="1484280"/>
              <a:ext cx="4038480" cy="482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648320" y="1484280"/>
            <a:ext cx="4038480" cy="4824360"/>
            <a:chOff x="4648320" y="1484280"/>
            <a:chExt cx="4038480" cy="4824360"/>
          </a:xfrm>
        </p:grpSpPr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4648320" y="1484280"/>
              <a:ext cx="4038480" cy="4824360"/>
            </a:xfrm>
            <a:prstGeom prst="rect">
              <a:avLst/>
            </a:prstGeom>
            <a:ln w="9360">
              <a:solidFill>
                <a:srgbClr val="00007d"/>
              </a:solidFill>
              <a:miter/>
            </a:ln>
          </p:spPr>
        </p:pic>
        <p:sp>
          <p:nvSpPr>
            <p:cNvPr id="251" name=""/>
            <p:cNvSpPr txBox="1"/>
            <p:nvPr/>
          </p:nvSpPr>
          <p:spPr>
            <a:xfrm>
              <a:off x="4648320" y="1484280"/>
              <a:ext cx="4038480" cy="482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1610-1916-44E4-943E-46ACDE70E72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디렉티브 문서는 본문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7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과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9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개의 부록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annex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으로 구성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62120" indent="-30492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여기서는 주로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문서 구조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과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drafting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내용을 다룸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762120" indent="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본 자료의 구성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62120" indent="-30492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장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개요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디렉티브 소개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762120" indent="-30492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장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문서구조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디렉티브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762120" indent="-30492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장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문서작성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디렉티브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762120" indent="-30492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장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추가 참고문헌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표준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CDAB-F303-464F-8AF0-859356DF68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4 Normative Annex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부록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선택사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optional)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본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Body)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이후에 여러 개의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Annex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가 올 수 있음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Normative Annex: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본문의 일부에 해당함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편의상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Annex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에 수록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분량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특성 등을 고려하여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nformative Annexes: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참고용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Optional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혹은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nformation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관련 내용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01CA-A1BC-4284-BE5C-7065B03EDD6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3.4 Normative Annex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87B2-16DF-4D56-B0B9-98E76B4742D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4 Supplementary Informative Elements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보충자료로써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본문 뒤에 다음 사항이 올 수 있음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nformative Annex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Other informative elements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Note, Example, Footnote  (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본문 중간에 수록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9A34-E9F7-405D-87F5-49CD7749DC7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4.1 Informative Annex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44A5-AD36-4C2A-9EC6-B2A5648169F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4.2 Bibliography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Normative References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에 수록되지 않는 참고문헌 수록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본 문서의 이해를 위해 도움이 되는 참고 문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ISO/IEC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</a:rPr>
              <a:t>기구 이 외의 표준문서를 참고하는 경우에 자주 활용됨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타 표준기구의 문서라 할지라도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, “</a:t>
            </a: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반드시” 포함되어야 하는 경우에는 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Normative Reference</a:t>
            </a:r>
            <a:r>
              <a:rPr b="1" lang="zh-CN" sz="1600" spc="-1" strike="noStrike">
                <a:solidFill>
                  <a:srgbClr val="000000"/>
                </a:solidFill>
                <a:latin typeface="돋움"/>
              </a:rPr>
              <a:t>에 수록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57200" y="3500280"/>
            <a:ext cx="8229600" cy="2808360"/>
            <a:chOff x="457200" y="3500280"/>
            <a:chExt cx="8229600" cy="280836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57200" y="3500280"/>
              <a:ext cx="8229600" cy="2808360"/>
            </a:xfrm>
            <a:prstGeom prst="rect">
              <a:avLst/>
            </a:prstGeom>
            <a:ln w="9360">
              <a:solidFill>
                <a:srgbClr val="00007d"/>
              </a:solidFill>
              <a:miter/>
            </a:ln>
          </p:spPr>
        </p:pic>
        <p:sp>
          <p:nvSpPr>
            <p:cNvPr id="264" name=""/>
            <p:cNvSpPr txBox="1"/>
            <p:nvPr/>
          </p:nvSpPr>
          <p:spPr>
            <a:xfrm>
              <a:off x="457200" y="3500280"/>
              <a:ext cx="8229600" cy="2808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AFA4-474E-48BE-A191-EC0E7BFA343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4.3 Index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Index 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찾아보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문서에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ndex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가 필요한 경우에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꼭 포함시킬 필요는 없음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SO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사무국과 협의하여 추가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A582-5278-4E3E-BB8E-BCCD85EA226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4.4 Other informative element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그 밖에 본문 안에 다음 항목들을 추가할 수 있음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Note, Example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본문 기술상에 필요할 경우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Note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혹은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Example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추가 가능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가급적 절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(Clause)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혹은 단락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(paragraph)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의 끝 부분에 추가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하나의 절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(clause, sub-clause)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안에 여러 개의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Note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혹은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Example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을 추가하는 경우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일련 번호를 매김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: NOTE1, NOTE2, ..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: EXAMPLE1, EXAMPLE 2,..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Clause/sub-clause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가 바뀌면 번호를 새로 매김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84360" y="5084640"/>
            <a:ext cx="7775280" cy="10810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E7A7-0E73-46FB-808C-4AE1A8D153C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4.4 Other informative element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그 밖에 본문 안에 다음 항목들을 추가할 수 있음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Footnote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Text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혹은 표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그림에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Footnote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를 추가할 수 있음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참조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해당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부분의 단어 혹은 문장에 윗첨자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(superscript)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로 표기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아래 참조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7683480" cy="16574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2987640" y="5013360"/>
            <a:ext cx="388944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395D-8F2B-4ED4-8B20-A0949E0ABAD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작성 규칙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실제 문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본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작성 과정에서 유의해야 하는 규칙들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.5.1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동사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verb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의 표현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.5.2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기관명의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.5.3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제품명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trade name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의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.5.4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특허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.5.5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그림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.5.6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.5.7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내용 참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.5.8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수치의 표현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.5.9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수학 공식의 표현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DF4C-5695-43AB-9F99-26B9DBC9DD6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동사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verb)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의 표현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규격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문서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작성시에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해당 내용이 필수사항인지 선택사항인지 등을 표현하기 위해 다음의 동사들이 선택적으로 사용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Requirement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필수사항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Shall, shall no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Recommendation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권고사항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Should, should no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Permission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허가사항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May, need no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Possibility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할수있음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Can, canno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1195-CC45-4471-8EAE-E23952B56BF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본 자료는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Directives, Part 2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문서의 이해를 돕기 위해 작성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8002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편의상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목차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순서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등을 적절히 재구성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80028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디렉티브 문서는 “국제표준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(IS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문서”에 대한 사항을 규정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8002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표준문서 에디터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Editor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가 표준문서 제정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개정 작업 시에 참조해야 할 사항임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2574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공식적인 표준문서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: WD, CD, IS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800280" indent="-34308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일반 “기고문서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contribution document)”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의 서식에 대한 사항은 디렉티브에서 별도로 다루지는 않으나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디렉티브 내용이 기고서 작성 준비 시에 좋은 참조가 될 수 있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0359-BD2D-438E-8C5D-13022060F9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동사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verb)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의 표현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0E00-6154-4865-B5B4-6CE129EE319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동사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verb)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의 표현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21512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CE97-69DC-405C-8FA9-C8E73B16728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동사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verb)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의 표현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7690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4D8F-7930-4095-BB4F-C83033E94B1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동사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verb)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의 표현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448400" cy="37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7B2A-B5B0-4F59-B500-2E7A6143852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2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기관명의 사용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기관명 사용에 관한 규칙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기관명을 언급해야 하는 경우 원어 그대로 사용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영어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프랑스어 등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가급적 기관명은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full name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으로 쓰고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약어 사용을 피할 것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기관명을 약어로 사용하는 경우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별도의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Abbreviation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절에서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절 혹은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절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 full name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을 정의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) IETF     Internet Engineering Task Force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그렇지 않은 경우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본문에서 처음으로 언급하는 경우에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, full name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을  표기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) ~~  Internet Engineering Task Force (IETF) ~~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뒷 부분에서 재언급되지 않을 시에는 약어를 사용할 필요 없음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01FC-09F4-4846-AA7A-D5A701422EA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3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제품명의 사용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제품명 사용에 관한 규칙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가급적 특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proprietary)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제품명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trade/product name)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사용을 자제할 것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불가피한 경우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제품명이 언급이 꼭 필요한 경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음 예시처럼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footnote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와 함께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7920000" cy="9367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33320" y="5013360"/>
            <a:ext cx="8086680" cy="9367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7F5C-F7AE-412E-A53D-504C0E3C670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4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특허권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표준과 특허권에 관한 일반 사항은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Directives, Part 1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참조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Directives, Part 2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에 명시된 사항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HY견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의 투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ballot)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단계에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모든 투표문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CD, FCD, FDIS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투표 등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에는 “커버 페이지”에 다음 문구를 포함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808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808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808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HY견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표준화 작업 중에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HY견고딕"/>
              </a:rPr>
              <a:t>어떠한 관련 특허도 발견되지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HY견고딕"/>
              </a:rPr>
              <a:t>(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HY견고딕"/>
              </a:rPr>
              <a:t>신고되지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HY견고딕"/>
              </a:rPr>
              <a:t>)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HY견고딕"/>
              </a:rPr>
              <a:t>않은 경우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 “Foreword”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절에 다음 문구를 포함함  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163000" cy="6080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68360" y="5300640"/>
            <a:ext cx="8143920" cy="9158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3B8D-520B-4472-896F-2D47C1B4C16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4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특허권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) 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표준화 작업 중에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HY견고딕"/>
              </a:rPr>
              <a:t>관련 특허가 발견된 경우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에는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 “Introduction”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절에 다음 문구를 포함함  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15480" cy="36766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4AB1-26FD-4D87-82BF-B44208DBAC6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5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그림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그림 번호 체계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본문 내의 그림은 일련 번호를 사용함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clause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에 관계 없이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 Figure 1, Figure 2, …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Annex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에서는 별도의 일련 번호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 Annex B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의 경우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: Figure B.1, Figure B.2, …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Sub-figures: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하나의 그림이 여러 개의 세부 그림으로 구성되는 경우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소문자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a), b)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를 사용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: Figure 1(a), Figure 1(b)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로 인용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잘못된 그림 번호체계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) Figure 1-1, Figure 1.1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그림 번호와 그림 제목 사이에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dash(-)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추가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124000" y="5300640"/>
            <a:ext cx="4248360" cy="5810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2F24-EE29-492F-BD85-530B6B1082B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5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그림 표현방식과 관련된 표준들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그림 관련 문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letter)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기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symbol)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SO 31-1, ISO 3098-2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Diagram, graphic symbols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관련 사항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EC 61082, ISO 14617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연속된 그림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여러 페이지에 하나의 그림을 도시하는 경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음과 같이 표현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059280" y="4724280"/>
            <a:ext cx="2590560" cy="5590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5535-9D9D-425A-9105-C6D0DCCD28D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개요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일반 기고서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 표준문서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국제 표준화 회의에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일반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기고서를 제출하고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발표 및 토의를 통해 확정된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승인된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내용이 “표준문서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WD, CD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등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”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에 반영됨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일반 기고서 서식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일반 기고서의 서식에 대해서는 특별한 제약사항이 없음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대개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SC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별로 필요한 서식을 임의로 지정하여 사용함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준비한 기고서 본문에 오른쪽 샘플 커버페이지를 첨부하여 회의에 제출함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680000"/>
          </a:xfrm>
          <a:prstGeom prst="rect">
            <a:avLst/>
          </a:prstGeom>
          <a:ln w="12600">
            <a:solidFill>
              <a:srgbClr val="1c1c1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7C48-2581-41BC-B4A9-E2E04C03B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5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그림 배치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layout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오른쪽 위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단위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(unit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관련 설명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중앙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그림 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spcAft>
                <a:spcPts val="201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아래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: Key (legend), paragraph, note, footnote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윗첨자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a, b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사용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3213000"/>
            <a:ext cx="8229600" cy="30956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BE7D-141E-4538-B2FD-58FEAC3C52D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5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그림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57200" y="1484280"/>
            <a:ext cx="8229600" cy="4824360"/>
            <a:chOff x="457200" y="1484280"/>
            <a:chExt cx="8229600" cy="482436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457200" y="1484280"/>
              <a:ext cx="8229600" cy="4824360"/>
            </a:xfrm>
            <a:prstGeom prst="rect">
              <a:avLst/>
            </a:prstGeom>
            <a:ln w="9360">
              <a:solidFill>
                <a:srgbClr val="00007d"/>
              </a:solidFill>
              <a:miter/>
            </a:ln>
          </p:spPr>
        </p:pic>
        <p:sp>
          <p:nvSpPr>
            <p:cNvPr id="311" name=""/>
            <p:cNvSpPr txBox="1"/>
            <p:nvPr/>
          </p:nvSpPr>
          <p:spPr>
            <a:xfrm>
              <a:off x="457200" y="1484280"/>
              <a:ext cx="8229600" cy="482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4AC1-4646-46BA-B3F6-5D9C7FE9964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6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표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표 번호 체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그림과 동일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본문 내에서 일련 번호를 사용함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clause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에 관계 없이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) Table 1, Table 2, …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Annex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에서는 별도의 일련 번호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) Annex B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의 경우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</a:rPr>
              <a:t>: Table B.1, Table B.2, …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중복된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표안에 표가 있는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사용은 허용하지 않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표 번호와 제목 사이에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dash(-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추가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124000" y="4797360"/>
            <a:ext cx="4176720" cy="6112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5D6B-30AA-4BC4-9F1F-ECB91CFC26A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6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표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표의 배치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layout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단위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unit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는 표의 오른쪽 상단에 표기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 하단에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note, footnote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추가 가능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표 안에 있는 각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cell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의 첫 문자는 대문자로 시작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음 페이지 예제 참조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연속된 표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하나의 표가 여러 페이지에 걸치는 경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음과 같이 표현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771640" y="5445000"/>
            <a:ext cx="2664000" cy="4748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5817-CA96-4721-AC32-95CBDF66059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6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E451-DAEF-40EB-B0AE-05868DAB042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6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잘못된 예제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Example 3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잘못된 예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은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Example 4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로 바꾸어서 표현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6729480" cy="260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2C33-5C5A-4ADD-96A8-B732F43DFCB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7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내용 참조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기존에 언급된 내용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혹은 다른 참고문헌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은 적극적으로 인용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불필요하게 문서 내용이 많아지는 것을 방지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1)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내용 기술 중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본 표준문서 자체를 지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인용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하고자 하는 경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다음 문구 사용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5832360" cy="7920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grpSp>
        <p:nvGrpSpPr>
          <p:cNvPr id="326" name=""/>
          <p:cNvGrpSpPr/>
          <p:nvPr/>
        </p:nvGrpSpPr>
        <p:grpSpPr>
          <a:xfrm>
            <a:off x="468360" y="4869000"/>
            <a:ext cx="8410680" cy="1368360"/>
            <a:chOff x="468360" y="4869000"/>
            <a:chExt cx="8410680" cy="13683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468360" y="4869000"/>
              <a:ext cx="8410680" cy="1368360"/>
            </a:xfrm>
            <a:prstGeom prst="rect">
              <a:avLst/>
            </a:prstGeom>
            <a:ln w="9360">
              <a:solidFill>
                <a:srgbClr val="00007d"/>
              </a:solidFill>
              <a:miter/>
            </a:ln>
          </p:spPr>
        </p:pic>
        <p:sp>
          <p:nvSpPr>
            <p:cNvPr id="328" name=""/>
            <p:cNvSpPr/>
            <p:nvPr/>
          </p:nvSpPr>
          <p:spPr>
            <a:xfrm>
              <a:off x="468360" y="5157720"/>
              <a:ext cx="3095640" cy="0"/>
            </a:xfrm>
            <a:prstGeom prst="line">
              <a:avLst/>
            </a:prstGeom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45DC-1370-46D9-9DA0-439E7B8464E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7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내용 참조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2)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 내의 특정 부분을 참조하고자 하는 경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다음 문구를 사용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sub-clause”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라는 표현은 사용하지 말 것 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4608360" cy="30970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60C0-1A61-4B31-A308-944145A7E36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7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내용 참조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3)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 내의 다른 그림 혹은 표를 참조하고자 하는 경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다음 문구를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2879640" cy="15793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6BF1-5A58-4E08-8521-BBC7D6B9595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7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내용 참조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4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다른 문서에 대한 참조 예시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발간년도를 표시하지 않은 경우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발간년도를 표시하는 경우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689440" cy="8636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7704000" cy="2016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C3AE-9004-4336-A36A-AD4B06BA490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문서구조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(Structure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2.1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표준 문서의 구성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1.1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여러 개의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Part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문서로 구성되는 표준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1.2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단일 문서의 내용 구성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2.2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문서내용 구성체계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1 Part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2 Clause, Subclause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3 Paragraph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4 Lists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2.2.5 Annex, Bibliography, Index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A50A-0A73-43DC-BADD-50D3B99AB7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8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수치의 표현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수치의 표현 예제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곱셈 기호는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보다는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를 사용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수치의 표현방식을 규정하는 표준문서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ISO 31, ISO 1000, IEC 60027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적합한” 표현방식은 분야별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통신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기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화학 등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다를 수 있음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Directive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내용은 참조만 하고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실제 문서작성시에는 관련 분야의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convention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을 따라도 무방함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5616720" cy="576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0365-7033-43F4-8C1D-431612EC064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9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수학공식의 표현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몇 가지 예제를 제시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적합한 표현방식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convention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은 해당 분야마다 다를 수 있음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일반적인 예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5040360" cy="25207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7AB1-FD17-4DA4-8FBA-680985473FB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9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수학공식의 표현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두 가지 표현방식의 비교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두 가지 표현방식의 비교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735280" cy="22338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3733920" cy="26100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966F-12F3-4065-A77F-1C81D954A12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3.5.9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수학공식의 표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예제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648320" y="1484280"/>
            <a:ext cx="4038480" cy="48243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1B5A-8061-45A2-ACFA-70B1446464D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참고문헌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ISO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에서 제공하는 문서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http://www.iso.org/sdis/templates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692460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C0B0-8152-4DBF-A1DE-08CEE70751B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참고문헌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작성과 관련된 표준문서 목록을 정리함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Directives, Part 2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의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Annex B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표준 용어 관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363160" cy="1638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39640" y="5300640"/>
            <a:ext cx="6639120" cy="62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71CB-9308-4D6D-8265-D5906AC43F8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참고문헌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Technical drawings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관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90400" y="2205000"/>
            <a:ext cx="822960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1132-CDB2-4CF7-B3CC-8CF613CE67E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참고문헌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Graphical symbols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관련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486640" cy="30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3FB5-D29B-4BFD-AFB4-446D5F6AAFA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195640" y="2781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46E7-C0EA-4445-98CA-260D856B42C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.1 </a:t>
            </a:r>
            <a:r>
              <a:rPr b="0" lang="zh-CN" sz="2400" spc="-1" strike="noStrike">
                <a:solidFill>
                  <a:srgbClr val="000000"/>
                </a:solidFill>
                <a:latin typeface="HY헤드라인M"/>
              </a:rPr>
              <a:t>표준문서의 구성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Part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문서 분할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(subdivision)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준의 주제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(subject)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에 따라 표준문서는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단일 문서 혹은 여러 개의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art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문서로 나뉘어져 진행될 수 있음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여러 개의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Part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로 구성되는 경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동일 표준번호에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art 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번호를 사용하여 문서를 구분함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) ISO/IEC 14496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준번호를 가지는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MPEG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표준의 경우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65000"/>
              <a:buFont typeface="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art</a:t>
            </a:r>
            <a:r>
              <a:rPr b="1" lang="zh-CN" sz="1800" spc="-1" strike="noStrike">
                <a:solidFill>
                  <a:srgbClr val="000000"/>
                </a:solidFill>
                <a:latin typeface="돋움"/>
              </a:rPr>
              <a:t>로 구성됨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(14496-1 ~ 14496-10)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Y견고딕"/>
              </a:rPr>
              <a:t>단일 문서는 기술적 내용의 전개를 위해 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여러 개의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clause, sub-clause, paragraph, annex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</a:rPr>
              <a:t>등을 사용하여 문서를  구성함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3CB2-9609-4A8A-BC87-B15975A86F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23:55:54Z</dcterms:created>
  <dc:creator>숟가락</dc:creator>
  <dc:description/>
  <dc:language>en-US</dc:language>
  <cp:lastModifiedBy>고석주</cp:lastModifiedBy>
  <dcterms:modified xsi:type="dcterms:W3CDTF">2008-10-13T00:31:01Z</dcterms:modified>
  <cp:revision>61</cp:revision>
  <dc:subject/>
  <dc:title>슬라이드 1</dc:title>
</cp:coreProperties>
</file>