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wmf" ContentType="image/x-wmf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2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E2F-FF04-4CDA-B70E-4C107C82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368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A35-CB14-4C7F-B80C-76B90AF9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AAF-F631-4FE6-8A99-47CCE932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5E2-5C61-44BB-820C-66EF54B5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69B7-42CC-49AD-A6B5-ABC86B23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9BE4-9536-437C-AE96-47C14457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4599-AFA1-4346-8875-A7A73EB7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052A-33F4-45D4-817B-ABA17327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1EA0-68FB-4F75-8E4F-5204AF59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A93E-2989-4E24-AB27-9EA80536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06FD-73C7-4A92-8FFF-CAEB144F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09B-546B-4179-9F86-ED8A9AF4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0AFB-9072-4E5B-891D-4E22AAAA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368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179C-C9C8-4F23-B775-CEBDD83F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368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C3E7-8532-473E-9B20-ECA2A47D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3318-9403-4076-BC99-F7F69F1E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1347-7F50-404E-AA9A-B3021E9F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71C-2B1B-4A97-9285-48A018F9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5428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37368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37368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35428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9960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2724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99960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2724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B22-ADA9-4CC8-A75F-0E50C78A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7AB-E6CB-477C-92E7-2D32DDE8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E78-CC13-4673-B99B-C9DF9DBB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EA0-BF3A-441D-AA51-1BCD8C0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A0C-6E8E-4837-9CD6-2CB2D978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368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1D0-CA5A-4523-9A94-9C36C789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휴먼태모음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휴먼태모음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휴먼태모음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휴먼태모음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휴먼태모음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B3D5-2615-476F-B92A-FB77C0585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휴먼태모음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휴먼태모음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휴먼태모음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휴먼태모음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휴먼태모음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휴먼태모음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5362-D6CE-4550-AFD5-AF81CC89A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휴먼태모음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3716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12108" t="10937" r="3614" b="75523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2695680"/>
            <a:ext cx="8610480" cy="877680"/>
          </a:xfrm>
          <a:prstGeom prst="rect">
            <a:avLst/>
          </a:prstGeom>
          <a:solidFill>
            <a:srgbClr val="009999">
              <a:alpha val="35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DMB </a:t>
            </a:r>
            <a:r>
              <a:rPr b="1" lang="zh-CN" sz="36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기술 동향과 시장</a:t>
            </a:r>
            <a:r>
              <a:rPr b="1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HY헤드라인M"/>
                <a:ea typeface="HY헤드라인M"/>
              </a:rPr>
              <a:t>전망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31920"/>
            <a:ext cx="1368720" cy="360360"/>
          </a:xfrm>
          <a:prstGeom prst="roundRect">
            <a:avLst>
              <a:gd name="adj" fmla="val 16667"/>
            </a:avLst>
          </a:prstGeom>
          <a:solidFill>
            <a:srgbClr val="ff0000">
              <a:alpha val="31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휴먼태모음T"/>
                <a:ea typeface="휴먼태모음T"/>
              </a:rPr>
              <a:t>발표자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299280" y="189000"/>
            <a:ext cx="266544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3618" t="75503" r="12108" b="1092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8360" y="1123920"/>
            <a:ext cx="4390920" cy="720720"/>
          </a:xfrm>
          <a:prstGeom prst="roundRect">
            <a:avLst>
              <a:gd name="adj" fmla="val 16667"/>
            </a:avLst>
          </a:prstGeom>
          <a:solidFill>
            <a:srgbClr val="003366">
              <a:alpha val="62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2430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위성 </a:t>
            </a:r>
            <a:r>
              <a:rPr b="1" lang="en-US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DMB</a:t>
            </a:r>
            <a:r>
              <a:rPr b="1" lang="zh-CN" sz="2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  수익 모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1481040" y="2133720"/>
            <a:ext cx="6404040" cy="3743280"/>
          </a:xfrm>
          <a:prstGeom prst="borderCallout1">
            <a:avLst>
              <a:gd name="adj1" fmla="val -257"/>
              <a:gd name="adj2" fmla="val -1667"/>
              <a:gd name="adj3" fmla="val -257"/>
              <a:gd name="adj4" fmla="val 20940"/>
            </a:avLst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637080" y="3213000"/>
            <a:ext cx="1798560" cy="1728720"/>
          </a:xfrm>
          <a:prstGeom prst="ellipse">
            <a:avLst/>
          </a:prstGeom>
          <a:solidFill>
            <a:srgbClr val="d0e6fc"/>
          </a:solidFill>
          <a:ln w="9360">
            <a:solidFill>
              <a:srgbClr val="298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290760"/>
            <a:ext cx="1655640" cy="1578240"/>
          </a:xfrm>
          <a:prstGeom prst="ellipse">
            <a:avLst/>
          </a:prstGeom>
          <a:gradFill rotWithShape="0">
            <a:gsLst>
              <a:gs pos="0">
                <a:srgbClr val="0927a9"/>
              </a:gs>
              <a:gs pos="100000">
                <a:srgbClr val="3c7bfa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3635280" y="3665520"/>
            <a:ext cx="180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DAUL-EQN2"/>
                <a:ea typeface="DAUL-EQN2"/>
              </a:rPr>
              <a:t>DMB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사업자 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네트워크 구축 및 운영</a:t>
            </a:r>
            <a:r>
              <a:rPr b="1" lang="en-US" sz="15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2421000"/>
            <a:ext cx="1439640" cy="720720"/>
          </a:xfrm>
          <a:prstGeom prst="roundRect">
            <a:avLst>
              <a:gd name="adj" fmla="val 16667"/>
            </a:avLst>
          </a:prstGeom>
          <a:solidFill>
            <a:srgbClr val="2898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545080" y="5086440"/>
            <a:ext cx="2195640" cy="647640"/>
          </a:xfrm>
          <a:prstGeom prst="roundRect">
            <a:avLst>
              <a:gd name="adj" fmla="val 16667"/>
            </a:avLst>
          </a:prstGeom>
          <a:solidFill>
            <a:srgbClr val="f27a02">
              <a:alpha val="29000"/>
            </a:srgbClr>
          </a:solidFill>
          <a:ln w="255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5400720" y="522288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Times New Roman"/>
                <a:ea typeface="휴먼태모음T"/>
              </a:rPr>
              <a:t>콘텐츠 제공업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16720" y="2205000"/>
            <a:ext cx="2195280" cy="647640"/>
          </a:xfrm>
          <a:prstGeom prst="roundRect">
            <a:avLst>
              <a:gd name="adj" fmla="val 16667"/>
            </a:avLst>
          </a:prstGeom>
          <a:solidFill>
            <a:srgbClr val="f27a02">
              <a:alpha val="29000"/>
            </a:srgbClr>
          </a:solidFill>
          <a:ln w="255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5472000" y="2341440"/>
            <a:ext cx="24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휴먼태모음T"/>
              </a:rPr>
              <a:t>프로그램 제공업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364500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f27a02">
              <a:alpha val="29000"/>
            </a:srgbClr>
          </a:solidFill>
          <a:ln w="255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300720" y="37828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휴먼태모음T"/>
              </a:rPr>
              <a:t>위탁 대리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690560" y="2565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  <a:ea typeface="휴먼태모음T"/>
              </a:rPr>
              <a:t>광고업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1763640" y="4795920"/>
            <a:ext cx="1440000" cy="720720"/>
          </a:xfrm>
          <a:prstGeom prst="roundRect">
            <a:avLst>
              <a:gd name="adj" fmla="val 16667"/>
            </a:avLst>
          </a:prstGeom>
          <a:solidFill>
            <a:srgbClr val="2898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692360" y="4940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  <a:ea typeface="휴먼태모음T"/>
              </a:rPr>
              <a:t>가입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148360" y="2923920"/>
            <a:ext cx="43164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400536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364000" y="4653000"/>
            <a:ext cx="36036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3274920" y="3139920"/>
            <a:ext cx="50508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4920" y="4508640"/>
            <a:ext cx="433440" cy="288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42861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73d34"/>
                </a:solidFill>
                <a:latin typeface="Trebuchet MS"/>
                <a:ea typeface="굴림체"/>
              </a:rPr>
              <a:t>이용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328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73d34"/>
                </a:solidFill>
                <a:latin typeface="Trebuchet MS"/>
                <a:ea typeface="굴림체"/>
              </a:rPr>
              <a:t>공고 수수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5506920" y="46530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273d34"/>
                </a:solidFill>
                <a:latin typeface="Trebuchet MS"/>
                <a:ea typeface="굴림체"/>
              </a:rPr>
              <a:t>콘텐츠 구입</a:t>
            </a:r>
            <a:r>
              <a:rPr b="1" lang="ko-KR" sz="1800" spc="-1" strike="noStrike">
                <a:solidFill>
                  <a:srgbClr val="273d34"/>
                </a:solidFill>
                <a:latin typeface="Trebuchet MS"/>
                <a:ea typeface="굴림체"/>
              </a:rPr>
              <a:t>/</a:t>
            </a:r>
            <a:r>
              <a:rPr b="1" lang="ko-KR" sz="1800" spc="-1" strike="noStrike">
                <a:solidFill>
                  <a:srgbClr val="273d34"/>
                </a:solidFill>
                <a:latin typeface="Trebuchet MS"/>
                <a:ea typeface="굴림체"/>
              </a:rPr>
              <a:t>제작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4498920" y="2421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273d34"/>
                </a:solidFill>
                <a:latin typeface="Trebuchet MS"/>
                <a:ea typeface="굴림체"/>
              </a:rPr>
              <a:t>수신료 분배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5724360" y="3284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73d34"/>
                </a:solidFill>
                <a:latin typeface="Trebuchet MS"/>
                <a:ea typeface="굴림체"/>
              </a:rPr>
              <a:t>모집</a:t>
            </a:r>
            <a:r>
              <a:rPr b="1" lang="en-US" sz="1800" spc="-1" strike="noStrike">
                <a:solidFill>
                  <a:srgbClr val="273d34"/>
                </a:solidFill>
                <a:latin typeface="Trebuchet MS"/>
                <a:ea typeface="굴림체"/>
              </a:rPr>
              <a:t>/</a:t>
            </a:r>
            <a:r>
              <a:rPr b="1" lang="zh-CN" sz="1800" spc="-1" strike="noStrike">
                <a:solidFill>
                  <a:srgbClr val="273d34"/>
                </a:solidFill>
                <a:latin typeface="Trebuchet MS"/>
                <a:ea typeface="굴림체"/>
              </a:rPr>
              <a:t>관리 수수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539640" y="1557360"/>
          <a:ext cx="7993080" cy="4935600"/>
        </p:xfrm>
        <a:graphic>
          <a:graphicData uri="http://schemas.openxmlformats.org/drawingml/2006/table">
            <a:tbl>
              <a:tblPr/>
              <a:tblGrid>
                <a:gridCol w="1440000"/>
                <a:gridCol w="3311640"/>
                <a:gridCol w="3241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eac25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휴먼태모음T"/>
                        </a:rPr>
                        <a:t>지상파 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휴먼태모음T"/>
                        </a:rPr>
                        <a:t>D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b92500"/>
                        </a:gs>
                        <a:gs pos="100000">
                          <a:srgbClr val="ff33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휴먼태모음T"/>
                        </a:rPr>
                        <a:t>위성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휴먼태모음T"/>
                        </a:rPr>
                        <a:t>D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009400"/>
                        </a:gs>
                        <a:gs pos="100000">
                          <a:srgbClr val="00cc00"/>
                        </a:gs>
                      </a:gsLst>
                      <a:lin ang="135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서비스 특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eac25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공익성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,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보편적 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상업적 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주  파 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eac25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대역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: 12MHz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대역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: 25MHz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전 송 용 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eac25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전송용량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:6912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개 사업자당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: 1152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전송용량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:7,65M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커 버 리 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eac25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수도권우선서비스 이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권역별 지역 확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전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전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제 공 채 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eac25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개 사업자 당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총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개 사업자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비디오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개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오디오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개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데이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비디오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1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개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,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오디오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2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개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데이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공중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재송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eac25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재송신 가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방송사업자와 협의하 자율추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수 익모 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eac25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광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정액요금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+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광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도 입 시 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eac25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200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년 하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200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투  자  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eac25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400~50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억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300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억원 이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현   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eac251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지하철 등 지하에서의 수신문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공중파 방송 재전송 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2759040" y="6518160"/>
            <a:ext cx="5781600" cy="344520"/>
          </a:xfrm>
          <a:prstGeom prst="roundRect">
            <a:avLst>
              <a:gd name="adj" fmla="val 16667"/>
            </a:avLst>
          </a:prstGeom>
          <a:solidFill>
            <a:srgbClr val="ffcc99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84600" y="6518160"/>
            <a:ext cx="58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&lt;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자료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: TU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미디어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(2005)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의 자료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내용보완 후 재구성 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299280" y="189000"/>
            <a:ext cx="266544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836640"/>
            <a:ext cx="5040000" cy="577800"/>
          </a:xfrm>
          <a:prstGeom prst="roundRect">
            <a:avLst>
              <a:gd name="adj" fmla="val 16667"/>
            </a:avLst>
          </a:prstGeom>
          <a:solidFill>
            <a:srgbClr val="339966">
              <a:alpha val="71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지상파</a:t>
            </a:r>
            <a:r>
              <a:rPr b="1" lang="ko-KR" sz="25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ko-KR" sz="25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와 위성</a:t>
            </a:r>
            <a:r>
              <a:rPr b="1" lang="ko-KR" sz="25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ko-KR" sz="25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의 비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755640" y="1557360"/>
          <a:ext cx="3911760" cy="37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391176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076720" y="1484280"/>
          <a:ext cx="403236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484280"/>
                    <a:ext cx="4032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971640" y="5445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&lt;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지상파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DMB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가입자 수요전망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5599080" y="5438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&lt;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위성 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DMB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가입자 수용전망 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7307280" y="119700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ffcc99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7334280" y="1197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단위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만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1708200" y="6021360"/>
            <a:ext cx="6176880" cy="360360"/>
          </a:xfrm>
          <a:prstGeom prst="roundRect">
            <a:avLst>
              <a:gd name="adj" fmla="val 16667"/>
            </a:avLst>
          </a:prstGeom>
          <a:solidFill>
            <a:srgbClr val="ffcc99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1636560" y="602136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&lt;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자료 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: DMB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수요 분석과 시장 활성화 방향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, ETRI, 2005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765000"/>
            <a:ext cx="4392360" cy="648000"/>
          </a:xfrm>
          <a:prstGeom prst="roundRect">
            <a:avLst>
              <a:gd name="adj" fmla="val 16667"/>
            </a:avLst>
          </a:prstGeom>
          <a:solidFill>
            <a:srgbClr val="3366ff">
              <a:alpha val="8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883800" y="914400"/>
            <a:ext cx="32547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국내 </a:t>
            </a:r>
            <a:r>
              <a:rPr b="1" lang="en-US" sz="22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DMB </a:t>
            </a:r>
            <a:r>
              <a:rPr b="1" lang="zh-CN" sz="22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시장 수요 현황 및 전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6227640" y="189000"/>
            <a:ext cx="273708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시장 현황 및 전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24000" y="835200"/>
            <a:ext cx="5040000" cy="649080"/>
          </a:xfrm>
          <a:prstGeom prst="roundRect">
            <a:avLst>
              <a:gd name="adj" fmla="val 16667"/>
            </a:avLst>
          </a:prstGeom>
          <a:solidFill>
            <a:srgbClr val="ff0000">
              <a:alpha val="68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244440" y="907920"/>
            <a:ext cx="5119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국내 지상파 </a:t>
            </a:r>
            <a:r>
              <a:rPr b="1" lang="en-US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DMB</a:t>
            </a: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서비스 추진 현황  </a:t>
            </a:r>
            <a:r>
              <a:rPr b="1" lang="en-US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179280" y="1773360"/>
            <a:ext cx="4032360" cy="36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1844640"/>
            <a:ext cx="3889440" cy="36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2484360" y="443700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6516720" y="836640"/>
            <a:ext cx="8636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114560" y="1700280"/>
            <a:ext cx="7345080" cy="4608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2560" y="1773360"/>
            <a:ext cx="7993080" cy="46800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6227640" y="189000"/>
            <a:ext cx="273708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시장 현황 및 전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4000" y="835200"/>
            <a:ext cx="5040000" cy="649080"/>
          </a:xfrm>
          <a:prstGeom prst="roundRect">
            <a:avLst>
              <a:gd name="adj" fmla="val 16667"/>
            </a:avLst>
          </a:prstGeom>
          <a:solidFill>
            <a:srgbClr val="008000">
              <a:alpha val="76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244440" y="907920"/>
            <a:ext cx="5119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국내 위성 </a:t>
            </a:r>
            <a:r>
              <a:rPr b="1" lang="en-US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DMB</a:t>
            </a: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서비스 추진 현황  </a:t>
            </a:r>
            <a:r>
              <a:rPr b="1" lang="en-US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1773360"/>
            <a:ext cx="4032360" cy="36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844640"/>
            <a:ext cx="3889440" cy="36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3529080" y="439272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6516720" y="836640"/>
            <a:ext cx="8636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184464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2898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" y="1844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2004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년 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- 01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월 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1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일 티유미디어 법인 설립</a:t>
            </a:r>
            <a:r>
              <a:rPr b="0" lang="ko-KR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242100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2898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971640" y="300348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2898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403280" y="357840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2898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763640" y="415440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2898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268360" y="415440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2004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년 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- 11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월 위성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DMB 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사업자 선정 방안 발표 예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35784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2004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년 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- 09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월 비디오 송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/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수신 정합표준 완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30034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2004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년 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- 09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월 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17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일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, 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방송법 시행령 공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971640" y="2421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2004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년 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- 03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월 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13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일 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MBSat(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한별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)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위성체 발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2124000" y="573408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ff0000">
              <a:alpha val="8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2411280" y="57340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rebuchet MS"/>
                <a:ea typeface="HY헤드라인M"/>
              </a:rPr>
              <a:t>2006</a:t>
            </a:r>
            <a:r>
              <a:rPr b="0" lang="zh-CN" sz="1800" spc="-1" strike="noStrike">
                <a:solidFill>
                  <a:srgbClr val="ff3300"/>
                </a:solidFill>
                <a:latin typeface="Trebuchet MS"/>
                <a:ea typeface="HY헤드라인M"/>
              </a:rPr>
              <a:t>년 </a:t>
            </a:r>
            <a:r>
              <a:rPr b="0" lang="en-US" sz="1800" spc="-1" strike="noStrike">
                <a:solidFill>
                  <a:srgbClr val="ff3300"/>
                </a:solidFill>
                <a:latin typeface="Trebuchet MS"/>
                <a:ea typeface="HY헤드라인M"/>
              </a:rPr>
              <a:t>- </a:t>
            </a:r>
            <a:r>
              <a:rPr b="0" lang="zh-CN" sz="1800" spc="-1" strike="noStrike">
                <a:solidFill>
                  <a:srgbClr val="ff3300"/>
                </a:solidFill>
                <a:latin typeface="Trebuchet MS"/>
                <a:ea typeface="HY헤드라인M"/>
              </a:rPr>
              <a:t>양방향 데이터 송수신 정합표준 완성 예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1763640" y="623736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ff0000">
              <a:alpha val="8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1403280" y="623736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rebuchet MS"/>
                <a:ea typeface="HY헤드라인M"/>
              </a:rPr>
              <a:t>2007</a:t>
            </a:r>
            <a:r>
              <a:rPr b="0" lang="zh-CN" sz="1800" spc="-1" strike="noStrike">
                <a:solidFill>
                  <a:srgbClr val="ff3300"/>
                </a:solidFill>
                <a:latin typeface="Trebuchet MS"/>
                <a:ea typeface="HY헤드라인M"/>
              </a:rPr>
              <a:t>년 </a:t>
            </a:r>
            <a:r>
              <a:rPr b="0" lang="en-US" sz="1800" spc="-1" strike="noStrike">
                <a:solidFill>
                  <a:srgbClr val="ff3300"/>
                </a:solidFill>
                <a:latin typeface="Trebuchet MS"/>
                <a:ea typeface="HY헤드라인M"/>
              </a:rPr>
              <a:t>- </a:t>
            </a:r>
            <a:r>
              <a:rPr b="0" lang="zh-CN" sz="1800" spc="-1" strike="noStrike">
                <a:solidFill>
                  <a:srgbClr val="ff3300"/>
                </a:solidFill>
                <a:latin typeface="Trebuchet MS"/>
                <a:ea typeface="HY헤드라인M"/>
              </a:rPr>
              <a:t>양방향 데이터서비스 제공 예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71280" y="1773360"/>
            <a:ext cx="8964720" cy="489564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2195640" y="472428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008000">
              <a:alpha val="19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2556000" y="472428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2005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년 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- 1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월 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사업자 선정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및 추천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위성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DMB </a:t>
            </a:r>
            <a:r>
              <a:rPr b="0" lang="ko-KR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시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2124000" y="522288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2005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년 – 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2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월 위성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DMB </a:t>
            </a:r>
            <a:r>
              <a:rPr b="0" lang="zh-CN" sz="18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상용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2556000" y="5229360"/>
            <a:ext cx="6408720" cy="360360"/>
          </a:xfrm>
          <a:prstGeom prst="roundRect">
            <a:avLst>
              <a:gd name="adj" fmla="val 16667"/>
            </a:avLst>
          </a:prstGeom>
          <a:solidFill>
            <a:srgbClr val="008000">
              <a:alpha val="19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6227640" y="189000"/>
            <a:ext cx="273708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시장 현황 및 전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24000" y="835200"/>
            <a:ext cx="4248000" cy="649080"/>
          </a:xfrm>
          <a:prstGeom prst="roundRect">
            <a:avLst>
              <a:gd name="adj" fmla="val 16667"/>
            </a:avLst>
          </a:prstGeom>
          <a:solidFill>
            <a:srgbClr val="ff5050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244440" y="907920"/>
            <a:ext cx="4398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지상파 </a:t>
            </a:r>
            <a:r>
              <a:rPr b="1" lang="en-US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DMB</a:t>
            </a: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서비스 파급효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1773360"/>
            <a:ext cx="4032360" cy="36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844640"/>
            <a:ext cx="3889440" cy="36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2484360" y="443700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6516720" y="836640"/>
            <a:ext cx="8636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682560" y="1773360"/>
            <a:ext cx="7993080" cy="46800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187280" y="1963800"/>
            <a:ext cx="6840720" cy="4417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227640" y="189000"/>
            <a:ext cx="273708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시장 현황 및 전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24000" y="835200"/>
            <a:ext cx="4248000" cy="649080"/>
          </a:xfrm>
          <a:prstGeom prst="roundRect">
            <a:avLst>
              <a:gd name="adj" fmla="val 16667"/>
            </a:avLst>
          </a:prstGeom>
          <a:solidFill>
            <a:srgbClr val="3366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244440" y="907920"/>
            <a:ext cx="4398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DMB</a:t>
            </a: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단말기 시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179280" y="1773360"/>
            <a:ext cx="4032360" cy="36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250920" y="1844640"/>
            <a:ext cx="3889440" cy="36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2771640" y="429264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516720" y="836640"/>
            <a:ext cx="8636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6227640" y="189000"/>
            <a:ext cx="273708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시장 현황 및 전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773360"/>
            <a:ext cx="7129440" cy="871560"/>
          </a:xfrm>
          <a:prstGeom prst="roundRect">
            <a:avLst>
              <a:gd name="adj" fmla="val 16667"/>
            </a:avLst>
          </a:prstGeom>
          <a:solidFill>
            <a:srgbClr val="2898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1996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DMB </a:t>
            </a:r>
            <a:r>
              <a:rPr b="1" lang="zh-CN" sz="24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단말기 보급은 </a:t>
            </a:r>
            <a:r>
              <a:rPr b="1" lang="en-US" sz="24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DMB </a:t>
            </a:r>
            <a:r>
              <a:rPr b="1" lang="zh-CN" sz="2400" spc="-1" strike="noStrike">
                <a:solidFill>
                  <a:srgbClr val="0033cc"/>
                </a:solidFill>
                <a:latin typeface="Trebuchet MS"/>
                <a:ea typeface="HY헤드라인M"/>
              </a:rPr>
              <a:t>시장 확대의 핵심 요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619280" y="2923920"/>
            <a:ext cx="6408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국내 단말기 선호도는 휴대폰과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가  매우 높음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향후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DMB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시장은  휴대폰과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를 중심으로 이루어 질 것으로 예상 됨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현재 단말기 보급의 걸림돌  ▶ 고가의 단말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고급형은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만원대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보급형은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70~80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만원대</a:t>
            </a:r>
            <a:r>
              <a:rPr b="1" i="1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향후 단말기 가격 하락으로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DMB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단말기 시장 확대 예상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71640" y="2852640"/>
            <a:ext cx="7488000" cy="2952720"/>
          </a:xfrm>
          <a:prstGeom prst="roundRect">
            <a:avLst>
              <a:gd name="adj" fmla="val 17167"/>
            </a:avLst>
          </a:prstGeom>
          <a:solidFill>
            <a:srgbClr val="2898c0">
              <a:alpha val="6000"/>
            </a:srgbClr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3618" t="75503" r="12108" b="1092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rcRect l="3618" t="75503" r="12108" b="1092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24000" y="835200"/>
            <a:ext cx="4248000" cy="649080"/>
          </a:xfrm>
          <a:prstGeom prst="roundRect">
            <a:avLst>
              <a:gd name="adj" fmla="val 16667"/>
            </a:avLst>
          </a:prstGeom>
          <a:solidFill>
            <a:srgbClr val="3366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244440" y="907920"/>
            <a:ext cx="4398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DMB </a:t>
            </a:r>
            <a:r>
              <a:rPr b="1" lang="zh-CN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단말기 수요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4920" y="907920"/>
          <a:ext cx="5832360" cy="513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907920"/>
                    <a:ext cx="5832360" cy="51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4284720" y="258840"/>
          <a:ext cx="5761080" cy="648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258840"/>
                    <a:ext cx="5761080" cy="64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468360" y="49417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&lt;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지상파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DMB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의 선호 단말기 </a:t>
            </a:r>
            <a:r>
              <a:rPr b="1" lang="ko-KR" sz="1800" spc="-1" strike="noStrike">
                <a:solidFill>
                  <a:srgbClr val="000066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5292720" y="4933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&lt;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위성 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DMB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의 선호 단말기 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&gt;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55627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179280" y="1773360"/>
            <a:ext cx="4032360" cy="36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844640"/>
            <a:ext cx="3889440" cy="36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2484360" y="443700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836640"/>
            <a:ext cx="8636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773360"/>
            <a:ext cx="3960720" cy="360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4789440" y="1773360"/>
            <a:ext cx="4103640" cy="36003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1708200" y="5510160"/>
            <a:ext cx="6176880" cy="360360"/>
          </a:xfrm>
          <a:prstGeom prst="roundRect">
            <a:avLst>
              <a:gd name="adj" fmla="val 16667"/>
            </a:avLst>
          </a:prstGeom>
          <a:solidFill>
            <a:srgbClr val="ffcc99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1636560" y="551016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&lt;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자료 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: DMB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수요 분석과 시장 활성화 방향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, ETRI, 2005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189000"/>
            <a:ext cx="273708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시장 현황 및 전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rcRect l="3618" t="75503" r="12108" b="1092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24000" y="835200"/>
            <a:ext cx="4248000" cy="649080"/>
          </a:xfrm>
          <a:prstGeom prst="roundRect">
            <a:avLst>
              <a:gd name="adj" fmla="val 16667"/>
            </a:avLst>
          </a:prstGeom>
          <a:solidFill>
            <a:srgbClr val="3366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244440" y="907920"/>
            <a:ext cx="4398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DMB</a:t>
            </a:r>
            <a:r>
              <a:rPr b="1" lang="en-US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단말기 시장 전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1773360"/>
            <a:ext cx="4032360" cy="36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1844640"/>
            <a:ext cx="3889440" cy="36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2484360" y="443700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6516720" y="836640"/>
            <a:ext cx="8636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131920"/>
            <a:ext cx="8462880" cy="33130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79280" y="1844640"/>
            <a:ext cx="8748720" cy="396072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6227640" y="189000"/>
            <a:ext cx="273708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시장 현황 및 전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4000" y="979560"/>
            <a:ext cx="6408720" cy="649080"/>
          </a:xfrm>
          <a:prstGeom prst="roundRect">
            <a:avLst>
              <a:gd name="adj" fmla="val 16667"/>
            </a:avLst>
          </a:prstGeom>
          <a:solidFill>
            <a:srgbClr val="333399">
              <a:alpha val="71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112536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휴대방송 시장에서의 지상파 </a:t>
            </a:r>
            <a:r>
              <a:rPr b="1" lang="ko-KR" sz="20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DMB</a:t>
            </a:r>
            <a:r>
              <a:rPr b="1" lang="ko-KR" sz="20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와 위성 </a:t>
            </a:r>
            <a:r>
              <a:rPr b="1" lang="ko-KR" sz="20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DMB</a:t>
            </a:r>
            <a:r>
              <a:rPr b="1" lang="ko-KR" sz="20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의 경쟁</a:t>
            </a:r>
            <a:r>
              <a:rPr b="0" lang="ko-KR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-36360" y="1628640"/>
            <a:ext cx="4032000" cy="36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2268360" y="429264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6516720" y="836640"/>
            <a:ext cx="8636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4859280" y="2492280"/>
            <a:ext cx="3816360" cy="403236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032360"/>
              <a:gd name="textAreaBottom" fmla="*/ 3846240 h 4032360"/>
            </a:gdLst>
            <a:ahLst/>
            <a:rect l="textAreaLeft" t="textAreaTop" r="textAreaRight" b="textAreaBottom"/>
            <a:pathLst>
              <a:path w="21600" h="22822">
                <a:moveTo>
                  <a:pt x="3600" y="0"/>
                </a:moveTo>
                <a:arcTo wR="3600" hR="3600" stAng="16200000" swAng="-5400000"/>
                <a:lnTo>
                  <a:pt x="0" y="19222"/>
                </a:lnTo>
                <a:arcTo wR="3600" hR="3600" stAng="10800000" swAng="-5400000"/>
                <a:lnTo>
                  <a:pt x="18000" y="22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8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2421000"/>
            <a:ext cx="3816360" cy="41036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4103640"/>
              <a:gd name="textAreaBottom" fmla="*/ 3917520 h 4103640"/>
            </a:gdLst>
            <a:ahLst/>
            <a:rect l="textAreaLeft" t="textAreaTop" r="textAreaRight" b="textAreaBottom"/>
            <a:pathLst>
              <a:path w="21600" h="23226">
                <a:moveTo>
                  <a:pt x="3600" y="0"/>
                </a:moveTo>
                <a:arcTo wR="3600" hR="3600" stAng="16200000" swAng="-5400000"/>
                <a:lnTo>
                  <a:pt x="0" y="19626"/>
                </a:lnTo>
                <a:arcTo wR="3600" hR="3600" stAng="10800000" swAng="-5400000"/>
                <a:lnTo>
                  <a:pt x="18000" y="23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898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1476360" y="1700280"/>
            <a:ext cx="1422360" cy="1422360"/>
          </a:xfrm>
          <a:prstGeom prst="ellipse">
            <a:avLst/>
          </a:prstGeom>
          <a:solidFill>
            <a:srgbClr val="d0e6fc"/>
          </a:solidFill>
          <a:ln w="9360">
            <a:solidFill>
              <a:srgbClr val="298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1547640" y="1778040"/>
            <a:ext cx="1270080" cy="1270080"/>
          </a:xfrm>
          <a:prstGeom prst="ellipse">
            <a:avLst/>
          </a:prstGeom>
          <a:gradFill rotWithShape="0">
            <a:gsLst>
              <a:gs pos="0">
                <a:srgbClr val="0927a9"/>
              </a:gs>
              <a:gs pos="100000">
                <a:srgbClr val="3c7bfa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1403280" y="2054160"/>
            <a:ext cx="151308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차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6081840" y="1719360"/>
            <a:ext cx="1422360" cy="1422360"/>
          </a:xfrm>
          <a:prstGeom prst="ellipse">
            <a:avLst/>
          </a:prstGeom>
          <a:solidFill>
            <a:srgbClr val="feba76"/>
          </a:solidFill>
          <a:ln w="93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6167520" y="1795320"/>
            <a:ext cx="1271520" cy="127008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6010200" y="1989000"/>
            <a:ext cx="158436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사업추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모멘텀 차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4360" y="3263400"/>
            <a:ext cx="331128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Times New Roman"/>
              </a:rPr>
              <a:t>서비스 차원에서는 지상파 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</a:rPr>
              <a:t>DMB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</a:rPr>
              <a:t>가  컨텐츠 우위에 힘입어 다소 우세할 것으로 평가</a:t>
            </a:r>
            <a:r>
              <a:rPr b="1" i="1" lang="ko-KR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Times New Roman"/>
              </a:rPr>
              <a:t>지상파 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</a:rPr>
              <a:t>DMB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</a:rPr>
              <a:t>는 공중파 프로그램 재전송이 가능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</a:rPr>
              <a:t>무료 서비스라는 점에서 유리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위성 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DMB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는 더 많은 채널을 보유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전국적으로 동질적 서비스 제공이 가능하다는 장점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인구의 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1/2 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이상이 지방에 거주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등록차량 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1500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만대 중 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800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만이 지방차량 이라는 점에서 위성 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DMB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</a:rPr>
              <a:t>는 잠재력 이 있음</a:t>
            </a:r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3284640"/>
            <a:ext cx="331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위성 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DMB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는 이동통신사 참여 유인이 분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단일 주체이기 때문에 채널 구성 등에서 추진이 용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월 수신요금의 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25% </a:t>
            </a:r>
            <a:r>
              <a:rPr b="1" lang="ko-KR" sz="14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정도를 이동통사가 수취할 예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지상파 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DMB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는 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6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개로 분산된  주체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, 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이동통신 사업자의 참여 유인 부족으로 추진력이 약함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절대적인 투자비용인 갭필러 투자비용이 위성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(2000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억원 추산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)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보다 소액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(200~300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억원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)</a:t>
            </a:r>
            <a:r>
              <a:rPr b="1" lang="ko-KR" sz="14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이라는 점이 유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6227640" y="189000"/>
            <a:ext cx="273708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시장 현황 및 전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041560" y="3573000"/>
            <a:ext cx="58435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. DMB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란 무엇인가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?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. DMB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의 종류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. DMB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시장의 현황과 전망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.  DMB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산업의 기대효과와 향후 과제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8160" y="1628640"/>
            <a:ext cx="2448000" cy="64800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16858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목    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969840" y="1924200"/>
          <a:ext cx="7274160" cy="3808440"/>
        </p:xfrm>
        <a:graphic>
          <a:graphicData uri="http://schemas.openxmlformats.org/drawingml/2006/table">
            <a:tbl>
              <a:tblPr/>
              <a:tblGrid>
                <a:gridCol w="1441440"/>
                <a:gridCol w="1441800"/>
                <a:gridCol w="1493640"/>
                <a:gridCol w="1443240"/>
                <a:gridCol w="1454040"/>
              </a:tblGrid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구   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dbb64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영   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독   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미   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일   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서비스 개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dbb64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199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199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200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200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서  비  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dbb64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지상파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지상파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위성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D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위성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D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사  업  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dbb64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전국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(BBC,Digital O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지역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FBB, ARD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150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여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XM Radio, Sir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MB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1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주 요 특 징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gradFill rotWithShape="0">
                      <a:gsLst>
                        <a:gs pos="0">
                          <a:srgbClr val="ffd459"/>
                        </a:gs>
                        <a:gs pos="100000">
                          <a:srgbClr val="dbb64c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면허기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오디오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데이터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면허기간 없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오디오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데이터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서비스대상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차량운전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*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갭필러 사용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이동수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동영상 불가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서비스대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차량운전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갭필러 사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이동수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휴먼태모음T"/>
                        </a:rPr>
                        <a:t>동영상가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5" name="" descr=""/>
          <p:cNvPicPr/>
          <p:nvPr/>
        </p:nvPicPr>
        <p:blipFill>
          <a:blip r:embed="rId1"/>
          <a:srcRect l="3618" t="75503" r="12108" b="1092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3348000" y="5799240"/>
            <a:ext cx="4897440" cy="358560"/>
          </a:xfrm>
          <a:prstGeom prst="roundRect">
            <a:avLst>
              <a:gd name="adj" fmla="val 16667"/>
            </a:avLst>
          </a:prstGeom>
          <a:solidFill>
            <a:srgbClr val="ffcc99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3419640" y="57992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&lt;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자료 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조원우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한화증권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, 2005</a:t>
            </a:r>
            <a:r>
              <a:rPr b="1" lang="zh-CN" sz="1800" spc="-1" strike="noStrike">
                <a:solidFill>
                  <a:srgbClr val="000066"/>
                </a:solidFill>
                <a:latin typeface="굴림"/>
              </a:rPr>
              <a:t>년 참조 </a:t>
            </a:r>
            <a:r>
              <a:rPr b="1" lang="en-US" sz="1800" spc="-1" strike="noStrike">
                <a:solidFill>
                  <a:srgbClr val="000066"/>
                </a:solidFill>
                <a:latin typeface="굴림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979560"/>
            <a:ext cx="5472000" cy="649080"/>
          </a:xfrm>
          <a:prstGeom prst="roundRect">
            <a:avLst>
              <a:gd name="adj" fmla="val 16667"/>
            </a:avLst>
          </a:prstGeom>
          <a:solidFill>
            <a:srgbClr val="3366ff">
              <a:alpha val="8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>
            <a:off x="6372360" y="476280"/>
            <a:ext cx="1800000" cy="12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6300720" y="12654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273d34"/>
                </a:solidFill>
                <a:latin typeface="굴림체"/>
                <a:ea typeface="굴림체"/>
              </a:rPr>
              <a:t>*</a:t>
            </a:r>
            <a:r>
              <a:rPr b="1" lang="ko-KR" sz="1400" spc="-1" strike="noStrike">
                <a:solidFill>
                  <a:srgbClr val="273d34"/>
                </a:solidFill>
                <a:latin typeface="굴림체"/>
                <a:ea typeface="굴림체"/>
              </a:rPr>
              <a:t>갭필러 </a:t>
            </a:r>
            <a:r>
              <a:rPr b="1" lang="ko-KR" sz="1400" spc="-1" strike="noStrike">
                <a:solidFill>
                  <a:srgbClr val="273d34"/>
                </a:solidFill>
                <a:latin typeface="굴림체"/>
                <a:ea typeface="굴림체"/>
              </a:rPr>
              <a:t>: </a:t>
            </a:r>
            <a:r>
              <a:rPr b="1" lang="ko-KR" sz="1400" spc="-1" strike="noStrike">
                <a:solidFill>
                  <a:srgbClr val="273d34"/>
                </a:solidFill>
                <a:latin typeface="굴림체"/>
                <a:ea typeface="굴림체"/>
              </a:rPr>
              <a:t>음영지역 해소를       위한 일종의 중계기</a:t>
            </a:r>
            <a:r>
              <a:rPr b="0" lang="ko-KR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>
            <a:off x="6227640" y="189000"/>
            <a:ext cx="273708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시장 현황 및 전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>
            <a:off x="677880" y="1052640"/>
            <a:ext cx="50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해외 수요국 </a:t>
            </a: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DAB/DMB </a:t>
            </a: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서비스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24000" y="835200"/>
            <a:ext cx="4248000" cy="649080"/>
          </a:xfrm>
          <a:prstGeom prst="roundRect">
            <a:avLst>
              <a:gd name="adj" fmla="val 16667"/>
            </a:avLst>
          </a:prstGeom>
          <a:solidFill>
            <a:srgbClr val="3366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>
            <a:off x="244440" y="907920"/>
            <a:ext cx="4398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D</a:t>
            </a: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MB </a:t>
            </a:r>
            <a:r>
              <a:rPr b="1" lang="ko-KR" sz="24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시장의 향후 전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179280" y="1773360"/>
            <a:ext cx="4032360" cy="36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1844640"/>
            <a:ext cx="3889440" cy="36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2771640" y="429264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6227640" y="189000"/>
            <a:ext cx="273708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시장 현황 및 전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1765440" y="3284640"/>
            <a:ext cx="8618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1116000" y="1844640"/>
            <a:ext cx="6840720" cy="2305080"/>
          </a:xfrm>
          <a:prstGeom prst="roundRect">
            <a:avLst>
              <a:gd name="adj" fmla="val 17167"/>
            </a:avLst>
          </a:prstGeom>
          <a:solidFill>
            <a:srgbClr val="2898c0">
              <a:alpha val="6000"/>
            </a:srgbClr>
          </a:solidFill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324000" y="2157480"/>
            <a:ext cx="1422360" cy="14223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298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2235240"/>
            <a:ext cx="1270080" cy="1270080"/>
          </a:xfrm>
          <a:prstGeom prst="ellipse">
            <a:avLst/>
          </a:prstGeom>
          <a:gradFill rotWithShape="0">
            <a:gsLst>
              <a:gs pos="0">
                <a:srgbClr val="36583a"/>
              </a:gs>
              <a:gs pos="100000">
                <a:srgbClr val="77bf7e">
                  <a:alpha val="84313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>
            <a:off x="252360" y="2492280"/>
            <a:ext cx="158436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세계 시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전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1908000" y="5805360"/>
            <a:ext cx="8622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1258920" y="4365720"/>
            <a:ext cx="6840360" cy="2305080"/>
          </a:xfrm>
          <a:prstGeom prst="roundRect">
            <a:avLst>
              <a:gd name="adj" fmla="val 17167"/>
            </a:avLst>
          </a:prstGeom>
          <a:solidFill>
            <a:srgbClr val="2898c0">
              <a:alpha val="6000"/>
            </a:srgbClr>
          </a:solidFill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7380360" y="4743360"/>
            <a:ext cx="1422360" cy="1422360"/>
          </a:xfrm>
          <a:prstGeom prst="ellipse">
            <a:avLst/>
          </a:prstGeom>
          <a:solidFill>
            <a:srgbClr val="feba76"/>
          </a:solidFill>
          <a:ln w="93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7466040" y="4819680"/>
            <a:ext cx="1271520" cy="1270080"/>
          </a:xfrm>
          <a:prstGeom prst="ellipse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93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7308720" y="5157720"/>
            <a:ext cx="158436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국내 시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전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1979640" y="1987560"/>
            <a:ext cx="61927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현재 </a:t>
            </a:r>
            <a:r>
              <a:rPr b="1" lang="en-US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DMB </a:t>
            </a:r>
            <a:r>
              <a:rPr b="1" lang="zh-CN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서비스를 실시하고 있는 국가 점차 확대</a:t>
            </a:r>
            <a:r>
              <a:rPr b="1" lang="en-US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94840" indent="-294840" algn="just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중국과 동남아 지역의 경우도 실험 방송을 실시하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94840" indent="-294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    </a:t>
            </a:r>
            <a:r>
              <a:rPr b="1" lang="zh-CN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있거나 곧 실시할 예정</a:t>
            </a:r>
            <a:r>
              <a:rPr b="1" lang="en-US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94840" indent="-294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  ▶ </a:t>
            </a:r>
            <a:r>
              <a:rPr b="1" lang="zh-CN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전 세계적으로 </a:t>
            </a:r>
            <a:r>
              <a:rPr b="1" lang="en-US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DMB </a:t>
            </a:r>
            <a:r>
              <a:rPr b="1" lang="zh-CN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수신기에 대한 수요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94840" indent="-294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      </a:t>
            </a:r>
            <a:r>
              <a:rPr b="1" lang="zh-CN" sz="1800" spc="-1" strike="noStrike">
                <a:solidFill>
                  <a:srgbClr val="008000"/>
                </a:solidFill>
                <a:latin typeface="휴먼태모음T"/>
                <a:ea typeface="휴먼태모음T"/>
              </a:rPr>
              <a:t>큰 폭 증가 예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94840" indent="-294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유럽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DMB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점유율 크게 상승 할 것이라 전망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1474920" y="4581360"/>
            <a:ext cx="6192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지상파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/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위성 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DMB 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모두를 수신할 수 있는 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DMB 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단말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    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개발 중 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(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삼성전자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휴대인터넷 와이브로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(WiBro)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와의 접목 가능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DMB(DAB)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를 반도체와 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LCD 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그리고 휴대 전화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    </a:t>
            </a: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잇는 수출 전력 상품화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27a02"/>
                </a:solidFill>
                <a:latin typeface="휴먼태모음T"/>
                <a:ea typeface="휴먼태모음T"/>
              </a:rPr>
              <a:t>  ▶</a:t>
            </a:r>
            <a:r>
              <a:rPr b="1" lang="ko-KR" sz="18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세계 </a:t>
            </a:r>
            <a:r>
              <a:rPr b="1" lang="ko-KR" sz="18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1</a:t>
            </a:r>
            <a:r>
              <a:rPr b="1" lang="ko-KR" sz="18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위 </a:t>
            </a:r>
            <a:r>
              <a:rPr b="1" lang="ko-KR" sz="18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DMB(DAB) </a:t>
            </a:r>
            <a:r>
              <a:rPr b="1" lang="ko-KR" sz="18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생산국으로 자리 매김</a:t>
            </a:r>
            <a:r>
              <a:rPr b="1" i="1" lang="ko-KR" sz="18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rcRect l="3618" t="75503" r="12108" b="1092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96720" y="1268280"/>
            <a:ext cx="4535640" cy="576360"/>
          </a:xfrm>
          <a:prstGeom prst="roundRect">
            <a:avLst>
              <a:gd name="adj" fmla="val 16667"/>
            </a:avLst>
          </a:prstGeom>
          <a:solidFill>
            <a:srgbClr val="3366ff">
              <a:alpha val="8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108000" y="1376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DMB(DAB)</a:t>
            </a:r>
            <a:r>
              <a:rPr b="1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 내수 및 수출전망 </a:t>
            </a:r>
            <a:r>
              <a:rPr b="1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수량</a:t>
            </a:r>
            <a:r>
              <a:rPr b="1" lang="en-US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1481040" y="2133720"/>
            <a:ext cx="6404040" cy="3743280"/>
          </a:xfrm>
          <a:prstGeom prst="borderCallout1">
            <a:avLst>
              <a:gd name="adj1" fmla="val -257"/>
              <a:gd name="adj2" fmla="val -1667"/>
              <a:gd name="adj3" fmla="val -257"/>
              <a:gd name="adj4" fmla="val 20940"/>
            </a:avLst>
          </a:prstGeom>
          <a:noFill/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>
            <a:off x="6227640" y="189000"/>
            <a:ext cx="273708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시장 현황 및 전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5904000" cy="3397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516720" y="836640"/>
            <a:ext cx="8636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2844720" y="404640"/>
            <a:ext cx="3456000" cy="64944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2629080" y="4618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기 대 효 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477800" y="2619360"/>
            <a:ext cx="1422720" cy="1422360"/>
          </a:xfrm>
          <a:prstGeom prst="ellipse">
            <a:avLst/>
          </a:prstGeom>
          <a:solidFill>
            <a:srgbClr val="d0e6fc"/>
          </a:solidFill>
          <a:ln w="9360">
            <a:solidFill>
              <a:srgbClr val="298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549440" y="2697120"/>
            <a:ext cx="1270080" cy="1270080"/>
          </a:xfrm>
          <a:prstGeom prst="ellipse">
            <a:avLst/>
          </a:prstGeom>
          <a:gradFill rotWithShape="0">
            <a:gsLst>
              <a:gs pos="0">
                <a:srgbClr val="0927a9"/>
              </a:gs>
              <a:gs pos="100000">
                <a:srgbClr val="3c7bfa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405080" y="2973240"/>
            <a:ext cx="151272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국민소득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증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43280" y="1395360"/>
            <a:ext cx="1422360" cy="1422360"/>
          </a:xfrm>
          <a:prstGeom prst="ellipse">
            <a:avLst/>
          </a:prstGeom>
          <a:solidFill>
            <a:srgbClr val="feba76"/>
          </a:solidFill>
          <a:ln w="93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2916360" y="1484280"/>
            <a:ext cx="1271520" cy="127008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2771640" y="1665360"/>
            <a:ext cx="158436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전후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연관효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106200" y="1341360"/>
            <a:ext cx="1422720" cy="1422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177840" y="1419120"/>
            <a:ext cx="1270080" cy="1270080"/>
          </a:xfrm>
          <a:prstGeom prst="ellipse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4920" y="1676520"/>
            <a:ext cx="158436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부가가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창출효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1494000" y="4365720"/>
            <a:ext cx="1422360" cy="1422360"/>
          </a:xfrm>
          <a:prstGeom prst="ellipse">
            <a:avLst/>
          </a:prstGeom>
          <a:solidFill>
            <a:srgbClr val="bde9e7"/>
          </a:solidFill>
          <a:ln w="9360">
            <a:solidFill>
              <a:srgbClr val="39c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1579680" y="4440240"/>
            <a:ext cx="1272960" cy="1270080"/>
          </a:xfrm>
          <a:prstGeom prst="ellipse">
            <a:avLst/>
          </a:prstGeom>
          <a:gradFill rotWithShape="0">
            <a:gsLst>
              <a:gs pos="0">
                <a:srgbClr val="217995"/>
              </a:gs>
              <a:gs pos="100000">
                <a:srgbClr val="59d4dd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1494000" y="4365720"/>
            <a:ext cx="1422360" cy="1422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1573200" y="4440240"/>
            <a:ext cx="1273320" cy="1270080"/>
          </a:xfrm>
          <a:prstGeom prst="ellipse">
            <a:avLst/>
          </a:prstGeom>
          <a:gradFill rotWithShape="0">
            <a:gsLst>
              <a:gs pos="0">
                <a:srgbClr val="752f75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4853160"/>
            <a:ext cx="151128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고용창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효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2017440" y="3952440"/>
            <a:ext cx="358920" cy="720720"/>
          </a:xfrm>
          <a:prstGeom prst="rightArrow">
            <a:avLst>
              <a:gd name="adj1" fmla="val 49778"/>
              <a:gd name="adj2" fmla="val 49116"/>
            </a:avLst>
          </a:prstGeom>
          <a:solidFill>
            <a:srgbClr val="ff00ff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 rot="2287800">
            <a:off x="1261800" y="2187360"/>
            <a:ext cx="358560" cy="720720"/>
          </a:xfrm>
          <a:prstGeom prst="rightArrow">
            <a:avLst>
              <a:gd name="adj1" fmla="val 49778"/>
              <a:gd name="adj2" fmla="val 49116"/>
            </a:avLst>
          </a:prstGeom>
          <a:solidFill>
            <a:srgbClr val="00cc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 rot="8107800">
            <a:off x="2771280" y="2205000"/>
            <a:ext cx="358920" cy="720720"/>
          </a:xfrm>
          <a:prstGeom prst="rightArrow">
            <a:avLst>
              <a:gd name="adj1" fmla="val 49778"/>
              <a:gd name="adj2" fmla="val 49116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rcRect l="3618" t="75503" r="12108" b="1092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6300720" y="5146560"/>
            <a:ext cx="8636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3851280" y="3112920"/>
            <a:ext cx="5148360" cy="31244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4716360" y="2914560"/>
            <a:ext cx="3598920" cy="513000"/>
          </a:xfrm>
          <a:prstGeom prst="roundRect">
            <a:avLst>
              <a:gd name="adj" fmla="val 16667"/>
            </a:avLst>
          </a:prstGeom>
          <a:solidFill>
            <a:srgbClr val="3366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4788000" y="2993400"/>
            <a:ext cx="36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DMB </a:t>
            </a:r>
            <a:r>
              <a:rPr b="1" lang="zh-CN" sz="18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산업의 국민경제 파급효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3635280" y="2852640"/>
            <a:ext cx="5435640" cy="378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516720" y="836640"/>
            <a:ext cx="8636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1449360" y="1554120"/>
            <a:ext cx="3049560" cy="1152720"/>
          </a:xfrm>
          <a:prstGeom prst="roundRect">
            <a:avLst>
              <a:gd name="adj" fmla="val 16667"/>
            </a:avLst>
          </a:prstGeom>
          <a:solidFill>
            <a:srgbClr val="2898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1558800" y="198288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Times New Roman"/>
                <a:ea typeface="휴먼태모음T"/>
              </a:rPr>
              <a:t>콘텐츠의 차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4714920" y="1554120"/>
            <a:ext cx="3084480" cy="1152720"/>
          </a:xfrm>
          <a:prstGeom prst="roundRect">
            <a:avLst>
              <a:gd name="adj" fmla="val 16667"/>
            </a:avLst>
          </a:prstGeom>
          <a:solidFill>
            <a:srgbClr val="008000">
              <a:alpha val="16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4738680" y="1981080"/>
            <a:ext cx="29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음영지역 해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1449360" y="2924280"/>
            <a:ext cx="3049560" cy="1152360"/>
          </a:xfrm>
          <a:prstGeom prst="roundRect">
            <a:avLst>
              <a:gd name="adj" fmla="val 16667"/>
            </a:avLst>
          </a:prstGeom>
          <a:solidFill>
            <a:srgbClr val="ff00ff">
              <a:alpha val="2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1476360" y="33498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10795"/>
                </a:solidFill>
                <a:latin typeface="Times New Roman"/>
                <a:ea typeface="휴먼태모음T"/>
              </a:rPr>
              <a:t>단말기 보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>
            <a:off x="4716360" y="2924280"/>
            <a:ext cx="3084480" cy="1152360"/>
          </a:xfrm>
          <a:prstGeom prst="roundRect">
            <a:avLst>
              <a:gd name="adj" fmla="val 16667"/>
            </a:avLst>
          </a:prstGeom>
          <a:solidFill>
            <a:srgbClr val="f27a02">
              <a:alpha val="29000"/>
            </a:srgbClr>
          </a:solidFill>
          <a:ln w="255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4140360" y="2419200"/>
            <a:ext cx="865080" cy="863640"/>
          </a:xfrm>
          <a:prstGeom prst="ellipse">
            <a:avLst/>
          </a:prstGeom>
          <a:noFill/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4788000" y="3152880"/>
            <a:ext cx="28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휴먼태모음T"/>
              </a:rPr>
              <a:t>단말기 배터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휴먼태모음T"/>
              </a:rPr>
              <a:t>소모문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 rot="10800000">
            <a:off x="1546200" y="4149360"/>
            <a:ext cx="6121440" cy="86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bbcdd"/>
              </a:gs>
              <a:gs pos="100000">
                <a:srgbClr val="6488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3203640" y="4365720"/>
            <a:ext cx="2881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과제 해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1547640" y="5084640"/>
            <a:ext cx="640908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2d70"/>
              </a:gs>
              <a:gs pos="100000">
                <a:srgbClr val="3366ff">
                  <a:alpha val="90196"/>
                </a:srgbClr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5157720"/>
            <a:ext cx="64090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DMB </a:t>
            </a:r>
            <a:r>
              <a:rPr b="1" lang="ko-KR" sz="22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시장 확대</a:t>
            </a:r>
            <a:r>
              <a:rPr b="1" lang="ko-KR" sz="22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, </a:t>
            </a:r>
            <a:r>
              <a:rPr b="1" lang="ko-KR" sz="2200" spc="-1" strike="noStrike">
                <a:solidFill>
                  <a:srgbClr val="ffffff"/>
                </a:solidFill>
                <a:latin typeface="휴먼태모음T"/>
                <a:ea typeface="휴먼태모음T"/>
              </a:rPr>
              <a:t>유비쿼터스 기반 형성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7596360" y="5445000"/>
            <a:ext cx="8632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rcRect l="3618" t="75503" r="12108" b="1092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2844720" y="404640"/>
            <a:ext cx="3456000" cy="64944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629080" y="4618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향 후   과 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7596360" y="5445000"/>
            <a:ext cx="8632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1042920" y="3213000"/>
            <a:ext cx="7561440" cy="194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바탕"/>
                <a:ea typeface="바탕"/>
              </a:rPr>
              <a:t>감사합니다</a:t>
            </a:r>
            <a:r>
              <a:rPr b="0" lang="en-US" sz="6000" spc="-1" strike="noStrike">
                <a:solidFill>
                  <a:srgbClr val="0033cc"/>
                </a:solidFill>
                <a:latin typeface="바탕"/>
                <a:ea typeface="바탕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68360" y="404640"/>
            <a:ext cx="4608720" cy="64944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920" y="3284640"/>
            <a:ext cx="72057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cc"/>
                </a:solidFill>
                <a:latin typeface="Times New Roman"/>
              </a:rPr>
              <a:t>음성</a:t>
            </a:r>
            <a:r>
              <a:rPr b="1" lang="ko-KR" sz="1800" spc="-1" strike="noStrike">
                <a:solidFill>
                  <a:srgbClr val="0033cc"/>
                </a:solidFill>
                <a:latin typeface="Times New Roman"/>
              </a:rPr>
              <a:t>·</a:t>
            </a:r>
            <a:r>
              <a:rPr b="1" lang="ko-KR" sz="1800" spc="-1" strike="noStrike">
                <a:solidFill>
                  <a:srgbClr val="0033cc"/>
                </a:solidFill>
                <a:latin typeface="Times New Roman"/>
              </a:rPr>
              <a:t>영상 등 다양한 멀티미디어 신호를 디지털 방식으로 변조</a:t>
            </a:r>
            <a:r>
              <a:rPr b="1" lang="ko-KR" sz="18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33cc"/>
                </a:solidFill>
                <a:latin typeface="Times New Roman"/>
              </a:rPr>
              <a:t>고정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0033cc"/>
                </a:solidFill>
                <a:latin typeface="Times New Roman"/>
              </a:rPr>
              <a:t>또는 휴대용</a:t>
            </a:r>
            <a:r>
              <a:rPr b="1" lang="ko-KR" sz="1800" spc="-1" strike="noStrike">
                <a:solidFill>
                  <a:srgbClr val="0033cc"/>
                </a:solidFill>
                <a:latin typeface="Times New Roman"/>
              </a:rPr>
              <a:t>· </a:t>
            </a:r>
            <a:r>
              <a:rPr b="1" lang="ko-KR" sz="1800" spc="-1" strike="noStrike">
                <a:solidFill>
                  <a:srgbClr val="0033cc"/>
                </a:solidFill>
                <a:latin typeface="Times New Roman"/>
              </a:rPr>
              <a:t>차량용  수신기에 제공하는 방송서비스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cc"/>
                </a:solidFill>
                <a:latin typeface="Times New Roman"/>
              </a:rPr>
              <a:t>전송망 및 인공위성을  통해 방송 전파를 송출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cc"/>
                </a:solidFill>
                <a:latin typeface="Times New Roman"/>
              </a:rPr>
              <a:t>      ▶ </a:t>
            </a:r>
            <a:r>
              <a:rPr b="1" lang="ko-KR" sz="1800" spc="-1" strike="noStrike">
                <a:solidFill>
                  <a:srgbClr val="0033cc"/>
                </a:solidFill>
                <a:latin typeface="Times New Roman"/>
              </a:rPr>
              <a:t>이동단말기로  전파를 수신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9080" y="4618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란 무엇인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618" t="75503" r="12108" b="1092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9640" y="16146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DMB (</a:t>
            </a:r>
            <a:r>
              <a:rPr b="1" i="1" lang="en-US" sz="28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Digital Multimedia Broadcasting</a:t>
            </a:r>
            <a:r>
              <a:rPr b="1" lang="ko-KR" sz="28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997360"/>
            <a:ext cx="7488360" cy="2519280"/>
          </a:xfrm>
          <a:prstGeom prst="roundRect">
            <a:avLst>
              <a:gd name="adj" fmla="val 17167"/>
            </a:avLst>
          </a:prstGeom>
          <a:solidFill>
            <a:srgbClr val="2898c0">
              <a:alpha val="19000"/>
            </a:srgbClr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2843280" y="2492280"/>
            <a:ext cx="3529080" cy="863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845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DMB  = </a:t>
            </a:r>
            <a:r>
              <a:rPr b="1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방송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+ </a:t>
            </a:r>
            <a:r>
              <a:rPr b="1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통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299280" y="189000"/>
            <a:ext cx="266544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2253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란 무엇인가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18" t="75503" r="12108" b="1092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60360" y="1700280"/>
            <a:ext cx="6840720" cy="4464000"/>
          </a:xfrm>
          <a:prstGeom prst="ellipse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1935000"/>
            <a:ext cx="1422360" cy="1422720"/>
          </a:xfrm>
          <a:prstGeom prst="ellipse">
            <a:avLst/>
          </a:prstGeom>
          <a:solidFill>
            <a:srgbClr val="d0e6fc"/>
          </a:solidFill>
          <a:ln w="9360">
            <a:solidFill>
              <a:srgbClr val="298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2013120"/>
            <a:ext cx="1270080" cy="1269720"/>
          </a:xfrm>
          <a:prstGeom prst="ellipse">
            <a:avLst/>
          </a:prstGeom>
          <a:gradFill rotWithShape="0">
            <a:gsLst>
              <a:gs pos="0">
                <a:srgbClr val="0927a9"/>
              </a:gs>
              <a:gs pos="100000">
                <a:srgbClr val="3c7bfa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301840"/>
            <a:ext cx="151272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디지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부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1935000"/>
            <a:ext cx="1422360" cy="1422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298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91280" y="2013120"/>
            <a:ext cx="1270080" cy="1269720"/>
          </a:xfrm>
          <a:prstGeom prst="ellipse">
            <a:avLst/>
          </a:prstGeom>
          <a:gradFill rotWithShape="0">
            <a:gsLst>
              <a:gs pos="0">
                <a:srgbClr val="36583a"/>
              </a:gs>
              <a:gs pos="100000">
                <a:srgbClr val="77bf7e">
                  <a:alpha val="84313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948360" y="2270160"/>
            <a:ext cx="158436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강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이동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773280" y="4383000"/>
            <a:ext cx="1422360" cy="1422360"/>
          </a:xfrm>
          <a:prstGeom prst="ellipse">
            <a:avLst/>
          </a:prstGeom>
          <a:solidFill>
            <a:srgbClr val="bde9e7"/>
          </a:solidFill>
          <a:ln w="9360">
            <a:solidFill>
              <a:srgbClr val="39c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858960" y="4457880"/>
            <a:ext cx="1272960" cy="1269720"/>
          </a:xfrm>
          <a:prstGeom prst="ellipse">
            <a:avLst/>
          </a:prstGeom>
          <a:gradFill rotWithShape="0">
            <a:gsLst>
              <a:gs pos="0">
                <a:srgbClr val="217995"/>
              </a:gs>
              <a:gs pos="100000">
                <a:srgbClr val="59d4dd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73280" y="4383000"/>
            <a:ext cx="1422360" cy="1422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852480" y="4457880"/>
            <a:ext cx="1273320" cy="1269720"/>
          </a:xfrm>
          <a:prstGeom prst="ellipse">
            <a:avLst/>
          </a:prstGeom>
          <a:gradFill rotWithShape="0">
            <a:gsLst>
              <a:gs pos="0">
                <a:srgbClr val="752f75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4870440"/>
            <a:ext cx="1511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멀티미디어 방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039080" y="4437000"/>
            <a:ext cx="1422360" cy="1422360"/>
          </a:xfrm>
          <a:prstGeom prst="ellipse">
            <a:avLst/>
          </a:prstGeom>
          <a:solidFill>
            <a:srgbClr val="feba76"/>
          </a:solidFill>
          <a:ln w="93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7124760" y="4513320"/>
            <a:ext cx="1271520" cy="1270080"/>
          </a:xfrm>
          <a:prstGeom prst="ellipse">
            <a:avLst/>
          </a:prstGeom>
          <a:gradFill rotWithShape="0">
            <a:gsLst>
              <a:gs pos="0">
                <a:srgbClr val="752f00"/>
              </a:gs>
              <a:gs pos="100000">
                <a:srgbClr val="ff6600"/>
              </a:gs>
            </a:gsLst>
            <a:lin ang="13500000"/>
          </a:gradFill>
          <a:ln w="93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948360" y="4929120"/>
            <a:ext cx="1657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데이터 기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2779560"/>
            <a:ext cx="2158920" cy="1152720"/>
          </a:xfrm>
          <a:prstGeom prst="roundRect">
            <a:avLst>
              <a:gd name="adj" fmla="val 16667"/>
            </a:avLst>
          </a:prstGeom>
          <a:solidFill>
            <a:srgbClr val="2898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411280" y="2924280"/>
            <a:ext cx="206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66"/>
                </a:solidFill>
                <a:latin typeface="Times New Roman"/>
                <a:ea typeface="휴먼태모음T"/>
              </a:rPr>
              <a:t>CD/DVD </a:t>
            </a:r>
            <a:r>
              <a:rPr b="1" lang="ko-KR" sz="1800" spc="-1" strike="noStrike">
                <a:solidFill>
                  <a:srgbClr val="000066"/>
                </a:solidFill>
                <a:latin typeface="Times New Roman"/>
                <a:ea typeface="휴먼태모음T"/>
              </a:rPr>
              <a:t>급의     고음질</a:t>
            </a:r>
            <a:r>
              <a:rPr b="1" lang="ko-KR" sz="1800" spc="-1" strike="noStrike">
                <a:solidFill>
                  <a:srgbClr val="000066"/>
                </a:solidFill>
                <a:latin typeface="Times New Roman"/>
                <a:ea typeface="휴먼태모음T"/>
              </a:rPr>
              <a:t>, </a:t>
            </a:r>
            <a:r>
              <a:rPr b="1" lang="ko-KR" sz="1800" spc="-1" strike="noStrike">
                <a:solidFill>
                  <a:srgbClr val="000066"/>
                </a:solidFill>
                <a:latin typeface="Times New Roman"/>
                <a:ea typeface="휴먼태모음T"/>
              </a:rPr>
              <a:t>고화질     방송 전송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714920" y="2779560"/>
            <a:ext cx="2158920" cy="1152720"/>
          </a:xfrm>
          <a:prstGeom prst="roundRect">
            <a:avLst>
              <a:gd name="adj" fmla="val 16667"/>
            </a:avLst>
          </a:prstGeom>
          <a:solidFill>
            <a:srgbClr val="008000">
              <a:alpha val="16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4786200" y="2924280"/>
            <a:ext cx="206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컨텐츠 시장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문화생활의 휴대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4149720"/>
            <a:ext cx="2158920" cy="1152360"/>
          </a:xfrm>
          <a:prstGeom prst="roundRect">
            <a:avLst>
              <a:gd name="adj" fmla="val 16667"/>
            </a:avLst>
          </a:prstGeom>
          <a:solidFill>
            <a:srgbClr val="ff00ff">
              <a:alpha val="2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44388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10795"/>
                </a:solidFill>
                <a:latin typeface="Times New Roman"/>
                <a:ea typeface="휴먼태모음T"/>
              </a:rPr>
              <a:t>동영상</a:t>
            </a:r>
            <a:r>
              <a:rPr b="1" lang="en-US" sz="1800" spc="-1" strike="noStrike">
                <a:solidFill>
                  <a:srgbClr val="b10795"/>
                </a:solidFill>
                <a:latin typeface="Times New Roman"/>
                <a:ea typeface="휴먼태모음T"/>
              </a:rPr>
              <a:t>, </a:t>
            </a:r>
            <a:r>
              <a:rPr b="1" lang="zh-CN" sz="1800" spc="-1" strike="noStrike">
                <a:solidFill>
                  <a:srgbClr val="b10795"/>
                </a:solidFill>
                <a:latin typeface="Times New Roman"/>
                <a:ea typeface="휴먼태모음T"/>
              </a:rPr>
              <a:t>날씨</a:t>
            </a:r>
            <a:r>
              <a:rPr b="1" lang="en-US" sz="1800" spc="-1" strike="noStrike">
                <a:solidFill>
                  <a:srgbClr val="b10795"/>
                </a:solidFill>
                <a:latin typeface="Times New Roman"/>
                <a:ea typeface="휴먼태모음T"/>
              </a:rPr>
              <a:t>, </a:t>
            </a:r>
            <a:r>
              <a:rPr b="1" lang="zh-CN" sz="1800" spc="-1" strike="noStrike">
                <a:solidFill>
                  <a:srgbClr val="b10795"/>
                </a:solidFill>
                <a:latin typeface="Times New Roman"/>
                <a:ea typeface="휴먼태모음T"/>
              </a:rPr>
              <a:t>뉴스</a:t>
            </a:r>
            <a:r>
              <a:rPr b="1" lang="en-US" sz="1800" spc="-1" strike="noStrike">
                <a:solidFill>
                  <a:srgbClr val="b10795"/>
                </a:solidFill>
                <a:latin typeface="Times New Roman"/>
                <a:ea typeface="휴먼태모음T"/>
              </a:rPr>
              <a:t>,</a:t>
            </a:r>
            <a:r>
              <a:rPr b="1" lang="zh-CN" sz="1800" spc="-1" strike="noStrike">
                <a:solidFill>
                  <a:srgbClr val="b10795"/>
                </a:solidFill>
                <a:latin typeface="Times New Roman"/>
                <a:ea typeface="휴먼태모음T"/>
              </a:rPr>
              <a:t>등을  실시간 수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4149720"/>
            <a:ext cx="2159280" cy="1152360"/>
          </a:xfrm>
          <a:prstGeom prst="roundRect">
            <a:avLst>
              <a:gd name="adj" fmla="val 16667"/>
            </a:avLst>
          </a:prstGeom>
          <a:solidFill>
            <a:srgbClr val="f27a02">
              <a:alpha val="29000"/>
            </a:srgbClr>
          </a:solidFill>
          <a:ln w="255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307040"/>
            <a:ext cx="24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휴먼태모음T"/>
              </a:rPr>
              <a:t>다양한  응용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휴먼태모음T"/>
              </a:rPr>
              <a:t>PAD, NPAD, SI, EP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3645000"/>
            <a:ext cx="865080" cy="863640"/>
          </a:xfrm>
          <a:prstGeom prst="ellipse">
            <a:avLst/>
          </a:prstGeom>
          <a:noFill/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3130560" y="1557360"/>
            <a:ext cx="3170160" cy="50472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1628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의 특징 및 장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0792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DMB (</a:t>
            </a:r>
            <a:r>
              <a:rPr b="1" i="1" lang="en-US" sz="16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Digital Multimedia Broadcasting</a:t>
            </a:r>
            <a:r>
              <a:rPr b="1" lang="ko-KR" sz="16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299280" y="189000"/>
            <a:ext cx="266544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2253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란 무엇인가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8352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7a02"/>
                </a:solidFill>
                <a:latin typeface="Times New Roman"/>
                <a:ea typeface="휴먼태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411200"/>
            <a:ext cx="1944720" cy="20178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017800"/>
              <a:gd name="textAreaBottom" fmla="*/ 2017800 h 20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63" y="0"/>
                </a:lnTo>
                <a:lnTo>
                  <a:pt x="21600" y="10800"/>
                </a:lnTo>
                <a:lnTo>
                  <a:pt x="160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>
              <a:alpha val="73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325440" y="1771560"/>
            <a:ext cx="1274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라디오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디지털화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시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803240" y="1411200"/>
            <a:ext cx="2048040" cy="201636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1700280"/>
            <a:ext cx="20145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AB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(Digital Audio Broadcasting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개발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3532320" y="1411200"/>
            <a:ext cx="2047680" cy="2016360"/>
          </a:xfrm>
          <a:custGeom>
            <a:avLst/>
            <a:gdLst>
              <a:gd name="textAreaLeft" fmla="*/ 0 w 2047680"/>
              <a:gd name="textAreaRight" fmla="*/ 2048040 w 204768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3635280" y="1681200"/>
            <a:ext cx="194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(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우리나라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AB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의 영역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Audio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Video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로 </a:t>
            </a:r>
            <a:r>
              <a:rPr b="1" lang="zh-CN" sz="17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확장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5222880" y="1411200"/>
            <a:ext cx="2048040" cy="201636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6948360" y="1411200"/>
            <a:ext cx="2051280" cy="2016360"/>
          </a:xfrm>
          <a:custGeom>
            <a:avLst/>
            <a:gdLst>
              <a:gd name="textAreaLeft" fmla="*/ 0 w 2051280"/>
              <a:gd name="textAreaRight" fmla="*/ 2051640 w 205128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20720" y="5226120"/>
            <a:ext cx="5112000" cy="1631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92360" y="5229360"/>
            <a:ext cx="5040360" cy="1541160"/>
          </a:xfrm>
          <a:prstGeom prst="rect">
            <a:avLst/>
          </a:prstGeom>
          <a:noFill/>
          <a:ln w="2844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 flipV="1" rot="10800000">
            <a:off x="5291280" y="1770840"/>
            <a:ext cx="20160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AB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에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명칭 변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휴먼태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 rot="10800000">
            <a:off x="7093080" y="1986840"/>
            <a:ext cx="201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지상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탄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108000" y="393228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f27a02">
              <a:alpha val="29000"/>
            </a:srgbClr>
          </a:solidFill>
          <a:ln w="255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52360" y="414324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TV</a:t>
            </a:r>
            <a:r>
              <a:rPr b="1" lang="zh-CN" sz="1600" spc="-1" strike="noStrike">
                <a:solidFill>
                  <a:srgbClr val="ff3300"/>
                </a:solidFill>
                <a:latin typeface="Times New Roman"/>
                <a:ea typeface="휴먼태모음T"/>
              </a:rPr>
              <a:t>의 디지털화에 따른 움직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393228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0000ff">
              <a:alpha val="2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4005360"/>
            <a:ext cx="206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휴먼태모음T"/>
                <a:ea typeface="휴먼태모음T"/>
              </a:rPr>
              <a:t>2003</a:t>
            </a:r>
            <a:r>
              <a:rPr b="1" lang="zh-CN" sz="1600" spc="-1" strike="noStrike">
                <a:solidFill>
                  <a:srgbClr val="0033cc"/>
                </a:solidFill>
                <a:latin typeface="휴먼태모음T"/>
                <a:ea typeface="휴먼태모음T"/>
              </a:rPr>
              <a:t>년 </a:t>
            </a:r>
            <a:r>
              <a:rPr b="1" lang="en-US" sz="1600" spc="-1" strike="noStrike">
                <a:solidFill>
                  <a:srgbClr val="0033cc"/>
                </a:solidFill>
                <a:latin typeface="휴먼태모음T"/>
                <a:ea typeface="휴먼태모음T"/>
              </a:rPr>
              <a:t>2</a:t>
            </a:r>
            <a:r>
              <a:rPr b="1" lang="zh-CN" sz="1600" spc="-1" strike="noStrike">
                <a:solidFill>
                  <a:srgbClr val="0033cc"/>
                </a:solidFill>
                <a:latin typeface="휴먼태모음T"/>
                <a:ea typeface="휴먼태모음T"/>
              </a:rPr>
              <a:t>월 </a:t>
            </a:r>
            <a:r>
              <a:rPr b="1" lang="en-US" sz="1600" spc="-1" strike="noStrike">
                <a:solidFill>
                  <a:srgbClr val="0033cc"/>
                </a:solidFill>
                <a:latin typeface="휴먼태모음T"/>
                <a:ea typeface="휴먼태모음T"/>
              </a:rPr>
              <a:t>26</a:t>
            </a:r>
            <a:r>
              <a:rPr b="1" lang="zh-CN" sz="1600" spc="-1" strike="noStrike">
                <a:solidFill>
                  <a:srgbClr val="0033cc"/>
                </a:solidFill>
                <a:latin typeface="휴먼태모음T"/>
                <a:ea typeface="휴먼태모음T"/>
              </a:rPr>
              <a:t>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휴먼태모음T"/>
                <a:ea typeface="휴먼태모음T"/>
              </a:rPr>
              <a:t>방송위원회 본회의</a:t>
            </a:r>
            <a:r>
              <a:rPr b="0" lang="en-US" sz="1600" spc="-1" strike="noStrike">
                <a:solidFill>
                  <a:srgbClr val="000000"/>
                </a:solidFill>
                <a:latin typeface="휴먼태모음T"/>
                <a:ea typeface="휴먼태모음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3932280"/>
            <a:ext cx="2159280" cy="2521080"/>
          </a:xfrm>
          <a:custGeom>
            <a:avLst/>
            <a:gdLst>
              <a:gd name="textAreaLeft" fmla="*/ 105120 w 2159280"/>
              <a:gd name="textAreaRight" fmla="*/ 2054160 w 2159280"/>
              <a:gd name="textAreaTop" fmla="*/ 105120 h 2521080"/>
              <a:gd name="textAreaBottom" fmla="*/ 2415960 h 2521080"/>
            </a:gdLst>
            <a:ahLst/>
            <a:rect l="textAreaLeft" t="textAreaTop" r="textAreaRight" b="textAreaBottom"/>
            <a:pathLst>
              <a:path w="21600" h="25219">
                <a:moveTo>
                  <a:pt x="3600" y="0"/>
                </a:moveTo>
                <a:arcTo wR="3600" hR="3600" stAng="16200000" swAng="-5400000"/>
                <a:lnTo>
                  <a:pt x="0" y="21619"/>
                </a:lnTo>
                <a:arcTo wR="3600" hR="3600" stAng="10800000" swAng="-5400000"/>
                <a:lnTo>
                  <a:pt x="18000" y="25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898c0">
              <a:alpha val="16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7020000" y="3873600"/>
            <a:ext cx="21002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DMB </a:t>
            </a: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발전 단계에서 이동통신사의 수익성을 기반으로 한 위성</a:t>
            </a: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DMB </a:t>
            </a: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개발</a:t>
            </a: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(</a:t>
            </a: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지상파</a:t>
            </a: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)DMB</a:t>
            </a: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는 국내에서 개발</a:t>
            </a: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, </a:t>
            </a: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위성 </a:t>
            </a: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DMB</a:t>
            </a:r>
            <a:r>
              <a:rPr b="1" lang="ko-KR" sz="1600" spc="-1" strike="noStrike">
                <a:solidFill>
                  <a:srgbClr val="0099ff"/>
                </a:solidFill>
                <a:latin typeface="휴먼태모음T"/>
                <a:ea typeface="휴먼태모음T"/>
              </a:rPr>
              <a:t>는 일본애서 먼저 개발 함</a:t>
            </a:r>
            <a:r>
              <a:rPr b="0" lang="ko-KR" sz="1600" spc="-1" strike="noStrike">
                <a:solidFill>
                  <a:srgbClr val="000000"/>
                </a:solidFill>
                <a:latin typeface="휴먼태모음T"/>
                <a:ea typeface="휴먼태모음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719640" y="346464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5831280" y="346464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7631640" y="346464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189000" y="5445000"/>
            <a:ext cx="1368360" cy="1079640"/>
          </a:xfrm>
          <a:prstGeom prst="roundRect">
            <a:avLst>
              <a:gd name="adj" fmla="val 16667"/>
            </a:avLst>
          </a:prstGeom>
          <a:solidFill>
            <a:srgbClr val="008080">
              <a:alpha val="62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108000" y="5527800"/>
            <a:ext cx="1538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AB/DMB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비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6320" y="404280"/>
            <a:ext cx="687204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7a02"/>
                </a:solidFill>
                <a:latin typeface="Times New Roman"/>
              </a:rPr>
              <a:t>DMB </a:t>
            </a:r>
            <a:r>
              <a:rPr b="1" lang="zh-CN" sz="2400" spc="-1" strike="noStrike">
                <a:solidFill>
                  <a:srgbClr val="f27a02"/>
                </a:solidFill>
                <a:latin typeface="Times New Roman"/>
              </a:rPr>
              <a:t>발전사</a:t>
            </a:r>
            <a:r>
              <a:rPr b="1" lang="en-US" sz="2400" spc="-1" strike="noStrike">
                <a:solidFill>
                  <a:srgbClr val="f27a02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27a02"/>
                </a:solidFill>
                <a:latin typeface="Times New Roman"/>
              </a:rPr>
              <a:t>發展史 </a:t>
            </a:r>
            <a:r>
              <a:rPr b="1" lang="en-US" sz="2400" spc="-1" strike="noStrike">
                <a:solidFill>
                  <a:srgbClr val="f27a02"/>
                </a:solidFill>
                <a:latin typeface="Times New Roman"/>
              </a:rPr>
              <a:t>)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93228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008000">
              <a:alpha val="16000"/>
            </a:srgbClr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00356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이유 </a:t>
            </a:r>
            <a:r>
              <a:rPr b="1" lang="ko-KR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: </a:t>
            </a:r>
            <a:r>
              <a:rPr b="1" lang="ko-KR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국제 표준이었던미국식 디지털</a:t>
            </a:r>
            <a:r>
              <a:rPr b="1" lang="ko-KR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TV </a:t>
            </a:r>
            <a:r>
              <a:rPr b="1" lang="ko-KR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표준은 이동 중 송수신 불가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4031280" y="3464280"/>
            <a:ext cx="360360" cy="432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1224000" y="5841720"/>
            <a:ext cx="863640" cy="358920"/>
          </a:xfrm>
          <a:prstGeom prst="downArrow">
            <a:avLst>
              <a:gd name="adj1" fmla="val 55889"/>
              <a:gd name="adj2" fmla="val 53542"/>
            </a:avLst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29080" y="404640"/>
            <a:ext cx="3743280" cy="64800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2629080" y="4618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의 종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1735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DMB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1471680"/>
            <a:ext cx="3529080" cy="86364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6635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DMB  = </a:t>
            </a:r>
            <a:r>
              <a:rPr b="1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방송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+ </a:t>
            </a:r>
            <a:r>
              <a:rPr b="1" lang="zh-CN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통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2577200">
            <a:off x="3022200" y="2485800"/>
            <a:ext cx="865080" cy="504720"/>
          </a:xfrm>
          <a:prstGeom prst="upArrow">
            <a:avLst>
              <a:gd name="adj1" fmla="val 50093"/>
              <a:gd name="adj2" fmla="val 45833"/>
            </a:avLst>
          </a:prstGeom>
          <a:solidFill>
            <a:srgbClr val="ff5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 rot="8533200">
            <a:off x="5362200" y="2491920"/>
            <a:ext cx="865080" cy="505080"/>
          </a:xfrm>
          <a:prstGeom prst="upArrow">
            <a:avLst>
              <a:gd name="adj1" fmla="val 50093"/>
              <a:gd name="adj2" fmla="val 45833"/>
            </a:avLst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3618" t="75503" r="12108" b="1092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9640" y="3411360"/>
            <a:ext cx="3598920" cy="2519640"/>
          </a:xfrm>
          <a:prstGeom prst="roundRect">
            <a:avLst>
              <a:gd name="adj" fmla="val 17167"/>
            </a:avLst>
          </a:prstGeom>
          <a:solidFill>
            <a:srgbClr val="2898c0">
              <a:alpha val="19000"/>
            </a:srgbClr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2654280"/>
            <a:ext cx="1422360" cy="1422360"/>
          </a:xfrm>
          <a:prstGeom prst="ellipse">
            <a:avLst/>
          </a:prstGeom>
          <a:solidFill>
            <a:srgbClr val="feba76"/>
          </a:solidFill>
          <a:ln w="93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1704960" y="2730600"/>
            <a:ext cx="1271520" cy="127008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1547640" y="2995560"/>
            <a:ext cx="158436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지상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DM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3409920"/>
            <a:ext cx="3598920" cy="2519280"/>
          </a:xfrm>
          <a:prstGeom prst="roundRect">
            <a:avLst>
              <a:gd name="adj" fmla="val 17167"/>
            </a:avLst>
          </a:prstGeom>
          <a:solidFill>
            <a:srgbClr val="2898c0">
              <a:alpha val="19000"/>
            </a:srgbClr>
          </a:solidFill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6297480" y="2708280"/>
            <a:ext cx="1422360" cy="1422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6369120" y="2786040"/>
            <a:ext cx="1270080" cy="1270080"/>
          </a:xfrm>
          <a:prstGeom prst="ellipse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226200" y="3043080"/>
            <a:ext cx="158436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위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DM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26560" y="3881160"/>
            <a:ext cx="302436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지상에서 주파수를 이용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하여 데이터  전송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지상의 기지국을 통해 방송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신호가 송출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64000" y="4076640"/>
            <a:ext cx="33134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 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위성을 이용하여 데이터 전송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데이터를  위성에 송출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,   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위성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        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이를 전파를 통해  전국의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DM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        </a:t>
            </a:r>
            <a:r>
              <a:rPr b="1" lang="zh-CN" sz="1600" spc="-1" strike="noStrike">
                <a:solidFill>
                  <a:srgbClr val="008000"/>
                </a:solidFill>
                <a:latin typeface="Times New Roman"/>
                <a:ea typeface="휴먼태모음T"/>
              </a:rPr>
              <a:t>단말기에 뿌려주는 형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299280" y="189000"/>
            <a:ext cx="266544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252360" y="549360"/>
            <a:ext cx="3943440" cy="1422360"/>
          </a:xfrm>
          <a:prstGeom prst="ellipse">
            <a:avLst/>
          </a:prstGeom>
          <a:solidFill>
            <a:srgbClr val="feba76"/>
          </a:solidFill>
          <a:ln w="93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620640"/>
            <a:ext cx="3816360" cy="129564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f27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108000" y="1054080"/>
            <a:ext cx="439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지상파 </a:t>
            </a:r>
            <a:r>
              <a:rPr b="0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DMB</a:t>
            </a:r>
            <a:r>
              <a:rPr b="0" lang="ko-KR" sz="24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구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71640" y="2062080"/>
            <a:ext cx="7272360" cy="4030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71640" y="2276640"/>
            <a:ext cx="7488000" cy="3960720"/>
          </a:xfrm>
          <a:prstGeom prst="rect">
            <a:avLst/>
          </a:prstGeom>
          <a:noFill/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299280" y="189000"/>
            <a:ext cx="266544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252360" y="549360"/>
            <a:ext cx="3943440" cy="1422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620640"/>
            <a:ext cx="3816360" cy="1295640"/>
          </a:xfrm>
          <a:prstGeom prst="ellipse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1054080"/>
            <a:ext cx="439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위성 </a:t>
            </a: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DMB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rebuchet MS"/>
                <a:ea typeface="HY헤드라인M"/>
              </a:rPr>
              <a:t>구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272360" cy="3959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71640" y="2276640"/>
            <a:ext cx="7488000" cy="396072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4788000" y="5516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휴먼태모음T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휴먼태모음T"/>
              </a:rPr>
              <a:t>갭필러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휴먼태모음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 flipH="1">
            <a:off x="2244240" y="2492280"/>
            <a:ext cx="3240" cy="324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1714680" y="5073480"/>
            <a:ext cx="5595840" cy="1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2703600" y="3691080"/>
            <a:ext cx="2608200" cy="1077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66"/>
                </a:solidFill>
                <a:latin typeface="굴림"/>
              </a:rPr>
              <a:t>지상파 </a:t>
            </a:r>
            <a:r>
              <a:rPr b="0" lang="ko-KR" sz="3200" spc="-1" strike="noStrike">
                <a:solidFill>
                  <a:srgbClr val="000066"/>
                </a:solidFill>
                <a:latin typeface="굴림"/>
              </a:rPr>
              <a:t>DM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914640" y="2711520"/>
            <a:ext cx="2748240" cy="129384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굴림"/>
              </a:rPr>
              <a:t>위성 </a:t>
            </a:r>
            <a:r>
              <a:rPr b="0" lang="en-US" sz="3200" spc="-1" strike="noStrike">
                <a:solidFill>
                  <a:srgbClr val="000066"/>
                </a:solidFill>
                <a:latin typeface="굴림"/>
              </a:rPr>
              <a:t>DM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1663200" y="2786040"/>
            <a:ext cx="6069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굴림"/>
              </a:rPr>
              <a:t>가 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2917800" y="515628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66"/>
                </a:solidFill>
                <a:latin typeface="굴림"/>
              </a:rPr>
              <a:t>채널</a:t>
            </a:r>
            <a:r>
              <a:rPr b="1" lang="ko-KR" sz="2800" spc="-1" strike="noStrike">
                <a:solidFill>
                  <a:srgbClr val="000066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66"/>
                </a:solidFill>
                <a:latin typeface="굴림"/>
              </a:rPr>
              <a:t>콘텐츠</a:t>
            </a:r>
            <a:r>
              <a:rPr b="1" lang="ko-KR" sz="2800" spc="-1" strike="noStrike">
                <a:solidFill>
                  <a:srgbClr val="000066"/>
                </a:solidFill>
                <a:latin typeface="굴림"/>
              </a:rPr>
              <a:t>) </a:t>
            </a:r>
            <a:r>
              <a:rPr b="1" lang="ko-KR" sz="2800" spc="-1" strike="noStrike">
                <a:solidFill>
                  <a:srgbClr val="000066"/>
                </a:solidFill>
                <a:latin typeface="굴림"/>
              </a:rPr>
              <a:t>다양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6299280" y="189000"/>
            <a:ext cx="2665440" cy="504720"/>
          </a:xfrm>
          <a:prstGeom prst="roundRect">
            <a:avLst>
              <a:gd name="adj" fmla="val 16667"/>
            </a:avLst>
          </a:prstGeom>
          <a:solidFill>
            <a:srgbClr val="000000">
              <a:alpha val="6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DMB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휴먼태모음T"/>
              </a:rPr>
              <a:t>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3618" t="75503" r="12108" b="10927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68360" y="1123920"/>
            <a:ext cx="59752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2872d"/>
              </a:gs>
              <a:gs pos="100000">
                <a:srgbClr val="ff9933">
                  <a:alpha val="84313"/>
                </a:srgbClr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1268280"/>
            <a:ext cx="56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지상파</a:t>
            </a:r>
            <a:r>
              <a:rPr b="1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위성 </a:t>
            </a:r>
            <a:r>
              <a:rPr b="1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DMB</a:t>
            </a:r>
            <a:r>
              <a:rPr b="1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의  가격</a:t>
            </a:r>
            <a:r>
              <a:rPr b="1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-</a:t>
            </a:r>
            <a:r>
              <a:rPr b="1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채널다양성  포지셔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1481040" y="2133720"/>
            <a:ext cx="6404040" cy="3743280"/>
          </a:xfrm>
          <a:prstGeom prst="borderCallout1">
            <a:avLst>
              <a:gd name="adj1" fmla="val -257"/>
              <a:gd name="adj2" fmla="val -1667"/>
              <a:gd name="adj3" fmla="val -257"/>
              <a:gd name="adj4" fmla="val 20940"/>
            </a:avLst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9:42:14Z</dcterms:created>
  <dc:creator>김아름</dc:creator>
  <dc:description/>
  <dc:language>en-US</dc:language>
  <cp:lastModifiedBy>HJC</cp:lastModifiedBy>
  <dcterms:modified xsi:type="dcterms:W3CDTF">2005-12-26T10:55:35Z</dcterms:modified>
  <cp:revision>171</cp:revision>
  <dc:subject/>
  <dc:title>슬라이드 1</dc:title>
</cp:coreProperties>
</file>